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855-F8DE-45C1-B7EF-06C764CE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BD-2938-435C-8C40-2047D14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633-5C91-4DE5-9AD0-230BA89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E86-5F8E-4CE8-8C85-D8200597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B52-9C04-48D1-B59E-AA49BFF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AAC-6F7B-4821-B9BD-C40DCDB0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51B-FFB2-401F-9DD8-8A0E85A3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DFD-A9CB-4A45-B6D4-607872C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0EC-05A1-43A6-9037-3F783C3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9A8-76AC-4DD9-B6EA-564634A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BC-C7F6-463C-A039-E805A4A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16B-55D1-4A04-9CD5-BC8291D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72E-391A-4204-99CA-2058D9BC6E8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19080"/>
            <a:ext cx="12195000" cy="6856560"/>
            <a:chOff x="0" y="19080"/>
            <a:chExt cx="12195000" cy="6856560"/>
          </a:xfrm>
        </p:grpSpPr>
        <p:pic>
          <p:nvPicPr>
            <p:cNvPr id="42" name="Picture 2" descr="Health Sciences Major for College: Physical Therapy presentation template 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12195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3"/>
            <p:cNvSpPr/>
            <p:nvPr/>
          </p:nvSpPr>
          <p:spPr>
            <a:xfrm>
              <a:off x="4735080" y="1972440"/>
              <a:ext cx="6684480" cy="2503800"/>
            </a:xfrm>
            <a:prstGeom prst="rect">
              <a:avLst/>
            </a:prstGeom>
            <a:solidFill>
              <a:srgbClr val="e5eeff"/>
            </a:solidFill>
            <a:ln w="12600">
              <a:solidFill>
                <a:srgbClr val="e5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000000"/>
                  </a:solidFill>
                  <a:latin typeface="Constantia"/>
                </a:rPr>
                <a:t>Programare și planificare în kinetoterapi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9028440" y="412200"/>
              <a:ext cx="1837800" cy="767880"/>
            </a:xfrm>
            <a:prstGeom prst="rect">
              <a:avLst/>
            </a:prstGeom>
            <a:solidFill>
              <a:srgbClr val="e5eeff"/>
            </a:solidFill>
            <a:ln w="12600">
              <a:solidFill>
                <a:srgbClr val="e5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4735080" y="4476240"/>
              <a:ext cx="6030360" cy="791640"/>
            </a:xfrm>
            <a:prstGeom prst="rect">
              <a:avLst/>
            </a:prstGeom>
            <a:solidFill>
              <a:srgbClr val="e5eeff"/>
            </a:solidFill>
            <a:ln w="12600">
              <a:solidFill>
                <a:srgbClr val="e5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7" name="Picture 2" descr="Physical Therapy: Beginners Guide to SEO for Physiotherapist Website -  Marketingly - Webflow Ecommerce website templat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3"/>
            <p:cNvSpPr/>
            <p:nvPr/>
          </p:nvSpPr>
          <p:spPr>
            <a:xfrm>
              <a:off x="1788120" y="2661840"/>
              <a:ext cx="2986920" cy="117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Constantia"/>
                </a:rPr>
                <a:t>Cum funcționează marketingul pe internet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5151240" y="2926080"/>
              <a:ext cx="2031840" cy="772200"/>
            </a:xfrm>
            <a:prstGeom prst="rect">
              <a:avLst/>
            </a:prstGeom>
            <a:solidFill>
              <a:srgbClr val="727ea1"/>
            </a:solidFill>
            <a:ln w="12600">
              <a:solidFill>
                <a:srgbClr val="737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0000"/>
                  </a:solidFill>
                  <a:latin typeface="Constantia"/>
                </a:rPr>
                <a:t>Site-ul tau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5425560" y="538200"/>
              <a:ext cx="2570400" cy="69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0000"/>
                  </a:solidFill>
                  <a:latin typeface="Constantia"/>
                </a:rPr>
                <a:t>Contactele</a:t>
              </a:r>
              <a:r>
                <a:rPr b="0" lang="ro-RO" sz="1400" spc="-1" strike="noStrike">
                  <a:solidFill>
                    <a:srgbClr val="000000"/>
                  </a:solidFill>
                  <a:latin typeface="Constantia"/>
                </a:rPr>
                <a:t> aduc pacienți potențiali folosind canalele de marketing de pe interne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392320" y="690840"/>
              <a:ext cx="2235240" cy="43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onstantia"/>
                </a:rPr>
                <a:t>Retenț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8595360" y="1290240"/>
              <a:ext cx="1828800" cy="436680"/>
            </a:xfrm>
            <a:prstGeom prst="rect">
              <a:avLst/>
            </a:prstGeom>
            <a:solidFill>
              <a:srgbClr val="a4c952"/>
            </a:solidFill>
            <a:ln w="12600">
              <a:solidFill>
                <a:srgbClr val="a4c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onstantia"/>
                </a:rPr>
                <a:t>Conțin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8615880" y="1960920"/>
              <a:ext cx="1828800" cy="436680"/>
            </a:xfrm>
            <a:prstGeom prst="rect">
              <a:avLst/>
            </a:prstGeom>
            <a:solidFill>
              <a:srgbClr val="a4c952"/>
            </a:solidFill>
            <a:ln w="12600">
              <a:solidFill>
                <a:srgbClr val="a4c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onstantia"/>
                </a:rPr>
                <a:t>Performanț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8595360" y="2560320"/>
              <a:ext cx="1828800" cy="436680"/>
            </a:xfrm>
            <a:prstGeom prst="rect">
              <a:avLst/>
            </a:prstGeom>
            <a:solidFill>
              <a:srgbClr val="a4c952"/>
            </a:solidFill>
            <a:ln w="12600">
              <a:solidFill>
                <a:srgbClr val="a4c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onstantia"/>
                </a:rPr>
                <a:t>Curatare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615880" y="3159720"/>
              <a:ext cx="1828800" cy="436680"/>
            </a:xfrm>
            <a:prstGeom prst="rect">
              <a:avLst/>
            </a:prstGeom>
            <a:solidFill>
              <a:srgbClr val="a4c952"/>
            </a:solidFill>
            <a:ln w="12600">
              <a:solidFill>
                <a:srgbClr val="a4c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ffffff"/>
                  </a:solidFill>
                  <a:latin typeface="Constantia"/>
                </a:rPr>
                <a:t>Calitatea site-ulu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721640" y="3703320"/>
              <a:ext cx="3373200" cy="43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0000"/>
                  </a:solidFill>
                  <a:latin typeface="Calibri"/>
                </a:rPr>
                <a:t>Retenția</a:t>
              </a:r>
              <a:r>
                <a:rPr b="0" lang="ro-RO" sz="1200" spc="-1" strike="noStrike">
                  <a:solidFill>
                    <a:srgbClr val="000000"/>
                  </a:solidFill>
                  <a:latin typeface="Calibri"/>
                </a:rPr>
                <a:t> ține aproape pacienții și îți oferă oportunitatea să îți dezvolți o comunitate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573600" y="4109760"/>
              <a:ext cx="173736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Constantia"/>
                </a:rPr>
                <a:t>Comunit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954720" y="3911760"/>
              <a:ext cx="298692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onstantia"/>
                </a:rPr>
                <a:t>O iei de la capăt cu o comunitate și vânzări mai mar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1341000" y="4764960"/>
              <a:ext cx="1991160" cy="609480"/>
            </a:xfrm>
            <a:prstGeom prst="rect">
              <a:avLst/>
            </a:prstGeom>
            <a:solidFill>
              <a:srgbClr val="e93e32"/>
            </a:solidFill>
            <a:ln w="12600">
              <a:solidFill>
                <a:srgbClr val="e83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alibri"/>
                </a:rPr>
                <a:t>VÂNZARE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1097280" y="5639040"/>
              <a:ext cx="2428200" cy="74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000000"/>
                  </a:solidFill>
                  <a:latin typeface="Constantia"/>
                </a:rPr>
                <a:t>Oportunitatea de a transforma membrii comunității în vânzăr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143800" y="304560"/>
              <a:ext cx="1554480" cy="31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2476be"/>
                  </a:solidFill>
                  <a:latin typeface="Calibri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Constantia"/>
              </a:rPr>
              <a:t>MODEL CABINET KINETOTERAPI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38667" t="29631" r="20250" b="32742"/>
          <a:stretch/>
        </p:blipFill>
        <p:spPr>
          <a:xfrm>
            <a:off x="2185920" y="1722600"/>
            <a:ext cx="78199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3"/>
          <p:cNvSpPr/>
          <p:nvPr/>
        </p:nvSpPr>
        <p:spPr>
          <a:xfrm>
            <a:off x="838080" y="365040"/>
            <a:ext cx="10515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Constantia"/>
              </a:rPr>
              <a:t>Divizarea pacienților în segmente pentru a transmite mesaje specifi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0" y="1076400"/>
            <a:ext cx="12192120" cy="5781600"/>
            <a:chOff x="0" y="1076400"/>
            <a:chExt cx="12192120" cy="5781600"/>
          </a:xfrm>
        </p:grpSpPr>
        <p:pic>
          <p:nvPicPr>
            <p:cNvPr id="66" name="Picture 2" descr="Physical Therapy Marketing Strategy Part 2: Divide all potential patients  into segments to reach people with a specific message - E-rehab"/>
            <p:cNvPicPr/>
            <p:nvPr/>
          </p:nvPicPr>
          <p:blipFill>
            <a:blip r:embed="rId1"/>
            <a:stretch/>
          </p:blipFill>
          <p:spPr>
            <a:xfrm>
              <a:off x="0" y="1076400"/>
              <a:ext cx="12192120" cy="57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879560" y="3606480"/>
              <a:ext cx="2245320" cy="42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bd452e"/>
                  </a:solidFill>
                  <a:latin typeface="Constantia"/>
                </a:rPr>
                <a:t>Piețe parale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"/>
            <p:cNvSpPr/>
            <p:nvPr/>
          </p:nvSpPr>
          <p:spPr>
            <a:xfrm>
              <a:off x="101520" y="4419360"/>
              <a:ext cx="1371600" cy="325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89ab47"/>
                  </a:solidFill>
                  <a:latin typeface="Constantia"/>
                </a:rPr>
                <a:t>Comunit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7559280" y="6258600"/>
              <a:ext cx="1533960" cy="52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466d99"/>
                  </a:solidFill>
                  <a:latin typeface="Constantia"/>
                </a:rPr>
                <a:t>Medici care te recomand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9093240" y="5557320"/>
              <a:ext cx="174744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d5a644"/>
                  </a:solidFill>
                  <a:latin typeface="Constantia"/>
                </a:rPr>
                <a:t>Foști pacienț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5984280" y="1238760"/>
              <a:ext cx="22860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Constantia"/>
                </a:rPr>
                <a:t>Ținta ideal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5984280" y="1716480"/>
              <a:ext cx="310896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7365960" y="2849400"/>
              <a:ext cx="324108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7325640" y="2460600"/>
              <a:ext cx="33224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Constantia"/>
                </a:rPr>
                <a:t>Pacienți din același județ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8402400" y="3718080"/>
              <a:ext cx="33224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Constantia"/>
                </a:rPr>
                <a:t>Pacienți din aceeași zon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8412480" y="4195800"/>
              <a:ext cx="37389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eads BrandConnect on Twitter: &quot;The 7P's of the Marketing Mix  #MachineLearning #AI #Python #DataScience #BigData #DigitalMarketing #IoT  #100DaysOfCode #robots #tech #ArtificialIntelligence #Marketing #4IR  #cybersecurity #SEO #OnlineMarketing ..."/>
          <p:cNvPicPr/>
          <p:nvPr/>
        </p:nvPicPr>
        <p:blipFill>
          <a:blip r:embed="rId1"/>
          <a:stretch/>
        </p:blipFill>
        <p:spPr>
          <a:xfrm>
            <a:off x="2592360" y="0"/>
            <a:ext cx="7005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Oval 1"/>
          <p:cNvSpPr/>
          <p:nvPr/>
        </p:nvSpPr>
        <p:spPr>
          <a:xfrm>
            <a:off x="4734000" y="2489040"/>
            <a:ext cx="2784240" cy="2378160"/>
          </a:xfrm>
          <a:prstGeom prst="ellipse">
            <a:avLst/>
          </a:prstGeom>
          <a:solidFill>
            <a:srgbClr val="5145c1"/>
          </a:solidFill>
          <a:ln w="12600">
            <a:solidFill>
              <a:srgbClr val="5145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Constantia"/>
              </a:rPr>
              <a:t>Cei 7 ”P” ai marketingu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30T07:53:45Z</dcterms:created>
  <dc:creator>Windows User</dc:creator>
  <dc:description/>
  <dc:language>en-US</dc:language>
  <cp:lastModifiedBy>Windows User</cp:lastModifiedBy>
  <dcterms:modified xsi:type="dcterms:W3CDTF">2023-03-30T08:18:44Z</dcterms:modified>
  <cp:revision>1</cp:revision>
  <dc:subject/>
  <dc:title>PowerPoint Presentation</dc:title>
</cp:coreProperties>
</file>