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7465000" cy="2106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6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fld id="{8ADFDF1F-7960-496D-9565-2433E5324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ngle sided post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fld id="{8D22BE71-F4BC-4047-BA11-688B050C4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5F4-390F-4004-856E-A138C6A7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3371724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72720" y="12178440"/>
            <a:ext cx="3371724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AA9-1B9F-4011-840D-E1C23A1E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14948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72720" y="1217844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149480" y="1217844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09F-43EB-4BC0-8DA2-99D7F713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272840" y="491652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672960" y="491652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72720" y="1217844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272840" y="1217844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672960" y="1217844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FC4-B11B-4F5B-84CA-7CF43BA8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72720" y="4916520"/>
            <a:ext cx="33717240" cy="139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25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575-8C3A-4FA8-8CC2-0E455AE9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3371724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1E5-A0E7-41C3-BF34-AA3C2550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645380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149480" y="4916520"/>
            <a:ext cx="1645380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869-1C95-40AB-BE5F-A8042834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585-7C75-4494-B986-D36429A2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72720" y="843120"/>
            <a:ext cx="33717240" cy="162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25"/>
              </a:spcBef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E3E-31DE-4278-BF61-F71E0AFE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149480" y="4916520"/>
            <a:ext cx="1645380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72720" y="1217844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A0C-9FED-4C5D-AB66-E439E882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645380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14948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49480" y="1217844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A11-F44C-4700-93AB-01C29BC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14948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72720" y="12178440"/>
            <a:ext cx="3371724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6CD-5406-4021-9AE8-CCBC5147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72720" y="4916520"/>
            <a:ext cx="3371724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 fontScale="92000"/>
          </a:bodyPr>
          <a:p>
            <a:pPr marL="1153800" indent="-115380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1" marL="2498760" indent="-960840">
              <a:spcBef>
                <a:spcPts val="2925"/>
              </a:spcBef>
              <a:buClr>
                <a:srgbClr val="000000"/>
              </a:buClr>
              <a:buFont typeface="Arial"/>
              <a:buChar char="–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2" marL="3845520" indent="-76824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3" marL="5383080" indent="-767880">
              <a:spcBef>
                <a:spcPts val="2925"/>
              </a:spcBef>
              <a:buClr>
                <a:srgbClr val="000000"/>
              </a:buClr>
              <a:buFont typeface="Arial"/>
              <a:buChar char="–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4" marL="6922440" indent="-76788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5" marL="6922440" indent="-76788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6" marL="6922440" indent="-76788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73080" y="19526040"/>
            <a:ext cx="8740800" cy="11221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  <a:defRPr b="0" lang="en-US" sz="4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799800" y="19526040"/>
            <a:ext cx="11863080" cy="11221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849520" y="19526040"/>
            <a:ext cx="8740800" cy="11221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  <a:defRPr b="0" lang="en-US" sz="4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fld id="{BC1D5233-00C2-4180-A852-6C2C8669D53F}" type="slidenum">
              <a:rPr b="0" lang="en-US" sz="4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8364040" y="4994280"/>
            <a:ext cx="8727840" cy="1568304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9320" rIns="139320" tIns="69480" bIns="69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8997560" y="4994280"/>
            <a:ext cx="8729640" cy="1568304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9320" rIns="139320" tIns="69480" bIns="69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899640" y="4994280"/>
            <a:ext cx="8728200" cy="1568304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9320" rIns="139320" tIns="69480" bIns="69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52600" y="4994280"/>
            <a:ext cx="8727840" cy="1575432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9320" rIns="139320" tIns="69480" bIns="69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7"/>
          <p:cNvSpPr/>
          <p:nvPr/>
        </p:nvSpPr>
        <p:spPr>
          <a:xfrm>
            <a:off x="2181240" y="6541920"/>
            <a:ext cx="6764400" cy="10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9320" rIns="139320" tIns="69480" bIns="69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 and Method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2"/>
          <p:cNvSpPr/>
          <p:nvPr/>
        </p:nvSpPr>
        <p:spPr>
          <a:xfrm>
            <a:off x="11910960" y="18613440"/>
            <a:ext cx="279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9320" rIns="139320" tIns="69480" bIns="69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9"/>
          <p:cNvSpPr/>
          <p:nvPr/>
        </p:nvSpPr>
        <p:spPr>
          <a:xfrm>
            <a:off x="28663920" y="14592240"/>
            <a:ext cx="399564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9320" rIns="139320" tIns="69480" bIns="69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4"/>
          <p:cNvSpPr/>
          <p:nvPr/>
        </p:nvSpPr>
        <p:spPr>
          <a:xfrm>
            <a:off x="28651320" y="15436800"/>
            <a:ext cx="8154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9320" rIns="139320" tIns="69480" bIns="694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9955080" y="4994280"/>
            <a:ext cx="87282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4760" rIns="374760" tIns="187200" bIns="18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 and Discussion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3"/>
          <p:cNvSpPr/>
          <p:nvPr/>
        </p:nvSpPr>
        <p:spPr>
          <a:xfrm>
            <a:off x="5027760" y="2225520"/>
            <a:ext cx="260874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ictor Babes University of Medicine and Pharmacy, Department of Anatomy and Embryology, 2 Eftimie Murgu Sq., 300041, Timisoara, Rom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17875080" y="974880"/>
            <a:ext cx="20293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Arial"/>
                <a:ea typeface="Arial"/>
              </a:rPr>
              <a:t>Timisoara Morphological Day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with international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10-12 October 20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ine 6" descr="D:\ANA\1. CLIENTI\2020\UMFVBT\DE TRIMIS\Logo\Logo UMFT.png"/>
          <p:cNvPicPr/>
          <p:nvPr/>
        </p:nvPicPr>
        <p:blipFill>
          <a:blip r:embed="rId1"/>
          <a:stretch/>
        </p:blipFill>
        <p:spPr>
          <a:xfrm>
            <a:off x="157320" y="301680"/>
            <a:ext cx="97423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19:07:22Z</dcterms:created>
  <dc:creator>ePB employee</dc:creator>
  <dc:description/>
  <dc:language>en-US</dc:language>
  <cp:lastModifiedBy>Windows User</cp:lastModifiedBy>
  <dcterms:modified xsi:type="dcterms:W3CDTF">2024-04-05T08:25:42Z</dcterms:modified>
  <cp:revision>52</cp:revision>
  <dc:subject/>
  <dc:title>PowerPoint Presentation</dc:title>
</cp:coreProperties>
</file>