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C70-5E6A-4CE1-8F58-1F07C8B7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D78-1831-443C-BAD6-68B1B21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127-2DF8-4EA4-8BE9-4256F383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955-A436-4B9D-9345-898F49F0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877-19D0-49AB-8059-62DC037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BC1-1D95-4C57-9669-FBAB6B86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14F-B1FC-449F-9CEF-FCF717BB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EC4-97A9-4C27-BD96-2EE0A351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3B1-B28D-4F54-BDF9-0AA4856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15A-D45B-4BBC-AE14-F1FCC04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151-327F-4221-ACC4-D8DFBC1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25E-C2AA-4354-BF4C-443E0DA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6F0-C800-4ED0-A2E8-9DB0A4483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icrominerau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ligo-éléme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Pertes de 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nviron 1 mg / jour (0,013 mg / kg de poids corpor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Principales sources alimentaire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on, por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nde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nde de pou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ain fortif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duits céréaliers (enrich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aric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égumes à feu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To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is v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ommes de ter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a valeur nutritionnel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 raison des différences d'absorption, il existe des sources plus précieuses et moins préci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urces précie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ux avec Fe de l'h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urces moins précie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ux avec Fe qui ne viennent pas de l'h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liments végét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ontrover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hème / l'hémoglobine de la viande rouge peut avoir des effets qui peuvent augmenter l'incidence du cancer colorec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'apport aliment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40% de l’a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roduits céréa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20% de l’a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roduits de vi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é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3% de l’a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eu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Habituellement, la concentration de Fe dans l'alimentation est de 5 à 7 mg / 1000 k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Groupes avec des besoins spécia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égétari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eux qui ont une parasitose intest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onneurs de s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thlè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pour les adul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FSA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ez l'homme: 11 mg / 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our fem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éménopause: 16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ostménopause: 11 mg / j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imite supérieure tolérable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Tolerable upper limit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ultes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45 mg / 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nfants &lt; 14 ans:      40 mg / j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e trouvent dans l’organisme en petites quant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ont nécessaires dans l'alimentation quotidienne en plus petites quant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ont indispensables au bon fonctionnement de l'orga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ans l’organisme - sous forme d'io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Absorbé dans la glande thyroïde et converti en hormones: 70 µg / 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Thyrox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Triiodothyron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’organisme adulte contient 15-20 mg d'i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 se trouve dans l’orga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50 à 70% d'iode dans la thyroï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landes saliv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lexus choroï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lande mammaire (en lac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es 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l de l'uté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uqueuse gastr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bsor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ans l'intes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ap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us la forme d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xcré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u niveau ré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âce à biais des hormones thyroïdiennes, il intervient d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e développement du cer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gulation du métabolisme ba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ynthèse d'enzymes et de proté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15696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EFSA,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Nécessaire, pour les adultes: 150 µg / j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pour les adul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capital iodé est estimé en fonction de sa concentration uri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endant la grosses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concentration urinaire: minimum 150 µg / l (à une diurèse de 1,5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En lac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concentration urinaire: minimum 200 µg / l (à une diurèse de 1,5 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au potable (petites quanti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fruits de mer et les poissons (morue, saumon, hareng) sont les meill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source la plus riche: l'huile de mo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utre source: les al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ut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it et produits laitiers (principale source aux États-Un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Quelques légumes (pommes de terre, harico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éré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amb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eu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rtaines plantes sont considérées comme gussogènes, elles contiennent des composés qui peuvent interférer avec l'absorption d'iode par la glande thyroï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effet apparaît seulement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nsommation de ces légumes est très élevée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contenu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en iode de l'alimentation est très fa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es légumes so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o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ou-f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oux de Bruxel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 existe d'autres substances impliquées dans la gusogenèse (chez ceux présentant une carence en iod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thiocyanate, un inhibiteur de l'absorption thyroïdienne de l'iode, se produit d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asava, un additif alimentaire utilisé dans certains pays en 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umée de cigare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les zones où le sol a une faible teneur en iode, il est recommandé de compléter l'iode en consommant du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sel «iodé»,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 ajoutant de l'iodure de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Contient 15 à 50 µg d'iode / g de 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K io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 partie pour 40000 parties de 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oluble dans l'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apidement absorbé dans le 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l n'est pas noc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o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lu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umin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r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erman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anga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lybdè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élé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ilic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anad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b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dm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ubid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Zin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Z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Généralités </a:t>
            </a:r>
            <a:br>
              <a:rPr sz="4400"/>
            </a:b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uantité totale de Zn dans l’organisme: 1,5-3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euxième métal de transition dans le corps, en abondance, après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95% est intracellulaire (en particulier dans le cytos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le trouve dans tous les tis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ertains tiss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aient un contenu augmenté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rost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ertaines parties de l'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erv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cles squelettiques + os = 86% de Zn dans l’organ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osant de l'enzyme anhydrase carbonique dans les érythroc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nstituant dans plus de 100 enzymes (après d'autres, 3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Joue un rôle dans le métabolisme des protéines, des glucides, des lip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on structurel dans les facteurs de 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égule l'apopt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Joue un rôle essentiel dans le fonctionnement du cerveau (intervient également dans le processus d'apprentiss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vantages possi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ugmente l'immun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minue les radicaux l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ffet antioxyd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ppo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 n'y a pas de réserves de Zn dans l'organisme, un apport quotidien est nécess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Zinc requis - RDA (mg / jour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Âg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omm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lus de 19 an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'apport dépend de l'énergi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naturel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uî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sson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ande mai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uci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f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éré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égumin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s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u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vre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C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u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ans l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'organism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’organisme corps humain contient environ 50-120 mg de Cu (1,4-2,1 mg / kg de poids corpor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tockage: dans le foie, lié aux proté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 le trouve également dans les os, les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ié à la céruloplasmine, il circule dans le sang et est distribué à diverses cell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it partie de nombreuses proté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le trouve dans de nombreuses enzy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ytochrome C oxy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peroxydedismut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ssentiel pour la formation du tissu conjonc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est impliqué dans le métabolisme du Fe et l'érythropoïè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écessaire à la formation et au maintien de la myé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rvient dans la neurotransmission norm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 a un rôle d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igmentation normale de la peau, des cheveux et des y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Immun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Thermoré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e métabolisme des glu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agulation (par les facteurs V et V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'équilibre entre le statut oxydant et antioxyd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ffets bénéfiques potenti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e carence en Cu pourrait entraîner des arythmies cardia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e carence en Cu augmente le taux de cholestérol chez les animaux de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études avec des régimes pauvres en Cu chez l'homme ne conduisent pas à des résultats concluants sur l'effet sur le cholesté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FSA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emmes: 1,3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ommes: 1,6 mg / j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Sources alimentaires importan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m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ois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aines (y compris la poudre de cac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égumin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ermes et son de céré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hr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Dans l’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rganis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écessaire en petites quant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tocké d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méliore l'action de l'insu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os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ugmente la masse musc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minue la masse du tissu adipe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FSA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Hommes: 1,6 mg / jo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mmes: 1,3 mg / j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alimentaire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rains en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léagin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uciss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ev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om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re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hampign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Broc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Généralités </a:t>
            </a:r>
            <a:br>
              <a:rPr sz="4400"/>
            </a:b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0,1% du total des minéraux dans le co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Quantité totale de Fe dans le corps: 3-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70%: érythr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e r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tocké dans le foie, rate (au canard), la moelle osseuse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yoglobine des tissus musculaires (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étalloenzymes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e lié à la transferrine dans le s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éléni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&gt; 20 sélénoproté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nzy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lutathion peroxyd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otection contre les oxy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ôle important dans: le sperme, le système olfactif, le cer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odothyronine déiod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l régule la forme active de la triiodothyro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hiorédoxine réduct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otection antioxyd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ynthèse d'AD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élénoprotéine 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ort de Se au cerveau et aux testi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ffet antioxy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élénoprotéine 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rotection contre les oxyd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intervient dans l'équilibre oxydant-antioxy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tège contre la toxicit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d (cadm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rebalance l'effet de la pollution par les métaux lou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ffets bénéfiques possi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minue le risque de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minue le risque de maladie cardi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ugmente l'immun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minue le risque de HIV / 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minue le risque de tubercul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ffet non bénéfique possi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ugmente le risque de diabète de typ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ar conséquent, la supplémentation n'est pas recommandée dans la population ayant une alimentation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2017, EF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7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g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Maximum autorisé: 400 µg / j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alimenta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and 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0,4-1,5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g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its de 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etit 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0,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g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F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Légum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ntenu mo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0,1-0,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g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Contenu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Céré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ain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0,1-0,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g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its lait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contenu en Se des plantes varie en fonction du contenu en Se du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ans le cas des animaux, le contenu en Se est moins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Manganè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ispensable pour presque tous les organismes con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cellules, Fe est stocké sous forme liée, car libre Fe peut conduire à l'apparition de radicaux libres tox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est incorporé au complexe hé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è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 composant essentiel des protéines transportant l'oxygè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Hémoglo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yoglo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eghémoglobine (dans les légumineu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hez l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'hom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Micronutriments essent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’organisme humain: 10-20 mg 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tocké d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Turnover quotidien: 5-8 mg 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facteur dans les métallo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uperoxyde dismut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Xanthine oxy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rgi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alactosyl transfé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yruvate carboxy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 active nombreuses enzy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insi, il intervient d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tection contre les antioxy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abolisme des acides aminés, du cholestérol, des glu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ynthèse du tissu conjonc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sse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, EFSA, 201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19 ans 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3 mg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ur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imite maximale autoris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ultes: 11 mg / j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alimenta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Grains ent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égumin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is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é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lu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éveloppement de l'émail d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otection contre les caries d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us important chez les enfants de moins de 8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se combine avec le phosphate de Ca et forme la fluoroapatite de Ca, qui renforce l'émail des 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ommes 3,4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emmes 2,9 mg / j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eau potable - la source la plu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ources alimenta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sson d'océ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bsorp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ans l'intestin grê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À partir d'un apport habituel de 10 à 15 mg / jour, seulement 1 à 2 mg est absorb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non h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ctoferrine (chez les nourrissons nourris naturel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pport alimentaire habit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0,6-1,8 mg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ans les zones où l'eau potable ne contient pas suffisamment de F, l'utilisation d'un dentifrice avec du F est recommandé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au pot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mmandé d'avoir 0,5-1 mg F / l d'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 meilleure protection contre les c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Facteurs affectant l'absor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ce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de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 de viande  (F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hè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bsorbé plus rapidement et en bonne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 de produits végétaux (Fe non hè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bsorbé en proportion de 2-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Facteurs affectant l'absorption du fer non hém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timul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e ascorbique (vitamine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c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Inhibi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olyphén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y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lci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e chlorogénique (caf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e tannique (th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6:35:38Z</dcterms:created>
  <dc:creator>Home</dc:creator>
  <dc:description/>
  <dc:language>en-US</dc:language>
  <cp:lastModifiedBy>ada</cp:lastModifiedBy>
  <dcterms:modified xsi:type="dcterms:W3CDTF">2021-05-07T11:10:35Z</dcterms:modified>
  <cp:revision>186</cp:revision>
  <dc:subject/>
  <dc:title>Slide 1</dc:title>
</cp:coreProperties>
</file>