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6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2E6-77EF-4CD8-B48A-8CA1A10C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C101-2DB2-442C-8922-E38D084B1F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orbţia este crescută de aciditatea gastrică, astfel încât Ca se absoarbe mai greu în lipsa alimentelo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38DF-FCEE-4666-B07F-39E93E3C0A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Capitalul de iod s</a:t>
            </a:r>
            <a:r>
              <a:rPr b="1" lang="ro-RO" sz="1200" spc="-1" strike="noStrike">
                <a:solidFill>
                  <a:srgbClr val="000000"/>
                </a:solidFill>
                <a:latin typeface="Calibri"/>
              </a:rPr>
              <a:t>e apreciază în funcţie de concentraţia sa urinar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3D11-A962-4F24-8192-D90D85DA60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C64-9373-4CD3-BED8-CEEE1F3A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64F-B80D-4276-BE5B-74CD6F1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E1ED8-D7A3-4457-8F02-C1745BCF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335D-A6F5-4BAD-B23E-0F8BB637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04629-0DA9-4986-82C2-45FB082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774A-2CD7-494E-A879-4DB9844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E2521-AB7E-4446-829F-FEF831F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9F2C1-AEC8-4B07-AD71-BEF551A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664DB-9A35-4FE8-9A74-44AA7CAC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2C5D6-B300-4AF8-B40E-8E34E980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DFA2-37AD-413B-853E-A8D533E1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5EF63-D3A4-44C8-8620-5DA779F8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CFC-6A98-442E-89CF-0C89C183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6BCF0-B6E8-4776-8B82-638456F4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8DBAC-A7CE-4C53-B4B2-7814037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D77A9-3CE2-415F-B439-4EF1490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C0EF2-CD36-4C2D-889F-60721746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AEA6F-DEC6-4052-B284-33448DC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97C9-DA16-4024-A319-2BC2CA7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F8D56-F523-4084-A0A3-806D4A6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6895-6042-4494-891A-E492C85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48805-ABAD-4293-A7ED-C5C6BFEB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302B4-AABA-48E4-9478-29E756A2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CC9-430E-4997-86D8-29436575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E6A01-5FE3-42E4-9951-B698AB3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8F023-6EEA-418D-9FB4-B7CF140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53004-93C3-4585-AF62-13E25569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7845D-CE94-4220-B6DB-FFD6E2F9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8267-177B-4C42-BFF5-BE8ED79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29F5-0CA7-44AE-9ED0-355A4A7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7D35-A1F1-4A3F-B4F4-B9FF336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0492B-4347-4090-B787-236CA48B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D9D2-E117-4009-ACB7-F2318C9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253A7-0BAB-4139-812F-DC7053C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14D-2ABC-45B7-96A5-4FCDD867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10D0-6F55-496B-8B4F-E94153A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F7C83-74F9-4BCC-9307-AB9FE3A9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99BD-CD27-431D-B9CD-E8B6F943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074E4-C093-4A8D-B90E-0CD29B1E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A74B8-F369-425E-937F-34D58C41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4AE9B-457F-4ECB-B3E6-705DDBB6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57560-630F-4D35-A837-36BAD2E5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56F4-35CE-4310-AF1D-FBFA388B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1B7BF-8448-40B2-8374-94B82CC8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14F8-6B70-45B1-B15A-A6BDB1B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0BC9-9C63-43A8-B8CA-002C3B42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B0580-F6C7-4356-8777-4F1783A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174DA-C4D7-4126-8453-10D2BF9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46834-EB25-4878-8B1F-5E33B08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E8731-9427-44E9-A62B-887A6451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A7360-3C9C-4C03-91AA-91442EEF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DF0DC-D6C6-4A37-9950-2F80315F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DA517-85BE-4C2B-990A-7F2E44A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F6628-61FB-4A56-9565-70049E77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D6E2C-AC67-4A88-B2ED-FB40BD10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0850A-2832-43D6-8715-20B13A8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4D14-CBFE-41C3-A25A-F141A68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0F346-3232-49BD-B064-309CDEC1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F2289-0E33-4413-883B-53B064A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E6802-558E-42C5-8466-3892DE1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9A9E7-369E-464E-BA01-B094BA6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E780D-349B-40FA-9CF0-35884C1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F5924-75D9-4558-A15A-BB71B134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49061-AE50-4BD9-A7A2-76ADE9C1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1867-E2AA-44EE-A844-84671D8A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05F-3C29-4BEC-9D28-700A46F7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24D-88C0-4839-B1E6-9C218AB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65EE-5737-4C89-B319-8BB5F48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D52-2BE8-46DA-AD52-A8A9D13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F73-9EB3-4EC7-B798-6FAC6E4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3AE-552B-4EA8-A278-AE4DF46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5B68-1DD6-4DDB-8711-EEF2827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0255-4170-4547-AFFE-4DF80143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A4C4-0909-4634-B1C8-1664B42B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9658-CDA3-4FC6-B287-5060030A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1D3E-AC65-4008-9141-7D28BDF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A942-3687-4EE7-8C5B-BB0A9281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430B-B8F0-4A1C-8C74-AE68597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988D-C005-4CA0-942A-2EEE93F1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467-D6D4-4205-89AA-C94946E5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AC87-AD11-43F6-8071-16C5ACE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8504-F647-4C8E-9235-712952C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4A25-5546-460D-8653-C5755C1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8093-1894-421B-AC3C-AE78C8A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C05D-9445-4D08-9009-14AB83C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B228-961A-4019-8AC7-F045AE83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2DAC-82E8-434E-AA53-11C56303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1BCE6-2CA8-43E4-A985-F0836BE7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935E-AD40-4E0F-AF08-70208F6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7DC0-DB4B-41DC-989B-A97D3A6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29F-2E15-4D36-98A0-1F1C9894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6C58-DD78-49CC-B286-10F4B9F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4548-6C2E-4A6B-A0FD-6A59E03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EAF9-C9F4-4F38-9654-A83C1E50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D950-15D6-4D42-8DC6-11E4BD86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FB90-7607-42E3-BBA8-9C065F0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17D7-8252-4B27-AAE5-D71DF2A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74C9-180B-4397-9046-ED1D5585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E21E-0174-4CFA-9EDB-059E9F68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C5B9-4041-49B5-8F26-64D82436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33DD-1B8E-4944-824B-481C0B50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FED-16D9-468C-B2E2-FCF9670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C752-4CA8-406F-A5DF-AC440620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DAB1-A632-48C5-9FF9-C0E92437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52C8-82DF-4788-91E6-DE0DC65C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F306-9CD4-4F01-B184-21585E5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D31B-50F7-4D3F-8F26-4DC0BE7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D8052-A57F-4336-9970-7E0F535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9D87-A146-48AE-AC9F-6BFB8EB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3CA6B-9636-4D48-8230-4D5151C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553A-8D68-4F1E-9F9B-1C85EE0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623F-2BAF-4285-BB4D-A8572124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EFF-A28D-47BE-B06D-B365D83A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729B-07CF-43D9-BDFF-76110838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3696-37C1-4CC0-BFE6-90CDA861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716F-CC2B-4964-B198-0E3CC85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5B20-9BD1-4569-ABBC-36B7809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6866A-D50C-4D0D-9BD6-F98DA181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E327-C34E-4C48-BD56-06E6774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35A9-A1D7-4009-BFB1-C4F72CBB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C7FE-6AC3-4884-93ED-27D4C41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E03EE-F19C-463B-9574-6BAD5F46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449E5-A1A9-4037-8AFB-AD7A9615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CDA-B0D2-48ED-850F-EFDFD2A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690C-9DE6-4B12-A52E-6878DE3B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7BBF-329F-4289-A208-ACDCEBE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CFCD8-2516-46BD-A895-FC9D76C8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2C55-5DD3-4689-9E0E-0F49DAA1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6A1A-A80D-4865-8BD2-2F00CF5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F5E1F-47C2-496B-BD3E-6D48E74E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2A02-5AEA-48D4-A1F7-BCD115BB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55A2-EE38-4031-A536-CFCA6E9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30F2-D307-4413-AB4D-4E1DCFD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8509-CD96-43B4-9364-FB5558E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833-A989-43CC-BA39-53EBF34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67F1-0A75-4526-A3BD-938FF9E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67943-9C9E-4933-B7C9-80F15C2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092B-2B87-4E38-A286-5147686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DBBC-848E-4284-9615-EF2A2D7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82E2-C6C8-4BDC-9428-B10C7048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AAF6A-2CB1-41A6-8137-6F4305D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295D5-2F09-428D-850B-1D557B16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8EA3-E60D-4F2F-B451-29EA8522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4E75-2FE5-42AE-9965-14406D4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56FB-CBCB-4969-B149-1302CCA5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27E-F941-4B04-9EF0-843CDF2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5C1F-2467-483A-ADCD-64DC0249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4768-C7A1-4818-9879-165CAB6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78C1B-F3A5-427C-B972-406A551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15F29-D72A-4832-82AE-41CD77E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3662C-781C-4B01-9339-850689FE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E64A-F1EE-494A-AC4C-661CC94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2CB0-02FB-4E9F-ADAC-6F9AE1C3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92367-3C8D-4788-9CDB-E03C58A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9D43-8E81-4BCB-9377-5CE62985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F07D-B019-4DCA-8FFA-24D8406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0AD-D0BF-4167-AA0E-300BBBD32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01D-E55C-457A-B3F9-CE82C6C5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6D5-A643-4935-A969-2FC73B9C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B78-7468-4CFC-978E-FF8AA440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A16-1DB4-429F-BA53-6C0EC678C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A430-C681-49B7-8BB2-822DA64EC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E106-BA7B-41A2-ACBA-EF9571FA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401-40D3-43DC-976D-7F29CA00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4509-0E3D-4387-8000-C5CC74D1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CDFD-A434-4D8B-9357-5E997DCB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1E63-71C9-4289-88A5-E7F358E3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2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B20-809C-4E45-889B-B8A0D969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713040"/>
            <a:ext cx="8003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NUTRI</a:t>
            </a:r>
            <a:r>
              <a:rPr b="1" lang="ro-RO" sz="6000" spc="-1" strike="noStrike">
                <a:solidFill>
                  <a:srgbClr val="000000"/>
                </a:solidFill>
                <a:latin typeface="Verdana"/>
              </a:rPr>
              <a:t>ŢIA ÎN SARCINĂ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tăţi mari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ezelur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ap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ar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eş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orcov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elin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âin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tităţi redus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nele leg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ruc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oduse zaharoa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leiur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rivate cerealie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lorul (Cl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277F-31FA-419A-B2D7-9E18F5A0D6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rincipalul </a:t>
            </a:r>
            <a:r>
              <a:rPr b="1" i="1" lang="ro-RO" sz="2400" spc="-1" strike="noStrike">
                <a:solidFill>
                  <a:srgbClr val="000000"/>
                </a:solidFill>
                <a:latin typeface="Verdana"/>
              </a:rPr>
              <a:t>anion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al lichidului extracelul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titate totală în organism: 100 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Extracelular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75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tracelular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centraţia serică normală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96-106 mEq/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79280" y="1746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enţinerea presiunii osmoti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glarea acidobazică şi hidroelectrolitic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avori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fixării O2 şi eliberării CO2 din Hb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ormarea de HCl în sucul gastr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acilitarea eliminării renale a produşilor azotaţi rezultaţi din catabolismul prote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articipare în contracţia muscular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NaCl: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1 g NaCl conţine 600 mg C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Alimen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acta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rne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Ouă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Apă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– cantitate mic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adul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ste 11 ani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NI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500 mg C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I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300 mg C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UL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600 mg Cl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Nu este necesară suplimentarea în sarci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port uzual zilnic din sare şi alimente: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-9 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otasiu (K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9A2-E2D9-480F-B5A5-E86D67FB93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Cation</a:t>
            </a:r>
            <a:r>
              <a:rPr b="1" i="1" lang="ro-RO" sz="2600" spc="-1" strike="noStrike">
                <a:solidFill>
                  <a:srgbClr val="000000"/>
                </a:solidFill>
                <a:latin typeface="Verdana"/>
              </a:rPr>
              <a:t>ul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incipal intracelular – 98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ntitatea totală în organism: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50-250 g (150 g = 3500 mEq)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i mică la feme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ncentraţia serică normală: 3,5-5 mEq/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enţinerea echilibrului osmotic şi acido-bazi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ctivitatea neuromuscular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inteza proteică (pentru fiecare gram de N care intră în structura proteinelor celulare se reţin 3 mEq K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La nivel muscular: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enţinerea  masei muscula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enţinerea depozitului de glicoge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nfluenţează sinteza şi activit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ea unor enzime şi hormoni (adrenalină, insulină, glucagon, STH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K şi hipertensiunea arterial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01000" cy="268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o-RO" sz="2800" spc="-1" strike="noStrike">
                <a:solidFill>
                  <a:srgbClr val="000000"/>
                </a:solidFill>
                <a:latin typeface="Verdana"/>
              </a:rPr>
              <a:t>O dietă bogată în K are un efect de scădere a tensiunii arteriale, mai important chiar decât reducerea aportului de 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AP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66280" y="1804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0000"/>
                </a:solidFill>
                <a:latin typeface="Verdana"/>
              </a:rPr>
              <a:t>Apă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o-RO" sz="3000" spc="-1" strike="noStrike">
                <a:solidFill>
                  <a:srgbClr val="6f6f6f"/>
                </a:solidFill>
                <a:latin typeface="Verdana"/>
              </a:rPr>
              <a:t>acumulare de 6-9 l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, din care 1,8-2,5 l intracelular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: 2,7 l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80% din fluid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0% din alimen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F24-27D4-4344-A0C5-7848007679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Minim zilnic la adulţi: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1,6-2 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40-50 mE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RDA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: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,5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 g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/zi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rt adecvat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4,7 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mita superioar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5,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e acumulează în sarcină între 3,9 şi 12,5 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Nu este necesar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ă</a:t>
            </a: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 suplimentarea 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î</a:t>
            </a: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n sarcin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ă</a:t>
            </a: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DA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: ca la negravide (3,5 g/z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1" i="1" lang="ro-RO" sz="2600" spc="-1" strike="noStrike">
                <a:solidFill>
                  <a:srgbClr val="000000"/>
                </a:solidFill>
                <a:latin typeface="Verdana"/>
              </a:rPr>
              <a:t>găseşte în aproape toate alimente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aspe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ngela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eget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nim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- c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antităţi mar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Verdana"/>
              </a:rPr>
              <a:t>Car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oduse din carn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Verdana"/>
              </a:rPr>
              <a:t>Peş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Verdana"/>
              </a:rPr>
              <a:t>Lap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oduse lactate (iaurt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eguminoase usc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Verdana"/>
              </a:rPr>
              <a:t>Leg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Roş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pan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alat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Ciuper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Cartof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So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Verdana"/>
              </a:rPr>
              <a:t>Fructe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Ban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Pepene gal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Cai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trug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Nuci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- c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antităţi mi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ăină alb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Orez decortica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duse zaharoas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coolice distila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101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lciul (C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6446-0555-4FA3-91C2-B68F5E2FEA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ineralul 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ezent în cantitatea cea mai mare în organis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2-4% din greutatea corporal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Esenţial pentru integritatea sistemului osos şi a dinţ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ol plastic important împreună cu fosforu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 schelet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zerv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tocat în principalele trabecule oso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Verdana"/>
              </a:rPr>
              <a:t>Mobilizat pentru a satisface necesităţile crescute din sarcină, lactaţie sau creşte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 – în oase: cristale de hidroxiapatit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 ser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5694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4747"/>
                </a:solidFill>
                <a:latin typeface="Verdana"/>
              </a:rPr>
              <a:t>Liber (ionic)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      45-50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Forma funcţională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4747"/>
                </a:solidFill>
                <a:latin typeface="Verdana"/>
              </a:rPr>
              <a:t>Complexe de Ca şi anioni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8-10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Fosfaţi, citraţ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4747"/>
                </a:solidFill>
                <a:latin typeface="Verdana"/>
              </a:rPr>
              <a:t>Ca legat de protein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(albumină)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40-45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centraţia seric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 total: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8,8-10,8 mg/d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 ionic: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4,4-5,5 mg/d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 care favorizează absorbţi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Vitamina D activă (calcitrio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ciditatea gastric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rezenţa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oteinel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actoze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cidului lact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cidului citr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arathormonu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portul d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vitamina 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Vitamina 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ficitul de fosf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ficitul de calciu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odiul (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C8E2-367F-4A38-B136-58540F81B9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cidul oxalic di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panac (5% din Ca se absoarbe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Cartofi dulc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Fasole uscat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cidul fitic di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Cereale (coaja seminţelor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Notă: organismul se adaptează la consumul de fitaţi, iar afectarea absorbţiei Ca nu este semnificativ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ibrele alimentare (dacă aportul es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50 g/zi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ipidele în cantitate m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Glucocorticoizi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enopauz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ficitul de estroge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actori care scad absorbţi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Abs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bţia Ca în diverse stări fiziologi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rescută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ugar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arci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actaţi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066920" y="19162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Scăzut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Vârstnici (cu 0,2% pe a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upă menopauză (cu 2% pe a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ol plastic la nivelul oaselor şi dinţ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uncţii metaboli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Transportul transmembranar al ion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odularea funcţiilor hormona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ctivarea / inhibarea enzime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Necesar î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Transmiterea nervoas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ont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ul activităţii cardia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enţinerea tonusului muscula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ontrolul excitabilităţii neuromuscul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 ioni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iţiază formarea cheagului sanguin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Verdana"/>
              </a:rPr>
              <a:t>Stimularea eliberării de tromboplastină de la nivelul trombocitel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Verdana"/>
              </a:rPr>
              <a:t>Cofactor al transformării protrombinei în trombin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69228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cesa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DA                       m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9-50 ani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000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-70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n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ărbaţi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000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Femei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2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ste 71 ani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200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antitatea maxim admis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: 250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25-30 g Ca se transferă la fă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acă dieta este adecvată nu trebuie suplimente!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DA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14-18 ani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1300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Peste 19 ani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1000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ecesar gravid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ele mai importante surse: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75%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din necesarul zilni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ffffff"/>
                </a:solidFill>
                <a:latin typeface="Verdana"/>
              </a:rPr>
              <a:t>Lapte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(se absoarbe 27%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ffffff"/>
                </a:solidFill>
                <a:latin typeface="Verdana"/>
              </a:rPr>
              <a:t>Brânzetu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Surse bogate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(absorbţie de peste 50%)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Vegetale: varză, broccoli, pătrunje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tridi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omo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onserve de peşt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Gălbenuş de ou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Nuci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osforul (P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7501-F46A-4C20-AA27-934E52ABAA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Fosfatul este principalul </a:t>
            </a:r>
            <a:r>
              <a:rPr b="1" i="1" lang="ro-RO" sz="2800" spc="-1" strike="noStrike">
                <a:solidFill>
                  <a:srgbClr val="000000"/>
                </a:solidFill>
                <a:latin typeface="Verdana"/>
              </a:rPr>
              <a:t>anion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 intracelular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onţinut total al organismului: 1% din greut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Bărbat de 70 kg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700 g 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80%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o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9%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uşchi scheletic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centraţia serică normală P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3-4,5 mg/d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-1,5 mmol/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diul (Na)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tionul major extracelul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Valoare serică normală: 1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145 m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/l (mmol/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titate totală în organism: 90-100 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e găseşte î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ecreţii gastrice (bilă, suc pancreatic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chelet (35-40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Element important intracelular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ponent major al osului (hidroxiapatită)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ponent al fosfolipidelor din membrana celulară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Se găseşte în depozitele energetice (ATP, ADP)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ponent al ADN, ARN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ponent al aproape tuturor enzimelor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Vital în reglarea echilibrului acido-bazic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P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DA,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19 ani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    70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UL: 400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Verdana"/>
              </a:rPr>
              <a:t>RDA, l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a gravidă &gt;</a:t>
            </a:r>
            <a:r>
              <a:rPr b="1" lang="ro-RO" sz="2200" spc="-1" strike="noStrike">
                <a:solidFill>
                  <a:srgbClr val="00b050"/>
                </a:solidFill>
                <a:latin typeface="Verdana"/>
              </a:rPr>
              <a:t>19 ani:    700 mg/z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UL, la gravidă: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350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 în alimen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Natura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ditiv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! Unele băuturi carbogazoase conţin acid fosforic ca acidifian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alimentar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Alimente bogate în protei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Cere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dusele din carne şi brânzeturile procesate conţin mai mult P decât produsele natur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macr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agneziul (Mg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56A-98A0-44BB-AB37-2C2FFDB0BA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eneralit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 patrulea cation în organism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l doilea catio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racelul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mplicat în mai mult de 300 de reacţii metabolice esenţi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antitatea total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de Mg din organism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= 20-25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1 mmol = 2 mEq = 24,3 m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centra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a seric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75-1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mmol/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= 1,8-2,4 mEq/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 Mg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68360" y="17679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l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metabolis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factor enzimati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sigur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structura de rezisten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ă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soa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ri de Ca,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ntar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alaturi de Ca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duce excitabilitatea fibrelor miocardice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 muscula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ervine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conductibilitatea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 contractilitatea miocardic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l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sinteza acizilor nucleici, sin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ez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roteic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l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transmiterea influxului nervo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Ro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transportul transmembrana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bărbaţ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feme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9-30 an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400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31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31 an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420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32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imita maximă admisă: 350 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(din suplimentele şi medicamentele cu Mg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Mg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19-30 ani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350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31-50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360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750 mg magneziu se transferă la făt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Intervine î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glarea volumului plasmat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ducerea impulsului nerv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trolul contracţiei muscul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glarea tensiunii arteria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urse natura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Legume verzi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(parte a clorofilei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nac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Semin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ţ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e 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de 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floarea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soarelu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sole usca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Cereale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â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Carne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Oleagino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h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gdal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dimen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fe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ca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ea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24000" y="1699920"/>
            <a:ext cx="871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 aport de 350 mg Mg este asigurat d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 semin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oare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arelu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0 g 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â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0 g cerea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 g fasole usca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0 g or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 g spana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kg legu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kg p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kg car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6" dur="2000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9" dur="2000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2" dur="2000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olig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ierul (Fe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BBB-35D2-4247-A971-AF821A4E96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ntitatea totală de Fe din corp: 3-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c3c"/>
                </a:solidFill>
                <a:latin typeface="Verdana"/>
              </a:rPr>
              <a:t>7</a:t>
            </a:r>
            <a:r>
              <a:rPr b="1" lang="ro-RO" sz="2600" spc="-1" strike="noStrike">
                <a:solidFill>
                  <a:srgbClr val="ff3c3c"/>
                </a:solidFill>
                <a:latin typeface="Verdana"/>
              </a:rPr>
              <a:t>0%: eritroci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estul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3c3c"/>
                </a:solidFill>
                <a:latin typeface="Verdana"/>
              </a:rPr>
              <a:t>Stocat în 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ficat, splină, măduvă osoasă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(20%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3c3c"/>
                </a:solidFill>
                <a:latin typeface="Verdana"/>
              </a:rPr>
              <a:t>Mioglobina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 din ţesutul muscular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(5%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3c3c"/>
                </a:solidFill>
                <a:latin typeface="Verdana"/>
              </a:rPr>
              <a:t>Metaloenzime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(5%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Fe </a:t>
            </a:r>
            <a:r>
              <a:rPr b="1" lang="ro-RO" sz="2300" spc="-1" strike="noStrike">
                <a:solidFill>
                  <a:srgbClr val="ff3c3c"/>
                </a:solidFill>
                <a:latin typeface="Verdana"/>
              </a:rPr>
              <a:t>legat de transferina 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din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g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entra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a seric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: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0-150 microg/d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9-27 micromol/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ţinutul în Fe al laptelui uman 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= 0,35 mg/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e869d"/>
                </a:solidFill>
                <a:latin typeface="Verdana"/>
              </a:rPr>
              <a:t>Esenţi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pentru aproape toate organismele cunoscut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n celule, </a:t>
            </a:r>
            <a:r>
              <a:rPr b="1" lang="ro-RO" sz="2200" spc="-1" strike="noStrike">
                <a:solidFill>
                  <a:srgbClr val="6e869d"/>
                </a:solidFill>
                <a:latin typeface="Verdana"/>
              </a:rPr>
              <a:t>Fe este stocat în formă legată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, pentru că Fe liber poate duce la apariţia de radicali liberi toxic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Este </a:t>
            </a:r>
            <a:r>
              <a:rPr b="1" lang="ro-RO" sz="2200" spc="-1" strike="noStrike">
                <a:solidFill>
                  <a:srgbClr val="6e869d"/>
                </a:solidFill>
                <a:latin typeface="Verdana"/>
              </a:rPr>
              <a:t>incorporat în complexul he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Hemul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n component esenţial al proteinelor transportatoare de oxig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Hemoglobin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Mioglobin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Leghemoglobină (în legumino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la adul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 (mg/z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femei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bărba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19-30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18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31-50 ani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18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51-70 ani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este 70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RD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Sub 18 ani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27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18-50 ani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27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Fe în sarcin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42560" y="1752480"/>
            <a:ext cx="8929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b050"/>
                </a:solidFill>
                <a:latin typeface="Verdana"/>
                <a:ea typeface="Arial"/>
              </a:rPr>
              <a:t>Pierderile de Fe pe parcursul sarcinii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250 mg pierderi uzu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320 mg făt şi placent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500 mg creşterea cantităţii de Hb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  <a:ea typeface="Arial"/>
              </a:rPr>
              <a:t> 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  <a:ea typeface="Arial"/>
              </a:rPr>
              <a:t>1070 mg F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arenţa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→ mortalitate maternă şi complicaţii ale naşteri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61B-C14B-4EC8-933C-F39EC21C3E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5" dur="5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Tolerable upper limi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dulţi: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5 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pii sub 14 ani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0 mg/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Minim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00 mg Na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Aport adecvat: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1500 mg Na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port uzual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4-5 g Na/zi (10-12 g sar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comand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OMS, 2012: 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maxim 2000 mg/zi (5 g sar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 g Na în 2,5 g N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 (sar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1 g NaCl conţine 400 mg 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Valorea nutritivă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0000"/>
                </a:solidFill>
                <a:latin typeface="Verdana"/>
              </a:rPr>
              <a:t>Din cauza diferenţelor în ceea ce priveşte absorbţia </a:t>
            </a:r>
            <a:r>
              <a:rPr b="1" i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57697e"/>
                </a:solidFill>
                <a:latin typeface="Verdana"/>
              </a:rPr>
              <a:t>Surse valoroase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ele cu Fe din he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ffffff"/>
                </a:solidFill>
                <a:latin typeface="Verdana"/>
              </a:rPr>
              <a:t>Car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ffff"/>
                </a:solidFill>
                <a:latin typeface="Verdana"/>
              </a:rPr>
              <a:t>Peş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57697e"/>
                </a:solidFill>
                <a:latin typeface="Verdana"/>
              </a:rPr>
              <a:t>Surse mai puţin valoroase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Cele cu Fe care nu provine din he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Verdana"/>
              </a:rPr>
              <a:t>Alimente de origine vegetal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alimentare principal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Ficat (miel</a:t>
            </a:r>
            <a:r>
              <a:rPr b="1" lang="en-US" sz="2600" spc="-1" strike="noStrike">
                <a:solidFill>
                  <a:srgbClr val="92d050"/>
                </a:solidFill>
                <a:latin typeface="Verdana"/>
              </a:rPr>
              <a:t>, porc</a:t>
            </a: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Carne roşi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Peşte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92d050"/>
                </a:solidFill>
                <a:latin typeface="Verdana"/>
              </a:rPr>
              <a:t>Carne de pasă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âine fortifiat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duse din cereale (fortifiat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in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aso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egetale cu frunz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ofu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Mază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rtof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olig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odul (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9FC0-7868-4904-9FE3-A82D5D4A79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În  organism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– sub formă de </a:t>
            </a:r>
            <a:r>
              <a:rPr b="1" lang="ro-RO" sz="2200" spc="-1" strike="noStrike">
                <a:solidFill>
                  <a:srgbClr val="7f7f7f"/>
                </a:solidFill>
                <a:latin typeface="Verdana"/>
              </a:rPr>
              <a:t>iodur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bsorbit în glanda tiroidă şi convertit în hormoni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o-RO" sz="2000" spc="-1" strike="noStrike">
                <a:solidFill>
                  <a:srgbClr val="92d050"/>
                </a:solidFill>
                <a:latin typeface="Verdana"/>
              </a:rPr>
              <a:t>70%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din iodul din organism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Tiroxin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Triiodotironin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92d050"/>
                </a:solidFill>
                <a:latin typeface="Verdana"/>
              </a:rPr>
              <a:t>R</a:t>
            </a:r>
            <a:r>
              <a:rPr b="1" lang="en-US" sz="2200" spc="-1" strike="noStrike">
                <a:solidFill>
                  <a:srgbClr val="92d050"/>
                </a:solidFill>
                <a:latin typeface="Verdana"/>
              </a:rPr>
              <a:t>estu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Glande saliv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Glanda mamar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(î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 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ta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Och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ol uter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Mucoasa gastric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enerali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tăț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7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 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in hormonii tiroidieni intervine în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ezvoltarea creierulu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glarea metabolismului baza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inteza de enzime şi protei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RDA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TU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µ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g/z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µ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Femei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150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1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Bărbaţ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150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1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Sarcină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220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	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  <a:ea typeface="Arial"/>
              </a:rPr>
              <a:t>1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I la adul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apitalul de iod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539640" y="2133720"/>
          <a:ext cx="8001000" cy="25956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centrația urinară (µg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pitalul de 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cit s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cit mod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cit uș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ție opt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 mult decât nutriție opt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bil ex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71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CA2-9AED-47A9-AC91-E540947F4C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39640" y="5084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b050"/>
                </a:solidFill>
                <a:latin typeface="Verdana"/>
              </a:rPr>
              <a:t>În sarcin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oncentraţia urinară iod: 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minim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150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µ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  <a:ea typeface="Arial"/>
              </a:rPr>
              <a:t>g/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  <a:ea typeface="Arial"/>
              </a:rPr>
              <a:t>(la o  diureză de 1,5 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pa de băut (cantităţi mici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Fructele de mar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i </a:t>
            </a: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peştii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(cod, somon, hering) sunt cele mai bu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ea mai bogată sursă: </a:t>
            </a: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ulei de co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ltă sursă: alge mari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ltel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apte şi lactate (principala sursă în SUA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nele legum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cartofi, fasol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arn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ere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Zmeur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u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395280" y="1649160"/>
            <a:ext cx="82296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În zonele în care solul are conţinut mic de iod, se recomandă suplimentarea de iod prin consum de </a:t>
            </a:r>
            <a:r>
              <a:rPr b="1" lang="ro-RO" sz="2800" spc="-1" strike="noStrike">
                <a:solidFill>
                  <a:srgbClr val="6e869d"/>
                </a:solidFill>
                <a:latin typeface="Verdana"/>
              </a:rPr>
              <a:t>sare “iodată”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, prin adaos de </a:t>
            </a:r>
            <a:r>
              <a:rPr b="1" lang="ro-RO" sz="2800" spc="-1" strike="noStrike">
                <a:solidFill>
                  <a:srgbClr val="6e869d"/>
                </a:solidFill>
                <a:latin typeface="Verdana"/>
              </a:rPr>
              <a:t>iodură de potasiu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Iodura de K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 parte la 40.000 părţi s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olubilă în ap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apid absorbită în sâng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Nu este nociv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Deficitul de iod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pariția gușei, cu hipotiroidi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reșterea riscului de neoplasm mamar sau gastr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În sarcină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ces fetal și infanti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retinism (retard mental ireversibi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Tulburări tiroidie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000000"/>
                </a:solidFill>
                <a:uFillTx/>
                <a:latin typeface="Verdana"/>
              </a:rPr>
              <a:t>Tratamen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uplimentare cu I, prin adm. de </a:t>
            </a:r>
            <a:r>
              <a:rPr b="1" lang="ro-RO" sz="2400" spc="-1" strike="noStrike">
                <a:solidFill>
                  <a:srgbClr val="57697e"/>
                </a:solidFill>
                <a:latin typeface="Verdana"/>
              </a:rPr>
              <a:t>sare iodată, apă iodată, tablete/ soluții cu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427-E651-41F5-8A71-A0EB8414FD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ecesar la gravid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a fel ca la negravide 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(</a:t>
            </a:r>
            <a:r>
              <a:rPr b="1" lang="ro-RO" sz="3000" spc="-1" strike="noStrike">
                <a:solidFill>
                  <a:srgbClr val="00b050"/>
                </a:solidFill>
                <a:latin typeface="Symbol"/>
                <a:ea typeface="Symbol"/>
              </a:rPr>
              <a:t>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2 g/z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2203-45E8-4BD3-AB68-A52895AAD4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Zincul (Zn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B59-17A7-4F7F-A2AB-1D8D9E8D5C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oligoe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arte componentă a enzimei anhidraza carbonică din eritroci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onstituient în peste 100 de enzi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Joacă un rol în metabolismul proteinel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glucidel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lipide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Reglează apoptoz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Joacă un rol esenţial în funcţionarea creierului (intervine şi în procesul de învăţar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Beneficii posi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reşte imunitate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cade radicalii libe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Efect antioxidan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Z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Vârst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DA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bărbaţ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DA 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feme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9 an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g/z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Sarcină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: necesar crescut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1" lang="ro-RO" sz="2400" spc="-1" strike="noStrike">
                <a:solidFill>
                  <a:srgbClr val="00b050"/>
                </a:solidFill>
                <a:latin typeface="Verdana"/>
              </a:rPr>
              <a:t>11 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Upper tolerable limi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4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0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port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Nu există rezerve de Zn în organism, </a:t>
            </a: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este necesar un aport ziln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În sarcină: apor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n &lt;6 mg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/z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800" spc="-1" strike="noStrike">
                <a:solidFill>
                  <a:srgbClr val="000000"/>
                </a:solidFill>
                <a:latin typeface="Verdana"/>
              </a:rPr>
              <a:t>naşteri prematu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naturale Z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Stridi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Peşt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arne slab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Viscer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Mezeluri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Lap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Ouă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erea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Leguminoas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Pâin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Nuc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Seminţ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2" dur="5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5" dur="5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0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3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6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ALTE OLIGO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24000" y="1752120"/>
            <a:ext cx="8820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Cro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   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RDA</a:t>
            </a: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  <a:ea typeface="Arial"/>
              </a:rPr>
              <a:t>↑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: 29-3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ță de 24-25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Cupru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o-RO" sz="3000" spc="-1" strike="noStrike">
                <a:solidFill>
                  <a:srgbClr val="00b050"/>
                </a:solidFill>
                <a:latin typeface="Verdana"/>
              </a:rPr>
              <a:t>RDA</a:t>
            </a:r>
            <a:r>
              <a:rPr b="1" lang="en-US" sz="3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  <a:ea typeface="Arial"/>
              </a:rPr>
              <a:t>↑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: 1000 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ță de 90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Fluo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: 3 mg/zi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(ca la negravid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0C1-48A7-4E0A-B47C-5CDC5AB159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53928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Manga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b050"/>
                </a:solidFill>
                <a:latin typeface="Verdana"/>
              </a:rPr>
              <a:t>A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↑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: 2 m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ță de 1,6-1,8 m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Molibde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b050"/>
                </a:solidFill>
                <a:latin typeface="Verdana"/>
              </a:rPr>
              <a:t>RDA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↑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: 50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ță de 45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UL: 2 mg/z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Seleniu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Fătul acumulează 1 m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b050"/>
                </a:solidFill>
                <a:latin typeface="Verdana"/>
              </a:rPr>
              <a:t>RDA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↑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: 60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(față de 55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g/zi la negravid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B18F-B5F0-4DE8-8A29-2BECF06BA6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ALTE OLIGOLEMENT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Importanţa în alimentaţi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Dă gust alimentelo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Permite conservarea fără altera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ontrolează viteza de fermentaţie (brânzeturi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Dă o textură mai fin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limentelo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 uzua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Sare şi adaos de sare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20-2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Alimentele procesate şi preparate: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75-80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ereale şi pâine: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33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rne şi produse din carn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0:57Z</dcterms:created>
  <dc:creator>x</dc:creator>
  <dc:description/>
  <dc:language>en-US</dc:language>
  <cp:lastModifiedBy>ada gherbon</cp:lastModifiedBy>
  <dcterms:modified xsi:type="dcterms:W3CDTF">2020-10-11T16:20:12Z</dcterms:modified>
  <cp:revision>264</cp:revision>
  <dc:subject/>
  <dc:title>Slide 1</dc:title>
</cp:coreProperties>
</file>