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8EC0-064D-41C4-B14C-DF8C5F1C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E5C-DF5D-4923-986F-7B048D12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847-FA5A-47C3-915B-224D636C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239-93C2-4519-8B43-49DD22F3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9770-47F8-4F50-B818-06731C84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F01-4C0F-45C2-BC7C-2C12A9EE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8F68-CB08-4C21-965E-E8F772D7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F7D9-F3DE-43F1-940B-0B6A4B32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B7D-21A9-4579-BAFA-E40C3635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5BB-0D90-4B6C-A63E-8919824A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3C11-5F5A-4B3F-BECB-C4BF66ED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36D-A5D5-4B9D-A693-A83E92E6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2D7F-B157-4EC6-BF87-7CA12E57D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URIN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Contenu modér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Viande 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oeu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or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is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Fruits de 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éréa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rains ent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ain de grains ent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erme de bl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er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’avo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oduits végétau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sper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hou-fl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Épin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hampign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ois ve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icots se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ose musqué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Con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tenu rédu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Produits végétaux (sauf ceux à contenu modéré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Fru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Noiset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Pain de grains non enti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a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ro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Oeuf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c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CIDE URIQU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produit final de la dégradation oxydative des nucléotides pur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N =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7 mg/dl chez les hom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6 mg/dl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z les femm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qu'à la ménopa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7 mg/dl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z les femm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ès la ménopa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GOUT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rsque la valeur de l'acide urique atteint une certaine concentration (au-dessus des limites normales) dans les fluides biologiques, il forme des précipités insolubles qui sont stockés d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quide synovial -&gt; arthrite goutte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ssu cellulaire sous-cutané -&gt; touffes goutteu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ins -&gt; calculs rénaux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IETETIQUE TRAI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ction des aliments riches en pur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égime typique contient 600-1000 mg de purine / j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s la goutte sévère, l'apport est réduit à 100-150 mg / j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imentation riche en liquides pour assurer une diurèse d'au moins 2 l / jo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égime avec des légumes et des fruits pour alcaliniser l'urine (la solubilité de l'acide urique augmente jusqu'à pH&gt; 4, de préférence pH urinaire ~ 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viter l'alc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viter le jeûne prolong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égime riche en glucides et faible en g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'excrétion d'acide urique semble être inhibée par les lipides et stimulée par les glucid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sants organiques hétérocycliques aromatiques constitués d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anneau du pyrimid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anneau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'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idaz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type d'hétérocycles contenant N le plus répandu dans la nat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xempl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bases des acides nuclé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én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ni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oxanth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anth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éobrom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ide ur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fé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guan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purines proviennent 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ort exogè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rn-overul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e des nucléoprotéines endogè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synthèse de nov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RÔL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s le métabolisme - source d'énergie (ATP, GT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r secondaire intracellulaire (AMPc, GMP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sants de certains cofacteurs enzymatiques (CoA, NADP, F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analogues de purine sont utilisés comme agents antiviraux ou cytostatiques (empêche la synthèse de l'AD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transmetteurs (activateurs des récepteurs purinergiqu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Nécessai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purines ne sont pas nécessaires dans l'ali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 organisme a la capacité de prendre purines des constituants cellulaires métabolis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sommation moyenne habituelle: 600-1000 mg de purine / jo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OURCES DES PURIN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les trouve en concentration élevée da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es internes (foie, reins, cerveau, pancréas, thymu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ande rou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its de viande rou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Arial"/>
              </a:rPr>
              <a:t>Classification des aliments en fonction de leur contenu en purin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tenu élevée (&gt; 150 mg de purine / 100 g d'ali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alibri"/>
              </a:rPr>
              <a:t>organes (cerveau, foie, langue, reins), certains poissons (hareng, maquereau, sardines, anchois), fruits de mer (certains crustacés, homard), viande de gib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tenu modérée (50-150 mg de purine / 100 g d'ali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Calibri"/>
              </a:rPr>
              <a:t>viande (porc, boeuf, volaille), grains entiers, asperges, chou-fleur, brocoli, épinards, champignons, pois, haricots secs, so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tenu réduite  (&lt;50 mg de purine / 100 g d'ali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alibri"/>
              </a:rPr>
              <a:t>autres aliments végétaux non mentionnés ci-dessus (fruits, produits céréaliers raffinés, sucre, lait, fromage, œuf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Contenu accr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Orga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ervea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0036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oiss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Maquerea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ardin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ruits de m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lques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coquillages (scallop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4:40:41Z</dcterms:created>
  <dc:creator>egyptian hak</dc:creator>
  <dc:description/>
  <dc:language>en-US</dc:language>
  <cp:lastModifiedBy>ada</cp:lastModifiedBy>
  <dcterms:modified xsi:type="dcterms:W3CDTF">2021-04-23T09:04:16Z</dcterms:modified>
  <cp:revision>78</cp:revision>
  <dc:subject/>
  <dc:title>Slide 1</dc:title>
</cp:coreProperties>
</file>