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  <p:sldId id="287" r:id="rId58"/>
    <p:sldId id="288" r:id="rId59"/>
    <p:sldId id="289" r:id="rId60"/>
    <p:sldId id="290" r:id="rId61"/>
    <p:sldId id="291" r:id="rId62"/>
    <p:sldId id="292" r:id="rId63"/>
    <p:sldId id="293" r:id="rId64"/>
    <p:sldId id="294" r:id="rId65"/>
    <p:sldId id="295" r:id="rId66"/>
    <p:sldId id="296" r:id="rId67"/>
    <p:sldId id="297" r:id="rId68"/>
    <p:sldId id="298" r:id="rId69"/>
    <p:sldId id="299" r:id="rId70"/>
    <p:sldId id="300" r:id="rId71"/>
    <p:sldId id="301" r:id="rId72"/>
    <p:sldId id="302" r:id="rId73"/>
    <p:sldId id="303" r:id="rId74"/>
    <p:sldId id="304" r:id="rId75"/>
    <p:sldId id="305" r:id="rId76"/>
    <p:sldId id="306" r:id="rId77"/>
    <p:sldId id="307" r:id="rId78"/>
    <p:sldId id="308" r:id="rId79"/>
    <p:sldId id="309" r:id="rId80"/>
    <p:sldId id="310" r:id="rId81"/>
    <p:sldId id="311" r:id="rId82"/>
    <p:sldId id="312" r:id="rId83"/>
    <p:sldId id="313" r:id="rId84"/>
    <p:sldId id="314" r:id="rId85"/>
    <p:sldId id="315" r:id="rId86"/>
    <p:sldId id="316" r:id="rId87"/>
    <p:sldId id="317" r:id="rId88"/>
    <p:sldId id="318" r:id="rId89"/>
    <p:sldId id="319" r:id="rId90"/>
    <p:sldId id="320" r:id="rId91"/>
    <p:sldId id="321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slide" Target="slides/slide32.xml"/><Relationship Id="rId59" Type="http://schemas.openxmlformats.org/officeDocument/2006/relationships/slide" Target="slides/slide33.xml"/><Relationship Id="rId60" Type="http://schemas.openxmlformats.org/officeDocument/2006/relationships/slide" Target="slides/slide34.xml"/><Relationship Id="rId61" Type="http://schemas.openxmlformats.org/officeDocument/2006/relationships/slide" Target="slides/slide35.xml"/><Relationship Id="rId62" Type="http://schemas.openxmlformats.org/officeDocument/2006/relationships/slide" Target="slides/slide36.xml"/><Relationship Id="rId63" Type="http://schemas.openxmlformats.org/officeDocument/2006/relationships/slide" Target="slides/slide37.xml"/><Relationship Id="rId64" Type="http://schemas.openxmlformats.org/officeDocument/2006/relationships/slide" Target="slides/slide38.xml"/><Relationship Id="rId65" Type="http://schemas.openxmlformats.org/officeDocument/2006/relationships/slide" Target="slides/slide39.xml"/><Relationship Id="rId66" Type="http://schemas.openxmlformats.org/officeDocument/2006/relationships/slide" Target="slides/slide40.xml"/><Relationship Id="rId67" Type="http://schemas.openxmlformats.org/officeDocument/2006/relationships/slide" Target="slides/slide41.xml"/><Relationship Id="rId68" Type="http://schemas.openxmlformats.org/officeDocument/2006/relationships/slide" Target="slides/slide42.xml"/><Relationship Id="rId69" Type="http://schemas.openxmlformats.org/officeDocument/2006/relationships/slide" Target="slides/slide43.xml"/><Relationship Id="rId70" Type="http://schemas.openxmlformats.org/officeDocument/2006/relationships/slide" Target="slides/slide44.xml"/><Relationship Id="rId71" Type="http://schemas.openxmlformats.org/officeDocument/2006/relationships/slide" Target="slides/slide45.xml"/><Relationship Id="rId72" Type="http://schemas.openxmlformats.org/officeDocument/2006/relationships/slide" Target="slides/slide46.xml"/><Relationship Id="rId73" Type="http://schemas.openxmlformats.org/officeDocument/2006/relationships/slide" Target="slides/slide47.xml"/><Relationship Id="rId74" Type="http://schemas.openxmlformats.org/officeDocument/2006/relationships/slide" Target="slides/slide48.xml"/><Relationship Id="rId75" Type="http://schemas.openxmlformats.org/officeDocument/2006/relationships/slide" Target="slides/slide49.xml"/><Relationship Id="rId76" Type="http://schemas.openxmlformats.org/officeDocument/2006/relationships/slide" Target="slides/slide50.xml"/><Relationship Id="rId77" Type="http://schemas.openxmlformats.org/officeDocument/2006/relationships/slide" Target="slides/slide51.xml"/><Relationship Id="rId78" Type="http://schemas.openxmlformats.org/officeDocument/2006/relationships/slide" Target="slides/slide52.xml"/><Relationship Id="rId79" Type="http://schemas.openxmlformats.org/officeDocument/2006/relationships/slide" Target="slides/slide53.xml"/><Relationship Id="rId80" Type="http://schemas.openxmlformats.org/officeDocument/2006/relationships/slide" Target="slides/slide54.xml"/><Relationship Id="rId81" Type="http://schemas.openxmlformats.org/officeDocument/2006/relationships/slide" Target="slides/slide55.xml"/><Relationship Id="rId82" Type="http://schemas.openxmlformats.org/officeDocument/2006/relationships/slide" Target="slides/slide56.xml"/><Relationship Id="rId83" Type="http://schemas.openxmlformats.org/officeDocument/2006/relationships/slide" Target="slides/slide57.xml"/><Relationship Id="rId84" Type="http://schemas.openxmlformats.org/officeDocument/2006/relationships/slide" Target="slides/slide58.xml"/><Relationship Id="rId85" Type="http://schemas.openxmlformats.org/officeDocument/2006/relationships/slide" Target="slides/slide59.xml"/><Relationship Id="rId86" Type="http://schemas.openxmlformats.org/officeDocument/2006/relationships/slide" Target="slides/slide60.xml"/><Relationship Id="rId87" Type="http://schemas.openxmlformats.org/officeDocument/2006/relationships/slide" Target="slides/slide61.xml"/><Relationship Id="rId88" Type="http://schemas.openxmlformats.org/officeDocument/2006/relationships/slide" Target="slides/slide62.xml"/><Relationship Id="rId89" Type="http://schemas.openxmlformats.org/officeDocument/2006/relationships/slide" Target="slides/slide63.xml"/><Relationship Id="rId90" Type="http://schemas.openxmlformats.org/officeDocument/2006/relationships/slide" Target="slides/slide64.xml"/><Relationship Id="rId91" Type="http://schemas.openxmlformats.org/officeDocument/2006/relationships/slide" Target="slides/slide65.xml"/><Relationship Id="rId92" Type="http://schemas.openxmlformats.org/officeDocument/2006/relationships/slide" Target="slides/slide66.xml"/><Relationship Id="rId9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74CDC8-4B46-4947-9FBD-9FD61F505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93AA6E-3C40-42E2-8767-A3C2D01C14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98DCAD-8144-49D2-AB60-22329C9991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80A76E-72B4-4589-8789-52617ACFC1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E4E2E4-521F-4D58-ACB7-061CF0653E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87CFD1-B310-4A76-BE67-BA85C61665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107929-C6AE-4284-BCA1-BACDD39DAA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E9EC66-925B-4E0C-96D0-CAE631A055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A790A7-150A-47FC-A1E9-1B5FF07DB4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84B820-7DEE-4AE6-803D-829D857A9F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77726E-7751-4F0E-8377-5AA9387544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Slide Number Placeholder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F1A09E-3A54-4F95-8360-9C37A3ACC934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Slide Number Placeholder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39CF5A-D9B5-4D13-B3A3-13B119894744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5C4E51-2B3A-4411-8E90-087EA74BE4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BA5F2C-9161-4858-A778-B6C7A8A568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A7A818-F924-43C8-9843-273508A644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3DB990-33C9-42E0-8A8E-4267D722FF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5187B8-D718-440D-B790-27A99CDAB5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50A611-29B0-4F06-B2EA-C9841D0D6E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5FC425-D901-4BA9-8F9C-AEB89FCAE7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94715E-58DF-48FD-8C84-EAD67A487E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14F9A6-300B-4393-8573-503ED9BDD6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14354F-38D1-44D3-84C0-0D92989CA7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0D93FE-72DA-4C0B-B483-65A5C0534F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6878EF-498F-4A03-B65C-918EA54C5D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EAF774-71B5-4849-B5AB-F6B0BCDD6E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B0F03C-A078-4291-B43E-9E4B4B2256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714E36-AC1F-48E9-BC99-6EF5651F15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69124C-CC2D-4C69-AE53-850B716AB7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0F06AA-6FDA-4355-A64A-FF5DD1763A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D2C9D3-6DDA-4302-9843-D9C8588CF5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12994D-A65E-4F2C-A241-CC10F548DF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434AD1-A669-41C2-A7F2-4AEC190FB5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7D4CC2-0D6F-4365-940E-8D67B82401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A1834F-8A36-4D4D-A704-BD186087F8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B6B646-FBFA-4FC0-BC85-15F2362478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334DEC-DD48-4C04-A2C9-7B8F8198C8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D571B2-F60E-49EA-B25B-A414DAD29C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011653-C9C8-4C6E-9740-3E897EB728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E53C8E-DCC5-4EBC-8BF8-90E7703B29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4CC2A-B60D-49C3-8208-8084201DA3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33F1F-77A4-4CC1-98E8-A9AC9D4D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747D8-85C2-4FF6-A5BD-7755CE7B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431F0-8EB8-48F5-9798-86E90B10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87716-7DCC-4C76-9672-7DA4328A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8304D-4488-4B20-926A-570D1B93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05127-7900-4639-BB4F-E979E607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DE7B1-5624-44BB-B769-F8FD0C00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C817F-0B75-4CA3-8F94-E705377B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C1E5A-6E50-4F4D-983B-793586CA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A7D53-476A-47BC-A365-42F07D50FC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B001BD-402A-4DC9-BDE2-2E5DEEBA72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FB000-861B-442C-AE03-70499EAA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DA07E5-E877-4ECA-8D2E-90FC917D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2D1B8A-22EA-4711-9796-C48EE6CD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5A53F6-29B9-47E9-9B94-5F6731E0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946146-9DFC-408E-B232-7446470D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E2608A-A21F-4AE3-BAA6-DF6C7E98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2DBC81-EC8C-4D29-BEEE-A74F944D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2D0106-F4A7-485F-B9E9-5715685C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277DA1-991C-4F43-806A-62BF1F49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FA77E5-F790-48F3-B1DB-872776C2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4CCCA3-457C-4A2F-8269-752188DF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92363-33C3-4393-8C73-7618D761AB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B9BFE9-E86D-4C9A-ACE6-7513B1E1BF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7AA54C-32D9-4F52-BE09-84866DACCE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8F2BD7-4FBF-4649-B5B7-F5639946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673C14-D281-438F-8EBB-4F2B66C2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416A1A-4D77-4182-970A-4EB9190C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F55C3F-EC47-4437-9F34-12E2F459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9FD777-30C2-47E5-8138-C81FEC88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82B8D6-6613-4774-BD49-244D9973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AEC552-AB3A-4401-BA37-F3C508B5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80CA65-1098-4B7A-A7BC-B9458CC0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BC9EE-2DC0-49FD-91FC-6C2433156F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D94E2D-330A-477B-A817-8BCDFA88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D46EC4-4CF2-4BB7-88FC-C2B02AA8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1FA958-C4D4-499D-987C-99C61F3975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4943D-204D-4EA7-B424-FF34914820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09383-E216-41BB-9A73-CACB2066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04A52-0D88-4CDB-8F60-6F70D2B2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ACA92-336C-4B3B-910D-BD09289A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B04FD-64BF-464B-90EF-F240F453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CC678-4D0C-45F1-8F4B-2F3D5EAD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D50E1-F499-4116-AB70-9B49FB41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CA1F2-5140-4768-A035-8479315D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F69BE-D39B-479A-9D53-9DEB649A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8D801-F0FC-4E75-958D-84CD54A9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57686-6582-4BA9-ACDF-BE697AA3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02D2E-5A0D-419A-94CF-EE561D67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3FA7B-DA3F-4613-9036-FE98BCAC92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8FAD1C-0B60-40C7-ACE1-26032F3496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8D7589-88D9-465C-80E1-54D6D0FC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740CED-E46C-413F-ADCE-EFD66D6C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F0FA55-F649-4E06-819F-F947FA2A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1C23A6-B621-4B72-90C8-EA661CC1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DB3AA-7FAE-477A-82DA-08EB8DA0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F4FB16-647C-4A35-80EF-DEB0B003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019315-F54A-4798-822D-83C9FECA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679A78-1AD2-41EE-9F73-E13B1F8F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8F6BE2-12D7-445C-B86F-B97D9E61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5999F3-7D50-4450-8ED0-CC5F80BF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3AC6C4-CB5D-4884-A21A-AF9A5412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71A240-3F10-45BE-9E58-68985CC906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DD2FF1-E4BE-42EC-B7DA-1F8C1A4A76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AE558B-0DB7-40E4-8377-F5C3DA2A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0000B1-6FA0-488D-A0DC-51386D3B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103DC-CBB3-484E-B98E-44D75412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433C58-E514-4A27-AA30-3416CD74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5605C2-B6FD-4822-A09F-C3C43D3A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737123-DE85-41CD-ABEF-77885D52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70DD97-E2B6-48ED-8799-EF25F3A3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41F9A-F7CF-4EE4-B41E-5D7A3D88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366B89-2CC4-46CE-925F-F1ECD9A4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EA0E2A-BAA6-4366-B67E-4427A57F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57A7A2-821D-4058-BC2F-F2016619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3FB02-C3EF-4D3B-B6F2-0CEA4997C2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57F73-C66D-40D6-A851-FEC2DA9E45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9F88D-6F7A-4149-848B-CE4C9E12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050FC-AA84-4310-9BFF-30B748E9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07239-ED32-4E98-883C-8E88D30A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9E821-292E-431F-A677-6CCD1E56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67F9E-4574-401C-B794-43867D1C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5FC55-EA49-4369-9D01-575E4365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591DD-0737-4BCB-9ADF-773E8FE7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CDE09-CF21-4342-BDBA-70E680CF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CD36C-2417-4293-9D78-2BCBA683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9E155-F310-4A3E-BDF0-E37FF2C1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638E0-1662-4E2F-9BB0-7FEA56EE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4EF7F-3A79-4D18-92F6-7F6CF62F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FF27F-B081-41B6-A988-13090EF16C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D17EF1-0E38-4FCC-B950-BF40F85987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569FEF-4DE0-4526-B114-5EDBE55E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29C165-2BE4-4FCB-B844-83D5BC13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E8574B-E0C4-4AD1-88CA-85443FBA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6C4BD8-EE27-47D5-B061-6482BF8E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B5E259-6642-4D3A-A0D8-DF67DB8B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CEB27A-FAE7-4058-BA0E-5ECE55D8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B00485-5077-41AE-A9D1-F77CDE15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02E9AC-4653-4B88-9CE0-0CC83F69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EF180-C69C-4E41-A0B1-8DA781EB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414664-5177-4367-861F-2D1BD838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BBBD96-6DDC-4611-A024-A1034593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0E738F-DB3B-4192-B60C-5FC4C10F8E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51ECA3-0448-47AA-A085-1499A39096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3B7F5B-4A8E-4AA5-B68D-B34E1017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B6FCA7-22F1-44B6-BE8A-44BF2781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283835-1CF2-4A83-8F7B-1372A05B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A58887-7059-44A1-AB3F-A3125379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138941-46A2-4975-A1F7-AEF44E47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F162A8-CE61-4EB6-9C73-A340CB54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0039F-1C1A-4A73-934C-B37ABD27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A266F-08F5-40C1-9361-09B2525A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401DC7-D4C0-4D70-9F7B-99EFC1D4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B32C55-4B7E-41E9-A8B0-7DA3B15E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90573E-23AC-4A18-811B-CC89B33F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8C87B-9CAA-4183-A951-01DD58C8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CD4A56-5730-4ABD-A5B9-1B28E97CBB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02DF6-A778-44A8-B1F6-9D15A5CEFB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12643-4573-459A-B64C-62DEC083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8FD94-E7D5-41E4-8B01-70072FBB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387E7-AB36-456D-BDA3-0F5B4071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D0EF3-2E7A-43BD-88B5-ED08C81B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D1969-B396-4945-AA8E-E5958C1F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CABB1-112E-4676-BCE7-D5603C35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6BBFD-66E9-4742-B13E-D32F1846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E1F34-FBA8-4DF8-AB3B-1CC5BCF0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B3235-4745-4AA0-A986-C721D444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46353-4BB9-4F50-9BF1-3495760E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96583-C89F-458A-B06E-0999EB02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AF33E-E5FA-41D7-A311-34B59D24EE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6A2321-8EEC-4C84-8194-A684FC13EF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8FA2D4-1BB0-4149-9379-0202D555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6F0F00-D2F5-489B-BF33-47425285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15627-2DFD-4B98-8E2A-A452AE51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2E98AF-6202-4748-91F5-7C3996F4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FFC510-1B63-427E-9033-C8F54D62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DC6FDD-73D0-4615-B1CB-4B01940F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D4BD54-FAA8-4D0B-B325-D2567FBF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A152EE-4D29-415C-AF0B-171CDB94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ECC7A2-6F93-45D3-8556-0D16FF63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53B433-B3CD-47BD-8BAF-0B2BA6B7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C8C98F-203C-4AB8-A71C-0F35E945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2BA934-A782-4D0F-976C-8BC545AD16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2B2256F-4D3F-4CAB-ADF2-DFC96E3C8D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3CCAB-9A2E-4330-8029-CA793F53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9A4FC88-2B6F-4779-8E0D-09072BF3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853440B-DE69-4430-9F16-516BE72A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7594950-C8D4-473A-8BBC-0EB1B131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FBE3302-EA65-4E52-9911-32DC1027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FA01DA2-14E8-4624-8F59-C090F24A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890540D-A86F-4178-99F9-F212233D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A5E66A6-A5AA-4CDB-BC84-BF06B05E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385DCD-34A9-4902-B462-A35E9017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325A2BB-8006-45E9-BBA7-BE55B32E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87141C8-77A4-48B9-8B9F-40B95FB7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E3D78-3020-41D7-ACC2-DFB52F2310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81C01B8-69EE-48CD-92D3-DB50A0DDB7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4AA07A-9AF6-40D4-8C01-34EC6FE3DE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565887-6DD2-4203-818F-54B186A4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E4BA0D-A580-4BA1-9C12-5D6411A7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FCAD59-F6E4-4336-885C-F75E04B9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08EF1E-2A2E-49D6-9B0E-697639D0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EFB539-5C0A-4282-865D-F5A6C616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A91B55-16CA-4277-AC1F-653A384B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7B776B-D312-4BAF-BF81-FE86F633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AAAAFD-185B-4A19-833B-B9C67DF4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B421-EB99-46C0-A68F-AA212300FE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840A44-D8F1-48D5-972D-55A64816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CA62A0-5BFA-4C07-A39F-A8796E6A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6D8660-72C8-4D37-9A4A-7B67BE4858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0AA84B4-CA00-405E-BEE2-2FEFE3CC7E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4A716C-FA84-437D-B2EE-93547474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2D4302-30C6-4EF4-82F3-B74A0E35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94ABB3-3E43-4AD5-9E1B-EB4CF16E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9E82DF-90B7-4963-ACC2-69DA780D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9A5233E-E9E4-47D2-9376-6E812DAE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555166E-98DD-4306-A576-0BB3FDFE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6695-C2C8-41B6-A58F-A29284EA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F9D24B4-1DA3-464D-8AA1-94065A05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A3BBE4-74B6-433A-AA7D-09F3A500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DE5CDF8-CA39-4689-9DD1-83A2F25E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DFFD1F0-1CB8-4D5D-844D-93AC72F8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37B479-2DE4-4BAB-B95B-BB0DF6BB98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83DBD16-1C0A-4810-B41F-27931194F1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159CE9B-5359-44AE-B3FC-FECAF55B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F7EDBE7-8371-4480-A6B0-55FD77B8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25230FB-09D6-4211-B5E6-F7AF4BBE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43EF2EF-7CED-440A-AE55-3C8BFF5B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3393-FDCB-4109-B815-10FBC3AC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111B34D-A927-4AA9-925F-3EE1BE97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5AD8574-D861-4411-9F8E-D7889332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E7BB336-49E0-4141-B8B1-8F89AC07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F175C3A-E54E-49D7-8101-025517F1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FC8B9AF-FA33-4181-8E3B-A9F07C73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48BD4FF-910B-4730-A5CD-A8D8EC01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FE3E206-4725-4F0E-9FFE-40AC4A571C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E0B97C-5DE4-4AC7-A1C1-76E1BB4A4C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B8DEB5-C06E-42C9-8BB8-C1833D0F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4C470E-5576-44A4-8A6D-7B74BA13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2919-80E9-4F06-9603-58A3483C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5B5201-7F1C-4D6E-A828-478D6958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86A451-A5A9-4C87-91E1-26852F14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52EB83-6526-473F-B7BB-72B93254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9675D4-5D6F-4D29-8925-1123674D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20E694-71AF-47A1-8107-19BA5FC4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89674E-9BA9-4ECC-A18B-57AB3CBD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1431DE-35A9-4069-A77D-06AC973A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936F38-66AB-42A3-8B1B-1C141169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D662F4-0B1D-4E23-B318-E0FCF090DC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C6BB-E2E7-45BD-9C49-A2D906F4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CEB3A-1BE3-4137-82F5-D4764AAB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078E-499E-45AB-A1A1-E78A4A3A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5960-21FA-4B9C-8237-DBB9FF8C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6ECB-C0EF-45E0-B197-7566CF2A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637A-1119-4DDE-9E33-3165DD40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D75B-2881-4F07-BB45-F9656C29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43F4-49E8-4C28-82BF-6190FDB8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3CFE-24B6-48EB-86DA-904588BE47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6B2FCD-A4F5-4C3D-94C8-39D28A0FCE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33EC4-93A8-4682-AFC4-AD41E9B8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687295-E332-4212-9482-39C2FEDF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5ECF9-3F18-4772-AF2B-FFAECA27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7BDA31-DAF1-421C-BF97-760FC832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BCF24-7B67-40DD-90EE-903DB10A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F8CB0B-613F-44BF-8C80-26DD389E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1B022-4B86-491B-B642-B8555E62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91908F-71C4-4D51-9790-508622D7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2AFE2-3B51-4830-8362-005A6CD2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1B45E-2EA5-4339-B115-2CE9ECE1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66DC80-9EBD-4660-8F76-B293112C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528B3-F063-4107-AE3E-77DED5B217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1C3149-54BE-422E-BCC2-707C6C325E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F6991-6863-4F7A-AF70-ED6D43AC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433474-EE0A-4DAA-BB17-B39F075F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94CA70-BD6B-4F27-BA38-E523086B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49A0D9-A256-4F21-B1EB-452BC4C3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78A30F-9254-4183-9AD5-9413F70D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E5F242-0F06-44F1-88A5-1E767BAA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FFB2D3-7A48-47A9-B975-47E0B2A7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7C2F3B-42AB-45B2-A16A-81F9714A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4F58B6-E80B-4B1E-96BB-856542ED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C00C58-EC97-42E8-85A6-B3DC1BB6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0779B5-E24D-4B97-A613-C0739C95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E58A9-E931-48C1-B318-3E8738E2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EE176F-8661-4914-B940-75C6A102CA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A5DCF-233C-44EA-B140-D00EF956F1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1D270-C8B3-4853-B817-E011E9BA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61A09-C030-40FC-946D-3E5FDF3A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8C1B6-47DC-44E3-9400-891C44CB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F5709-F5CB-4144-970B-3D2DFDDC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9544E-6496-4AB9-9725-0AC73832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A5EFC-7DB8-4CA6-BBA9-DDC68A03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379BC-75C8-4432-A907-393C04F3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4D9EA-DE73-42CB-BCAF-FC6421E4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4A9D2-AB1D-47E2-990F-2F9B7BE0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8DCA0-F535-4BCF-BCDB-272D6049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06BFB-39D0-49C8-AE0F-55318EF9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5C42F-733E-45BB-AB6D-C20821390F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BC1D7E-5A0C-4DFA-8EF3-12DC65887C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5B2F21-CFCB-4D9A-BB18-9098292D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09D19B-BB2E-4DB3-A9F4-194C368C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C4DAEA-CB2B-4AF4-AE9F-F9B56CE4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83A1DC-AADF-480D-9400-A0263F81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C9EE42-3DE8-4EE9-A6BA-44407BDB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8AB58-E5D6-45CB-AD20-84A37E53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080AD-8B79-4CA1-A155-EF5D38EC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AFC142-3856-4382-B70D-82E4F036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5010CA-9E1B-46FD-97BE-7B276C00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D94F4E-1849-47D6-9B5C-EC933E0C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61E9FF-A17F-47B3-8ABF-3CB0B85C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EDD49E-95E2-42A2-8735-0014CFA272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913C7D-3D36-4F89-8226-3BFAC4795B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9FF8AA-12B3-42DA-93E6-DCFADACB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068FF1-9DE1-4B48-8EFA-DE3F7194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FFA1D8-031A-45B9-892E-95414639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9E40DB-1059-43BA-B8E4-A13495A5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D3F6E-BAF7-4E16-9D4B-87412638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F7747D-60BD-456F-939F-4C1746BA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B885C9-D92E-42C8-BBA3-E56B3470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0651FD-81E6-405B-8CCA-12909A9F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628079-748F-43AF-BA18-9C8F23A0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CE7499-DBE9-4DDB-9E22-EABBD727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0C7350-6613-4CF5-801E-4791AD95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19EBD7-B9F4-4743-B1D8-65B8DEC56F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4F0BE-149E-43FD-A9D4-661A7E3B51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24EF3-6CDE-4768-A107-3ABC8F02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74FF4-73E2-4BC6-B47D-FBE59859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17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8F842B-2F9E-41D0-8BFE-57631A247CF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3657600" y="624060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704196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F79823-2441-4E18-AE27-58300B0C6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3657600" y="624060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19"/>
          </p:nvPr>
        </p:nvSpPr>
        <p:spPr>
          <a:xfrm>
            <a:off x="11617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85A4F5-0D57-41CA-BDAA-6D0F5DB7E53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0"/>
          </p:nvPr>
        </p:nvSpPr>
        <p:spPr>
          <a:xfrm>
            <a:off x="704196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448586-BC68-477C-8914-0BDCB11AA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57600" y="624060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21"/>
          </p:nvPr>
        </p:nvSpPr>
        <p:spPr>
          <a:xfrm>
            <a:off x="11617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39D63D-54E7-41AF-BF27-DCC833F79BE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sldNum" idx="22"/>
          </p:nvPr>
        </p:nvSpPr>
        <p:spPr>
          <a:xfrm>
            <a:off x="704196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993CBA-36E0-4704-9A21-09AD67431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3657600" y="624060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3"/>
          </p:nvPr>
        </p:nvSpPr>
        <p:spPr>
          <a:xfrm>
            <a:off x="11617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347F5A-94AB-4BF2-90FB-468B593F422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B1032F-3F11-49FD-A5A0-08FFDD063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Text Box 11"/>
          <p:cNvSpPr/>
          <p:nvPr/>
        </p:nvSpPr>
        <p:spPr>
          <a:xfrm>
            <a:off x="3657600" y="624060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25"/>
          </p:nvPr>
        </p:nvSpPr>
        <p:spPr>
          <a:xfrm>
            <a:off x="11617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CE8265-AE7A-496B-BD88-B5C68A5C147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sldNum" idx="26"/>
          </p:nvPr>
        </p:nvSpPr>
        <p:spPr>
          <a:xfrm>
            <a:off x="704196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F22BAE-32E8-425A-AB2B-6E0590815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628" name="Group 2"/>
            <p:cNvGrpSpPr/>
            <p:nvPr/>
          </p:nvGrpSpPr>
          <p:grpSpPr>
            <a:xfrm>
              <a:off x="293400" y="2545920"/>
              <a:ext cx="710280" cy="472320"/>
              <a:chOff x="293400" y="2545920"/>
              <a:chExt cx="710280" cy="472320"/>
            </a:xfrm>
          </p:grpSpPr>
          <p:sp>
            <p:nvSpPr>
              <p:cNvPr id="629" name="Rectangle 3"/>
              <p:cNvSpPr/>
              <p:nvPr/>
            </p:nvSpPr>
            <p:spPr>
              <a:xfrm>
                <a:off x="29340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0" name="Rectangle 4"/>
              <p:cNvSpPr/>
              <p:nvPr/>
            </p:nvSpPr>
            <p:spPr>
              <a:xfrm>
                <a:off x="67608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31" name="Group 5"/>
            <p:cNvGrpSpPr/>
            <p:nvPr/>
          </p:nvGrpSpPr>
          <p:grpSpPr>
            <a:xfrm>
              <a:off x="417240" y="2967480"/>
              <a:ext cx="737640" cy="472320"/>
              <a:chOff x="417240" y="2967480"/>
              <a:chExt cx="737640" cy="472320"/>
            </a:xfrm>
          </p:grpSpPr>
          <p:sp>
            <p:nvSpPr>
              <p:cNvPr id="632" name="Rectangle 6"/>
              <p:cNvSpPr/>
              <p:nvPr/>
            </p:nvSpPr>
            <p:spPr>
              <a:xfrm>
                <a:off x="417240" y="2967480"/>
                <a:ext cx="42084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3" name="Rectangle 7"/>
              <p:cNvSpPr/>
              <p:nvPr/>
            </p:nvSpPr>
            <p:spPr>
              <a:xfrm>
                <a:off x="785880" y="2967480"/>
                <a:ext cx="3690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34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5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6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7" name="Text Box 14"/>
          <p:cNvSpPr/>
          <p:nvPr/>
        </p:nvSpPr>
        <p:spPr>
          <a:xfrm>
            <a:off x="3429000" y="624528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dt" idx="27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C097F59-2D46-4692-824B-A731CEC1976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sldNum" idx="28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1972BB-B7EB-4D4B-9F2B-5F7374C42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679" name="Group 2"/>
            <p:cNvGrpSpPr/>
            <p:nvPr/>
          </p:nvGrpSpPr>
          <p:grpSpPr>
            <a:xfrm>
              <a:off x="293400" y="2545920"/>
              <a:ext cx="710280" cy="472320"/>
              <a:chOff x="293400" y="2545920"/>
              <a:chExt cx="710280" cy="472320"/>
            </a:xfrm>
          </p:grpSpPr>
          <p:sp>
            <p:nvSpPr>
              <p:cNvPr id="680" name="Rectangle 3"/>
              <p:cNvSpPr/>
              <p:nvPr/>
            </p:nvSpPr>
            <p:spPr>
              <a:xfrm>
                <a:off x="29340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1" name="Rectangle 4"/>
              <p:cNvSpPr/>
              <p:nvPr/>
            </p:nvSpPr>
            <p:spPr>
              <a:xfrm>
                <a:off x="67608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82" name="Group 5"/>
            <p:cNvGrpSpPr/>
            <p:nvPr/>
          </p:nvGrpSpPr>
          <p:grpSpPr>
            <a:xfrm>
              <a:off x="417240" y="2967480"/>
              <a:ext cx="737640" cy="472320"/>
              <a:chOff x="417240" y="2967480"/>
              <a:chExt cx="737640" cy="472320"/>
            </a:xfrm>
          </p:grpSpPr>
          <p:sp>
            <p:nvSpPr>
              <p:cNvPr id="683" name="Rectangle 6"/>
              <p:cNvSpPr/>
              <p:nvPr/>
            </p:nvSpPr>
            <p:spPr>
              <a:xfrm>
                <a:off x="417240" y="2967480"/>
                <a:ext cx="42084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4" name="Rectangle 7"/>
              <p:cNvSpPr/>
              <p:nvPr/>
            </p:nvSpPr>
            <p:spPr>
              <a:xfrm>
                <a:off x="785880" y="2967480"/>
                <a:ext cx="3690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85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6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7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8" name="Text Box 14"/>
          <p:cNvSpPr/>
          <p:nvPr/>
        </p:nvSpPr>
        <p:spPr>
          <a:xfrm>
            <a:off x="3429000" y="624528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29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595BAE8-8DDA-4A3C-8DF5-8B85973E72C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sldNum" idx="30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8E063A-E7E2-4C9E-BE99-6F9EC6B5D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730" name="Group 2"/>
            <p:cNvGrpSpPr/>
            <p:nvPr/>
          </p:nvGrpSpPr>
          <p:grpSpPr>
            <a:xfrm>
              <a:off x="293400" y="2545920"/>
              <a:ext cx="710280" cy="472320"/>
              <a:chOff x="293400" y="2545920"/>
              <a:chExt cx="710280" cy="472320"/>
            </a:xfrm>
          </p:grpSpPr>
          <p:sp>
            <p:nvSpPr>
              <p:cNvPr id="731" name="Rectangle 3"/>
              <p:cNvSpPr/>
              <p:nvPr/>
            </p:nvSpPr>
            <p:spPr>
              <a:xfrm>
                <a:off x="29340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2" name="Rectangle 4"/>
              <p:cNvSpPr/>
              <p:nvPr/>
            </p:nvSpPr>
            <p:spPr>
              <a:xfrm>
                <a:off x="67608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33" name="Group 5"/>
            <p:cNvGrpSpPr/>
            <p:nvPr/>
          </p:nvGrpSpPr>
          <p:grpSpPr>
            <a:xfrm>
              <a:off x="417240" y="2967480"/>
              <a:ext cx="737640" cy="472320"/>
              <a:chOff x="417240" y="2967480"/>
              <a:chExt cx="737640" cy="472320"/>
            </a:xfrm>
          </p:grpSpPr>
          <p:sp>
            <p:nvSpPr>
              <p:cNvPr id="734" name="Rectangle 6"/>
              <p:cNvSpPr/>
              <p:nvPr/>
            </p:nvSpPr>
            <p:spPr>
              <a:xfrm>
                <a:off x="417240" y="2967480"/>
                <a:ext cx="42084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5" name="Rectangle 7"/>
              <p:cNvSpPr/>
              <p:nvPr/>
            </p:nvSpPr>
            <p:spPr>
              <a:xfrm>
                <a:off x="785880" y="2967480"/>
                <a:ext cx="3690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36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7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8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39" name="Text Box 14"/>
          <p:cNvSpPr/>
          <p:nvPr/>
        </p:nvSpPr>
        <p:spPr>
          <a:xfrm>
            <a:off x="3429000" y="624528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31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12EDD72-DC4E-4DAA-93D4-B9C1F530C36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sldNum" idx="32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55AC74-C9AB-4638-ABBE-182A46E4A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781" name="Group 2"/>
            <p:cNvGrpSpPr/>
            <p:nvPr/>
          </p:nvGrpSpPr>
          <p:grpSpPr>
            <a:xfrm>
              <a:off x="293400" y="2545920"/>
              <a:ext cx="710280" cy="472320"/>
              <a:chOff x="293400" y="2545920"/>
              <a:chExt cx="710280" cy="472320"/>
            </a:xfrm>
          </p:grpSpPr>
          <p:sp>
            <p:nvSpPr>
              <p:cNvPr id="782" name="Rectangle 3"/>
              <p:cNvSpPr/>
              <p:nvPr/>
            </p:nvSpPr>
            <p:spPr>
              <a:xfrm>
                <a:off x="29340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Rectangle 4"/>
              <p:cNvSpPr/>
              <p:nvPr/>
            </p:nvSpPr>
            <p:spPr>
              <a:xfrm>
                <a:off x="67608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84" name="Group 5"/>
            <p:cNvGrpSpPr/>
            <p:nvPr/>
          </p:nvGrpSpPr>
          <p:grpSpPr>
            <a:xfrm>
              <a:off x="417240" y="2967480"/>
              <a:ext cx="737640" cy="472320"/>
              <a:chOff x="417240" y="2967480"/>
              <a:chExt cx="737640" cy="472320"/>
            </a:xfrm>
          </p:grpSpPr>
          <p:sp>
            <p:nvSpPr>
              <p:cNvPr id="785" name="Rectangle 6"/>
              <p:cNvSpPr/>
              <p:nvPr/>
            </p:nvSpPr>
            <p:spPr>
              <a:xfrm>
                <a:off x="417240" y="2967480"/>
                <a:ext cx="42084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6" name="Rectangle 7"/>
              <p:cNvSpPr/>
              <p:nvPr/>
            </p:nvSpPr>
            <p:spPr>
              <a:xfrm>
                <a:off x="785880" y="2967480"/>
                <a:ext cx="3690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87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8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9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0" name="Text Box 14"/>
          <p:cNvSpPr/>
          <p:nvPr/>
        </p:nvSpPr>
        <p:spPr>
          <a:xfrm>
            <a:off x="3429000" y="624528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33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6E1735A-069F-4A3D-B167-6B0FC02CE42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sldNum" idx="34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DBA2E0-885D-464B-A255-EFFA61163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832" name="Group 2"/>
            <p:cNvGrpSpPr/>
            <p:nvPr/>
          </p:nvGrpSpPr>
          <p:grpSpPr>
            <a:xfrm>
              <a:off x="293400" y="2545920"/>
              <a:ext cx="710280" cy="472320"/>
              <a:chOff x="293400" y="2545920"/>
              <a:chExt cx="710280" cy="472320"/>
            </a:xfrm>
          </p:grpSpPr>
          <p:sp>
            <p:nvSpPr>
              <p:cNvPr id="833" name="Rectangle 3"/>
              <p:cNvSpPr/>
              <p:nvPr/>
            </p:nvSpPr>
            <p:spPr>
              <a:xfrm>
                <a:off x="29340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4" name="Rectangle 4"/>
              <p:cNvSpPr/>
              <p:nvPr/>
            </p:nvSpPr>
            <p:spPr>
              <a:xfrm>
                <a:off x="67608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35" name="Group 5"/>
            <p:cNvGrpSpPr/>
            <p:nvPr/>
          </p:nvGrpSpPr>
          <p:grpSpPr>
            <a:xfrm>
              <a:off x="417240" y="2967480"/>
              <a:ext cx="737640" cy="472320"/>
              <a:chOff x="417240" y="2967480"/>
              <a:chExt cx="737640" cy="472320"/>
            </a:xfrm>
          </p:grpSpPr>
          <p:sp>
            <p:nvSpPr>
              <p:cNvPr id="836" name="Rectangle 6"/>
              <p:cNvSpPr/>
              <p:nvPr/>
            </p:nvSpPr>
            <p:spPr>
              <a:xfrm>
                <a:off x="417240" y="2967480"/>
                <a:ext cx="42084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7" name="Rectangle 7"/>
              <p:cNvSpPr/>
              <p:nvPr/>
            </p:nvSpPr>
            <p:spPr>
              <a:xfrm>
                <a:off x="785880" y="2967480"/>
                <a:ext cx="3690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38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9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41" name="Text Box 14"/>
          <p:cNvSpPr/>
          <p:nvPr/>
        </p:nvSpPr>
        <p:spPr>
          <a:xfrm>
            <a:off x="3429000" y="624528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35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D8D93DD-FB64-493A-8705-CEC04375F66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sldNum" idx="3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FE39E9-9FFF-437F-81BC-1CE28D4F5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883" name="Group 2"/>
            <p:cNvGrpSpPr/>
            <p:nvPr/>
          </p:nvGrpSpPr>
          <p:grpSpPr>
            <a:xfrm>
              <a:off x="293400" y="2545920"/>
              <a:ext cx="710280" cy="472320"/>
              <a:chOff x="293400" y="2545920"/>
              <a:chExt cx="710280" cy="472320"/>
            </a:xfrm>
          </p:grpSpPr>
          <p:sp>
            <p:nvSpPr>
              <p:cNvPr id="884" name="Rectangle 3"/>
              <p:cNvSpPr/>
              <p:nvPr/>
            </p:nvSpPr>
            <p:spPr>
              <a:xfrm>
                <a:off x="29340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5" name="Rectangle 4"/>
              <p:cNvSpPr/>
              <p:nvPr/>
            </p:nvSpPr>
            <p:spPr>
              <a:xfrm>
                <a:off x="67608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86" name="Group 5"/>
            <p:cNvGrpSpPr/>
            <p:nvPr/>
          </p:nvGrpSpPr>
          <p:grpSpPr>
            <a:xfrm>
              <a:off x="417240" y="2967480"/>
              <a:ext cx="737640" cy="472320"/>
              <a:chOff x="417240" y="2967480"/>
              <a:chExt cx="737640" cy="472320"/>
            </a:xfrm>
          </p:grpSpPr>
          <p:sp>
            <p:nvSpPr>
              <p:cNvPr id="887" name="Rectangle 6"/>
              <p:cNvSpPr/>
              <p:nvPr/>
            </p:nvSpPr>
            <p:spPr>
              <a:xfrm>
                <a:off x="417240" y="2967480"/>
                <a:ext cx="42084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8" name="Rectangle 7"/>
              <p:cNvSpPr/>
              <p:nvPr/>
            </p:nvSpPr>
            <p:spPr>
              <a:xfrm>
                <a:off x="785880" y="2967480"/>
                <a:ext cx="3690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9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0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1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92" name="Text Box 14"/>
          <p:cNvSpPr/>
          <p:nvPr/>
        </p:nvSpPr>
        <p:spPr>
          <a:xfrm>
            <a:off x="3429000" y="624528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7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3E6C627-FA8C-4B7F-90A0-24ECA899EB7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sldNum" idx="38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0B7307-96F3-4C2D-BCBA-9229C66A9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9" name="Group 2"/>
            <p:cNvGrpSpPr/>
            <p:nvPr/>
          </p:nvGrpSpPr>
          <p:grpSpPr>
            <a:xfrm>
              <a:off x="293400" y="2545920"/>
              <a:ext cx="710280" cy="472320"/>
              <a:chOff x="293400" y="2545920"/>
              <a:chExt cx="710280" cy="47232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29340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>
                <a:off x="67608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5"/>
            <p:cNvGrpSpPr/>
            <p:nvPr/>
          </p:nvGrpSpPr>
          <p:grpSpPr>
            <a:xfrm>
              <a:off x="417240" y="2967480"/>
              <a:ext cx="737640" cy="472320"/>
              <a:chOff x="417240" y="2967480"/>
              <a:chExt cx="737640" cy="472320"/>
            </a:xfrm>
          </p:grpSpPr>
          <p:sp>
            <p:nvSpPr>
              <p:cNvPr id="53" name="Rectangle 6"/>
              <p:cNvSpPr/>
              <p:nvPr/>
            </p:nvSpPr>
            <p:spPr>
              <a:xfrm>
                <a:off x="417240" y="2967480"/>
                <a:ext cx="42084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7"/>
              <p:cNvSpPr/>
              <p:nvPr/>
            </p:nvSpPr>
            <p:spPr>
              <a:xfrm>
                <a:off x="785880" y="2967480"/>
                <a:ext cx="3690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3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F46D46C-6F5B-4443-B7D8-4A9EC8E0425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429000" y="624528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4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33C2EB-9B8B-4924-A80F-9E7CDAB5F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3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934" name="Group 2"/>
            <p:cNvGrpSpPr/>
            <p:nvPr/>
          </p:nvGrpSpPr>
          <p:grpSpPr>
            <a:xfrm>
              <a:off x="293400" y="2545920"/>
              <a:ext cx="710280" cy="472320"/>
              <a:chOff x="293400" y="2545920"/>
              <a:chExt cx="710280" cy="472320"/>
            </a:xfrm>
          </p:grpSpPr>
          <p:sp>
            <p:nvSpPr>
              <p:cNvPr id="935" name="Rectangle 3"/>
              <p:cNvSpPr/>
              <p:nvPr/>
            </p:nvSpPr>
            <p:spPr>
              <a:xfrm>
                <a:off x="29340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6" name="Rectangle 4"/>
              <p:cNvSpPr/>
              <p:nvPr/>
            </p:nvSpPr>
            <p:spPr>
              <a:xfrm>
                <a:off x="67608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37" name="Group 5"/>
            <p:cNvGrpSpPr/>
            <p:nvPr/>
          </p:nvGrpSpPr>
          <p:grpSpPr>
            <a:xfrm>
              <a:off x="417240" y="2967480"/>
              <a:ext cx="737640" cy="472320"/>
              <a:chOff x="417240" y="2967480"/>
              <a:chExt cx="737640" cy="472320"/>
            </a:xfrm>
          </p:grpSpPr>
          <p:sp>
            <p:nvSpPr>
              <p:cNvPr id="938" name="Rectangle 6"/>
              <p:cNvSpPr/>
              <p:nvPr/>
            </p:nvSpPr>
            <p:spPr>
              <a:xfrm>
                <a:off x="417240" y="2967480"/>
                <a:ext cx="42084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9" name="Rectangle 7"/>
              <p:cNvSpPr/>
              <p:nvPr/>
            </p:nvSpPr>
            <p:spPr>
              <a:xfrm>
                <a:off x="785880" y="2967480"/>
                <a:ext cx="3690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40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1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2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43" name="Text Box 14"/>
          <p:cNvSpPr/>
          <p:nvPr/>
        </p:nvSpPr>
        <p:spPr>
          <a:xfrm>
            <a:off x="3429000" y="624528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39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E3BC35D-86A0-4043-AB93-751F1F88288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sldNum" idx="40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833589-FF86-427F-9FA3-6C235792A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985" name="Group 2"/>
            <p:cNvGrpSpPr/>
            <p:nvPr/>
          </p:nvGrpSpPr>
          <p:grpSpPr>
            <a:xfrm>
              <a:off x="293400" y="2545920"/>
              <a:ext cx="710280" cy="472320"/>
              <a:chOff x="293400" y="2545920"/>
              <a:chExt cx="710280" cy="472320"/>
            </a:xfrm>
          </p:grpSpPr>
          <p:sp>
            <p:nvSpPr>
              <p:cNvPr id="986" name="Rectangle 3"/>
              <p:cNvSpPr/>
              <p:nvPr/>
            </p:nvSpPr>
            <p:spPr>
              <a:xfrm>
                <a:off x="29340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7" name="Rectangle 4"/>
              <p:cNvSpPr/>
              <p:nvPr/>
            </p:nvSpPr>
            <p:spPr>
              <a:xfrm>
                <a:off x="67608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88" name="Group 5"/>
            <p:cNvGrpSpPr/>
            <p:nvPr/>
          </p:nvGrpSpPr>
          <p:grpSpPr>
            <a:xfrm>
              <a:off x="417240" y="2967480"/>
              <a:ext cx="737640" cy="472320"/>
              <a:chOff x="417240" y="2967480"/>
              <a:chExt cx="737640" cy="472320"/>
            </a:xfrm>
          </p:grpSpPr>
          <p:sp>
            <p:nvSpPr>
              <p:cNvPr id="989" name="Rectangle 6"/>
              <p:cNvSpPr/>
              <p:nvPr/>
            </p:nvSpPr>
            <p:spPr>
              <a:xfrm>
                <a:off x="417240" y="2967480"/>
                <a:ext cx="42084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0" name="Rectangle 7"/>
              <p:cNvSpPr/>
              <p:nvPr/>
            </p:nvSpPr>
            <p:spPr>
              <a:xfrm>
                <a:off x="785880" y="2967480"/>
                <a:ext cx="3690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91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2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94" name="Text Box 14"/>
          <p:cNvSpPr/>
          <p:nvPr/>
        </p:nvSpPr>
        <p:spPr>
          <a:xfrm>
            <a:off x="3429000" y="624528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dt" idx="41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F7996D9-1651-4046-9D85-EEF5D0ABBF1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sldNum" idx="42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99EFCD-576C-49A3-9D44-59643FAB6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5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1036" name="Group 2"/>
            <p:cNvGrpSpPr/>
            <p:nvPr/>
          </p:nvGrpSpPr>
          <p:grpSpPr>
            <a:xfrm>
              <a:off x="293400" y="2545920"/>
              <a:ext cx="710280" cy="472320"/>
              <a:chOff x="293400" y="2545920"/>
              <a:chExt cx="710280" cy="472320"/>
            </a:xfrm>
          </p:grpSpPr>
          <p:sp>
            <p:nvSpPr>
              <p:cNvPr id="1037" name="Rectangle 3"/>
              <p:cNvSpPr/>
              <p:nvPr/>
            </p:nvSpPr>
            <p:spPr>
              <a:xfrm>
                <a:off x="29340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8" name="Rectangle 4"/>
              <p:cNvSpPr/>
              <p:nvPr/>
            </p:nvSpPr>
            <p:spPr>
              <a:xfrm>
                <a:off x="67608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039" name="Group 5"/>
            <p:cNvGrpSpPr/>
            <p:nvPr/>
          </p:nvGrpSpPr>
          <p:grpSpPr>
            <a:xfrm>
              <a:off x="417240" y="2967480"/>
              <a:ext cx="737640" cy="472320"/>
              <a:chOff x="417240" y="2967480"/>
              <a:chExt cx="737640" cy="472320"/>
            </a:xfrm>
          </p:grpSpPr>
          <p:sp>
            <p:nvSpPr>
              <p:cNvPr id="1040" name="Rectangle 6"/>
              <p:cNvSpPr/>
              <p:nvPr/>
            </p:nvSpPr>
            <p:spPr>
              <a:xfrm>
                <a:off x="417240" y="2967480"/>
                <a:ext cx="42084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1" name="Rectangle 7"/>
              <p:cNvSpPr/>
              <p:nvPr/>
            </p:nvSpPr>
            <p:spPr>
              <a:xfrm>
                <a:off x="785880" y="2967480"/>
                <a:ext cx="3690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42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3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4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45" name="Text Box 14"/>
          <p:cNvSpPr/>
          <p:nvPr/>
        </p:nvSpPr>
        <p:spPr>
          <a:xfrm>
            <a:off x="3429000" y="624528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 type="dt" idx="43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DADF09E-3B74-411D-BE77-0FE8142816B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 type="sldNum" idx="44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6FE240-9A85-4AD2-93F4-6A101C99E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1087" name="Group 2"/>
            <p:cNvGrpSpPr/>
            <p:nvPr/>
          </p:nvGrpSpPr>
          <p:grpSpPr>
            <a:xfrm>
              <a:off x="293400" y="2545920"/>
              <a:ext cx="710280" cy="472320"/>
              <a:chOff x="293400" y="2545920"/>
              <a:chExt cx="710280" cy="472320"/>
            </a:xfrm>
          </p:grpSpPr>
          <p:sp>
            <p:nvSpPr>
              <p:cNvPr id="1088" name="Rectangle 3"/>
              <p:cNvSpPr/>
              <p:nvPr/>
            </p:nvSpPr>
            <p:spPr>
              <a:xfrm>
                <a:off x="29340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9" name="Rectangle 4"/>
              <p:cNvSpPr/>
              <p:nvPr/>
            </p:nvSpPr>
            <p:spPr>
              <a:xfrm>
                <a:off x="67608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090" name="Group 5"/>
            <p:cNvGrpSpPr/>
            <p:nvPr/>
          </p:nvGrpSpPr>
          <p:grpSpPr>
            <a:xfrm>
              <a:off x="417240" y="2967480"/>
              <a:ext cx="737640" cy="472320"/>
              <a:chOff x="417240" y="2967480"/>
              <a:chExt cx="737640" cy="472320"/>
            </a:xfrm>
          </p:grpSpPr>
          <p:sp>
            <p:nvSpPr>
              <p:cNvPr id="1091" name="Rectangle 6"/>
              <p:cNvSpPr/>
              <p:nvPr/>
            </p:nvSpPr>
            <p:spPr>
              <a:xfrm>
                <a:off x="417240" y="2967480"/>
                <a:ext cx="42084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2" name="Rectangle 7"/>
              <p:cNvSpPr/>
              <p:nvPr/>
            </p:nvSpPr>
            <p:spPr>
              <a:xfrm>
                <a:off x="785880" y="2967480"/>
                <a:ext cx="3690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93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4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5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96" name="Text Box 14"/>
          <p:cNvSpPr/>
          <p:nvPr/>
        </p:nvSpPr>
        <p:spPr>
          <a:xfrm>
            <a:off x="3429000" y="624528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45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E926D09-B495-48D5-86D1-2A85A7B2651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sldNum" idx="4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492929-4572-4430-B56A-ADCF0019F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7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1138" name="Group 2"/>
            <p:cNvGrpSpPr/>
            <p:nvPr/>
          </p:nvGrpSpPr>
          <p:grpSpPr>
            <a:xfrm>
              <a:off x="293400" y="2545920"/>
              <a:ext cx="710280" cy="472320"/>
              <a:chOff x="293400" y="2545920"/>
              <a:chExt cx="710280" cy="472320"/>
            </a:xfrm>
          </p:grpSpPr>
          <p:sp>
            <p:nvSpPr>
              <p:cNvPr id="1139" name="Rectangle 3"/>
              <p:cNvSpPr/>
              <p:nvPr/>
            </p:nvSpPr>
            <p:spPr>
              <a:xfrm>
                <a:off x="29340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0" name="Rectangle 4"/>
              <p:cNvSpPr/>
              <p:nvPr/>
            </p:nvSpPr>
            <p:spPr>
              <a:xfrm>
                <a:off x="67608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41" name="Group 5"/>
            <p:cNvGrpSpPr/>
            <p:nvPr/>
          </p:nvGrpSpPr>
          <p:grpSpPr>
            <a:xfrm>
              <a:off x="417240" y="2967480"/>
              <a:ext cx="737640" cy="472320"/>
              <a:chOff x="417240" y="2967480"/>
              <a:chExt cx="737640" cy="472320"/>
            </a:xfrm>
          </p:grpSpPr>
          <p:sp>
            <p:nvSpPr>
              <p:cNvPr id="1142" name="Rectangle 6"/>
              <p:cNvSpPr/>
              <p:nvPr/>
            </p:nvSpPr>
            <p:spPr>
              <a:xfrm>
                <a:off x="417240" y="2967480"/>
                <a:ext cx="42084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3" name="Rectangle 7"/>
              <p:cNvSpPr/>
              <p:nvPr/>
            </p:nvSpPr>
            <p:spPr>
              <a:xfrm>
                <a:off x="785880" y="2967480"/>
                <a:ext cx="3690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44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5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6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47" name="Text Box 14"/>
          <p:cNvSpPr/>
          <p:nvPr/>
        </p:nvSpPr>
        <p:spPr>
          <a:xfrm>
            <a:off x="3429000" y="624528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47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7A9973B-32B1-4BAA-B2E9-93199989A99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sldNum" idx="48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AFB7D6-DFA7-4062-83B9-C6D0F1E79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657600" y="624060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5"/>
          </p:nvPr>
        </p:nvSpPr>
        <p:spPr>
          <a:xfrm>
            <a:off x="11617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D8D5DF-3D1C-4391-9DBC-09F00A720CE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B684C0-506B-4539-BA48-A77B887C7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3657600" y="624060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11617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D95A90-324E-4877-BCCE-D2093B5F009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704196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397863-CB61-4715-A436-2B91946F7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3657600" y="624060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9"/>
          </p:nvPr>
        </p:nvSpPr>
        <p:spPr>
          <a:xfrm>
            <a:off x="11617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AC50C6-0807-4BAF-9BFB-8E0014945E0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0"/>
          </p:nvPr>
        </p:nvSpPr>
        <p:spPr>
          <a:xfrm>
            <a:off x="704196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5F9A6D-1C5D-48FA-B1EB-0EAAF561E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3657600" y="624060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1"/>
          </p:nvPr>
        </p:nvSpPr>
        <p:spPr>
          <a:xfrm>
            <a:off x="11617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F74192-D240-4205-9D08-16B8AB2CA24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73D349-4DE4-4E31-B1E8-78B40CEA4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3657600" y="624060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3"/>
          </p:nvPr>
        </p:nvSpPr>
        <p:spPr>
          <a:xfrm>
            <a:off x="11617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38D624-B238-4B14-A55A-62C6E528962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4"/>
          </p:nvPr>
        </p:nvSpPr>
        <p:spPr>
          <a:xfrm>
            <a:off x="704196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7D9A4D-44B4-4298-BA86-3A1FD7C2C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3657600" y="624060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5"/>
          </p:nvPr>
        </p:nvSpPr>
        <p:spPr>
          <a:xfrm>
            <a:off x="11617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0A2641-8845-4033-8ECA-586D3E14BE3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sldNum" idx="16"/>
          </p:nvPr>
        </p:nvSpPr>
        <p:spPr>
          <a:xfrm>
            <a:off x="704196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3418D7-5919-4343-8144-8222187A5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3657600" y="624060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7"/>
          </p:nvPr>
        </p:nvSpPr>
        <p:spPr>
          <a:xfrm>
            <a:off x="11617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D07B1A-B14B-4628-9CFE-BAB6F2B2DE0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B70C5A-CFBB-4201-ADCE-66FF7C6CC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1"/>
          <p:cNvSpPr/>
          <p:nvPr/>
        </p:nvSpPr>
        <p:spPr>
          <a:xfrm>
            <a:off x="826920" y="2421000"/>
            <a:ext cx="7848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re</a:t>
            </a:r>
            <a:r>
              <a:rPr b="1" lang="ro-RO" sz="4400" spc="-1" strike="noStrike">
                <a:solidFill>
                  <a:srgbClr val="333399"/>
                </a:solidFill>
                <a:latin typeface="Tahoma"/>
              </a:rPr>
              <a:t>şterea ș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Tahoma"/>
              </a:rPr>
              <a:t>dezvoltarea copiilor</a:t>
            </a:r>
            <a:br>
              <a:rPr sz="4400"/>
            </a:br>
            <a:br>
              <a:rPr sz="4400"/>
            </a:br>
            <a:r>
              <a:rPr b="1" lang="ro-RO" sz="4400" spc="-1" strike="noStrike">
                <a:solidFill>
                  <a:srgbClr val="333399"/>
                </a:solidFill>
                <a:latin typeface="Tahoma"/>
              </a:rPr>
              <a:t>Evaluarea nutriţională în perioada copilărie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Slide Number Placeholder 2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2B7A3B-5590-4229-A5BC-888019B73A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150560" y="258840"/>
            <a:ext cx="77929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alnutriţ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rimară: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ipsa alimentelo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ecundară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cţ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lamaţii cronice: boli autoimu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c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ecţiuni psih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diabet zaharat dezechilibr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90B859-F0F1-48C9-8406-DBF3D0AB5C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150560" y="258840"/>
            <a:ext cx="77929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onsecinţele creşterii asupra stării de sănătat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odificarea marcată a patternului de creştere are consecinţe importante asupra stării ulterioare de sănătate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eutate mică la naşte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risc crescut de boli cardiovasculare 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și DZ tip 2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ad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reştere accelerată în prima perioadă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risc crescut de obezitate şi DZ tip 2 la vârsta adult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6F0771-3C93-4861-BF57-4B4C7A3E54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242720" y="399600"/>
            <a:ext cx="779292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onitorizarea creşter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ăsurarea </a:t>
            </a: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periodică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greutăţii şi înălţimii şi generarea curbelor de creşte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0840" indent="-330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be de creştere (nomograme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8920" indent="-275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utate în funcţie de vârst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8920" indent="-275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înălţime în funcţie de vârst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8920" indent="-275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C în funcţie de vârst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8920" indent="-275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utate în funcţie de înălţ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F9ADB8-50E6-4D9A-A7A0-25A99C6209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/>
          </p:nvPr>
        </p:nvSpPr>
        <p:spPr>
          <a:xfrm>
            <a:off x="971640" y="1844280"/>
            <a:ext cx="798336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ttp://www.who.int/childgrowth/software/en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hro: 0-60 lu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hro plus: 5-19 a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D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specifice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anţa, Germania, U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title"/>
          </p:nvPr>
        </p:nvSpPr>
        <p:spPr>
          <a:xfrm>
            <a:off x="1150560" y="258840"/>
            <a:ext cx="77929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urbe de cre</a:t>
            </a:r>
            <a:r>
              <a:rPr b="1" lang="ro-RO" sz="4000" spc="-1" strike="noStrike">
                <a:solidFill>
                  <a:srgbClr val="333399"/>
                </a:solidFill>
                <a:latin typeface="Tahoma"/>
              </a:rPr>
              <a:t>ș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te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2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8A1D9D-08FA-4E07-9AB4-DC08DE0894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150560" y="258840"/>
            <a:ext cx="77929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xprimarea curbelor de creşter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centile:</a:t>
            </a: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valul normal- între percentila 5 şi 95 (3 şi 9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centila 50: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iaţii standard: +/- 2 DS de la med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or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F94570-DD0E-4E5B-8E90-6921595E5A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150560" y="258840"/>
            <a:ext cx="77929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urbe de cre</a:t>
            </a:r>
            <a:r>
              <a:rPr b="1" lang="ro-RO" sz="4400" spc="-1" strike="noStrike">
                <a:solidFill>
                  <a:srgbClr val="333399"/>
                </a:solidFill>
                <a:latin typeface="Tahoma"/>
              </a:rPr>
              <a:t>ș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re O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7" name="Picture 2" descr=""/>
          <p:cNvPicPr/>
          <p:nvPr/>
        </p:nvPicPr>
        <p:blipFill>
          <a:blip r:embed="rId1"/>
          <a:stretch/>
        </p:blipFill>
        <p:spPr>
          <a:xfrm>
            <a:off x="900000" y="1440000"/>
            <a:ext cx="7337520" cy="515124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C447C6-2EAC-48A3-A46A-A2F1F930E2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Picture 2" descr=""/>
          <p:cNvPicPr/>
          <p:nvPr/>
        </p:nvPicPr>
        <p:blipFill>
          <a:blip r:embed="rId1"/>
          <a:stretch/>
        </p:blipFill>
        <p:spPr>
          <a:xfrm>
            <a:off x="-6480" y="528480"/>
            <a:ext cx="9144000" cy="6234120"/>
          </a:xfrm>
          <a:prstGeom prst="rect">
            <a:avLst/>
          </a:prstGeom>
          <a:ln w="0">
            <a:noFill/>
          </a:ln>
        </p:spPr>
      </p:pic>
      <p:sp>
        <p:nvSpPr>
          <p:cNvPr id="1240" name="Slide Number Placeholder 2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7B416B-D41E-4991-8B74-6A295864BE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4000" spc="-1" strike="noStrike">
                <a:solidFill>
                  <a:srgbClr val="333399"/>
                </a:solidFill>
                <a:latin typeface="Tahoma"/>
              </a:rPr>
              <a:t>DEZVOLTAREA TUBULUI DIGESTIV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395280" y="1752480"/>
            <a:ext cx="8569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Dezvoltarea intrauterină a tubului digestiv – esenţială pt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uprav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ţu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Capacitatea de digestie și absorbț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Contactul cu patogenii externi </a:t>
            </a:r>
            <a:r>
              <a:rPr b="0" lang="ro-RO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→ m</a:t>
            </a: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atu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a sistemului im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608BCE-2E36-48E2-B05B-BACEA57BF8E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4400" spc="-1" strike="noStrike">
                <a:solidFill>
                  <a:srgbClr val="333399"/>
                </a:solidFill>
                <a:latin typeface="Tahoma"/>
              </a:rPr>
              <a:t>Funcţiile tubului digesti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566280" y="206064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Digest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Absorbţ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Secreţ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Barier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Apărarea imun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</a:t>
            </a: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ții endocr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6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97A49D-6CC5-4659-8E84-21D5CCEA8E0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600" spc="-1" strike="noStrike">
                <a:solidFill>
                  <a:srgbClr val="333399"/>
                </a:solidFill>
                <a:latin typeface="Tahoma"/>
              </a:rPr>
              <a:t>DEZVOLTAREA MORFOLOGICĂ A TUBULUI DIGESTIV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566640" y="2133720"/>
            <a:ext cx="825336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≈</a:t>
            </a: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3-3,5 m (term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Intestin subţire 250-300 c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Colon 30-40 c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Stomac 30 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Dezvoltare progresivă intrauterin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4 mm (săpt 4. de gestaţi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Plăci Peyer – din săpt. 16-18 de gestaţ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9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747378-C901-42C3-954C-E8744526623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Text Box 1"/>
          <p:cNvSpPr/>
          <p:nvPr/>
        </p:nvSpPr>
        <p:spPr>
          <a:xfrm>
            <a:off x="91440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4000" spc="-1" strike="noStrike">
                <a:solidFill>
                  <a:srgbClr val="333399"/>
                </a:solidFill>
                <a:latin typeface="Tahoma"/>
              </a:rPr>
              <a:t>Introduce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Text Box 2"/>
          <p:cNvSpPr/>
          <p:nvPr/>
        </p:nvSpPr>
        <p:spPr>
          <a:xfrm>
            <a:off x="395280" y="1916280"/>
            <a:ext cx="8424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Tahoma"/>
              </a:rPr>
              <a:t>Creşterea este caracteristica principală a perioadei copilăriei şi un indicator sensibil al statusului nutriţional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Tahoma"/>
              </a:rPr>
              <a:t>Devieri de la creşterea normală se asociază cu un risc crescut de boală atât pe termen scurt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o-RO" sz="2700" spc="-1" strike="noStrike">
                <a:solidFill>
                  <a:srgbClr val="000000"/>
                </a:solidFill>
                <a:latin typeface="Tahoma"/>
              </a:rPr>
              <a:t> cât şi pe termen lung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Tahoma"/>
              </a:rPr>
              <a:t>Monitorizarea creşterii este un instrument important în evaluar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o-RO" sz="2700" spc="-1" strike="noStrike">
                <a:solidFill>
                  <a:srgbClr val="000000"/>
                </a:solidFill>
                <a:latin typeface="Tahoma"/>
              </a:rPr>
              <a:t>a stării de sănătate a copiilor, mai ales în ţările în care nu există alte metode mai sofisticate de evaluare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2ED027-8124-4C7A-BBCE-EB2BE66FFA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600" spc="-1" strike="noStrike">
                <a:solidFill>
                  <a:srgbClr val="333399"/>
                </a:solidFill>
                <a:latin typeface="Tahoma"/>
              </a:rPr>
              <a:t>DEZVOLTAREA FUNCŢIONALĂ A TUBULUI DIGESTIV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A81F57-B276-4812-AEE9-E0AFA7F9C61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2" name="Picture 3" descr=""/>
          <p:cNvPicPr/>
          <p:nvPr/>
        </p:nvPicPr>
        <p:blipFill>
          <a:blip r:embed="rId1"/>
          <a:stretch/>
        </p:blipFill>
        <p:spPr>
          <a:xfrm>
            <a:off x="1455840" y="1714680"/>
            <a:ext cx="6045120" cy="50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600" spc="-1" strike="noStrike">
                <a:solidFill>
                  <a:srgbClr val="333399"/>
                </a:solidFill>
                <a:latin typeface="Tahoma"/>
              </a:rPr>
              <a:t>DEZVOLTAREA FUNCŢIONALĂ A TUBULUI DIGESTIV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B69AA1-3052-42BA-987E-EAD90AF139C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5" name="Picture 2" descr=""/>
          <p:cNvPicPr/>
          <p:nvPr/>
        </p:nvPicPr>
        <p:blipFill>
          <a:blip r:embed="rId1"/>
          <a:stretch/>
        </p:blipFill>
        <p:spPr>
          <a:xfrm>
            <a:off x="687240" y="1677960"/>
            <a:ext cx="75996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600" spc="-1" strike="noStrike">
                <a:solidFill>
                  <a:srgbClr val="333399"/>
                </a:solidFill>
                <a:latin typeface="Tahoma"/>
              </a:rPr>
              <a:t>DEZVOLTAREA FUNCŢIONALĂ A TUBULUI DIGESTIV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566280" y="1989000"/>
            <a:ext cx="80010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Motilitatea tubului digestiv – dezvoltare mai tardiv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Norm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Activitate ciclică 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  <a:ea typeface="Arial"/>
              </a:rPr>
              <a:t>à je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  <a:ea typeface="Arial"/>
              </a:rPr>
              <a:t>Activitate continuă postprandial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&lt;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  <a:ea typeface="Arial"/>
              </a:rPr>
              <a:t>31 săpt. – motilitate pp. absent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  <a:ea typeface="Arial"/>
              </a:rPr>
              <a:t>31-35 săpt. – motilitate pp. haotic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&gt;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  <a:ea typeface="Arial"/>
              </a:rPr>
              <a:t>35 săpt. - motilitate pp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  <a:ea typeface="Arial"/>
              </a:rPr>
              <a:t>rezent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  <a:ea typeface="Arial"/>
              </a:rPr>
              <a:t>Cortizolul – grăbeşte motilitate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8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DD0408-5BFE-4794-BF6B-C8772075D33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4400" spc="-1" strike="noStrike">
                <a:solidFill>
                  <a:srgbClr val="333399"/>
                </a:solidFill>
                <a:latin typeface="Tahoma"/>
              </a:rPr>
              <a:t>CONCLUZ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566640" y="1988640"/>
            <a:ext cx="829152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Dezvoltare bună a funcţiilor de digestie şi absorbţie de la 24 săp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lactoz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prote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  <a:ea typeface="Arial"/>
              </a:rPr>
              <a:t>±lipide (lipaza dependentă de sărurile biliare din laptele de mamă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  <a:ea typeface="Arial"/>
              </a:rPr>
              <a:t>NU amid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Motilitatea se dezvoltă mai târzi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Cantităţi mici de alimente iniţial la prematu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02FBF1-AB6B-481E-BDE7-0BFA5DF6F06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182600" y="304920"/>
            <a:ext cx="7390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4000" spc="-1" strike="noStrike">
                <a:solidFill>
                  <a:srgbClr val="333399"/>
                </a:solidFill>
                <a:latin typeface="Tahoma"/>
              </a:rPr>
              <a:t>COLONIZAREA INIŢIALĂ CU MICROBI A TUBULUI DIGESTIV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ahoma"/>
              </a:rPr>
              <a:t>Mamă</a:t>
            </a: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 (naşter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Determinism gen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Mediu ma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Dietă în ultimul trimest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Felul naşter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Mediu la naşt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Felul alimentaţi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Mediu la domicili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4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543671-702F-45C7-B2E8-A51FEC3A46A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400" spc="-1" strike="noStrike">
                <a:solidFill>
                  <a:srgbClr val="333399"/>
                </a:solidFill>
                <a:latin typeface="Tahoma"/>
              </a:rPr>
              <a:t>SUCCESIUNEA COMUNITĂŢILOR BACTERIENE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566280" y="2060640"/>
            <a:ext cx="832644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Evoluţie în trep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mele </a:t>
            </a: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bacterii = “bacterii pionier”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 influențează expresia genică în celulele intestinale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 colonizarea ulterioar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Iniţial: facultativ anaerobi, enterobacterii, coliformi, lactobacili, streptococ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Ulterior anaerobi: Bifidobacterium, Bacteroides, Clostridium, lactobaci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7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717F91-1ECD-4A4B-9E7E-8AB2E9BF671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332000" y="213840"/>
            <a:ext cx="76104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4400" spc="-1" strike="noStrike">
                <a:solidFill>
                  <a:srgbClr val="333399"/>
                </a:solidFill>
                <a:latin typeface="Tahoma"/>
              </a:rPr>
              <a:t>DIFERENŢE ÎN FUNCŢIE DE ALIMENTAŢ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Alimentaţie la sâ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Bifidobacterii (60-90%)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B. breve, B. infantis, B. long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Lactobacili 1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Alimentaţie cu formule de lap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Floră complex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Influenţată de tipul formule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Lactobacili similar cu alimentaţia la sâ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74E7E9-96B0-4CE5-8F66-D7153AF0944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4400" spc="-1" strike="noStrike">
                <a:solidFill>
                  <a:srgbClr val="333399"/>
                </a:solidFill>
                <a:latin typeface="Tahoma"/>
              </a:rPr>
              <a:t>FLORA MICROBIANĂ ÎN PRIMELE 6 LUN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566280" y="1988640"/>
            <a:ext cx="80010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Tahoma"/>
              </a:rPr>
              <a:t>La 6 lun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3200" spc="-1" strike="noStrike">
                <a:solidFill>
                  <a:srgbClr val="ff0000"/>
                </a:solidFill>
                <a:latin typeface="Tahoma"/>
              </a:rPr>
              <a:t>Bifidobacter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Ruminococ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Bactero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Enterococc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Clostridiu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Enterobac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Lactobaci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3EF56F-E1B6-4560-B5BF-6A20C79F4FA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4400" spc="-1" strike="noStrike">
                <a:solidFill>
                  <a:srgbClr val="333399"/>
                </a:solidFill>
                <a:latin typeface="Tahoma"/>
              </a:rPr>
              <a:t>FLORA MICROBIANĂ</a:t>
            </a:r>
            <a:br>
              <a:rPr sz="4400"/>
            </a:br>
            <a:r>
              <a:rPr b="0" lang="ro-RO" sz="4400" spc="-1" strike="noStrike">
                <a:solidFill>
                  <a:srgbClr val="333399"/>
                </a:solidFill>
                <a:latin typeface="Tahoma"/>
              </a:rPr>
              <a:t>DUPĂ 6 LUN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566280" y="2205000"/>
            <a:ext cx="800100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ahoma"/>
              </a:rPr>
              <a:t>Înţărcarea</a:t>
            </a:r>
            <a:r>
              <a:rPr b="0" lang="ro-RO" sz="3200" spc="-1" strike="noStrike">
                <a:solidFill>
                  <a:srgbClr val="000000"/>
                </a:solidFill>
                <a:latin typeface="Tahoma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  <a:ea typeface="Arial"/>
              </a:rPr>
              <a:t>↑ 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E. Co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  <a:ea typeface="Arial"/>
              </a:rPr>
              <a:t>↑ 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Enteroco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  <a:ea typeface="Arial"/>
              </a:rPr>
              <a:t>↑ 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Bactero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  <a:ea typeface="Arial"/>
              </a:rPr>
              <a:t>↑ 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Coci anaerobi gram pozitiv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↓ 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Enterobacter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La 1-2 ani: flora seamănă cu a adultului (mai mulţi bifidobacterium decât la adul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AB522B-62EC-4671-AFCC-A4D412D9882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4400" spc="-1" strike="noStrike">
                <a:solidFill>
                  <a:srgbClr val="333399"/>
                </a:solidFill>
                <a:latin typeface="Tahoma"/>
              </a:rPr>
              <a:t>FLORA MICROBIANĂ</a:t>
            </a:r>
            <a:br>
              <a:rPr sz="4400"/>
            </a:br>
            <a:r>
              <a:rPr b="0" lang="ro-RO" sz="4400" spc="-1" strike="noStrike">
                <a:solidFill>
                  <a:srgbClr val="333399"/>
                </a:solidFill>
                <a:latin typeface="Tahoma"/>
              </a:rPr>
              <a:t>DUPĂ 6 LUN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8" name="" descr=""/>
          <p:cNvPicPr/>
          <p:nvPr/>
        </p:nvPicPr>
        <p:blipFill>
          <a:blip r:embed="rId1"/>
          <a:stretch/>
        </p:blipFill>
        <p:spPr>
          <a:xfrm>
            <a:off x="1182600" y="2017440"/>
            <a:ext cx="7770960" cy="4113000"/>
          </a:xfrm>
          <a:prstGeom prst="rect">
            <a:avLst/>
          </a:prstGeom>
          <a:ln w="0">
            <a:noFill/>
          </a:ln>
        </p:spPr>
      </p:pic>
      <p:sp>
        <p:nvSpPr>
          <p:cNvPr id="1279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8D3623-BFD5-4F84-9495-E77D5E79B63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0" name="Picture 2" descr=""/>
          <p:cNvPicPr/>
          <p:nvPr/>
        </p:nvPicPr>
        <p:blipFill>
          <a:blip r:embed="rId2"/>
          <a:stretch/>
        </p:blipFill>
        <p:spPr>
          <a:xfrm>
            <a:off x="1041480" y="1762200"/>
            <a:ext cx="717372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Tahoma"/>
              </a:rPr>
              <a:t>Creşterea copilului sănă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182600" y="1915920"/>
            <a:ext cx="7772400" cy="46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Perioadele de creşte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intrauterin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perioada de sugar: 0-12 lu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copilăria: 1-12 a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adolescenţa: 13-18 a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Factori de regl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hormonul de creştere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GF 1 (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influenţat direct de aportul de nutrienţ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hormonii sexuali: în adolescenţ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C90ECC-A34C-4556-8550-509C811B82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332000" y="213840"/>
            <a:ext cx="76104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400" spc="-1" strike="noStrike">
                <a:solidFill>
                  <a:srgbClr val="333399"/>
                </a:solidFill>
                <a:latin typeface="Tahoma"/>
              </a:rPr>
              <a:t>EFECTE BIOLOGICE ALE FLOREI MICROBIENE INTESTINALE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566280" y="1988640"/>
            <a:ext cx="80010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Dezvoltarea imun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Antigene microbiene şi aliment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Modularea răspunsului imun (răspuns inflamator vs. toleranţă imună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Bifidobacteriile – răspuns antiinflam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Bacteriile adulte – răspuns antiinflamator mai re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3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20C24B-CAB3-42C7-A1AF-0C3DF7BBF5C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400" spc="-1" strike="noStrike">
                <a:solidFill>
                  <a:srgbClr val="333399"/>
                </a:solidFill>
                <a:latin typeface="Tahoma"/>
              </a:rPr>
              <a:t>EFECTE BIOLOGICE ALE FLOREI MICROBIENE INTESTINALE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Alte funcţii intestin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Barier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Fermentarea carbohidraţilor complecş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Conversia colesterolului în coprostan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4C5800-6CCE-4FB7-940C-8F530A09FB2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332000" y="213840"/>
            <a:ext cx="76104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600" spc="-1" strike="noStrike">
                <a:solidFill>
                  <a:srgbClr val="333399"/>
                </a:solidFill>
                <a:latin typeface="Tahoma"/>
              </a:rPr>
              <a:t>MENŢINEREA ŞI MODULAREA FLOREI INTESTINA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566280" y="2133720"/>
            <a:ext cx="800100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Devieri în cursul boli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Refacere: probiotice şi prebioti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Probio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Bacterii viab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Membri ai florei microbiene sănăto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Administrate o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Prebio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Oligozahar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Favorizează dezvoltarea anumitor microbi sănătoş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9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31D594-37F0-4C4B-934F-A8C94AC319A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4400" spc="-1" strike="noStrike">
                <a:solidFill>
                  <a:srgbClr val="333399"/>
                </a:solidFill>
                <a:latin typeface="Tahoma"/>
              </a:rPr>
              <a:t>CONCLUZ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566280" y="2204640"/>
            <a:ext cx="80010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Colonizarea iniţială în copilărie – esenţială (bifidobacteriil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Contactul copil – mam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Succesiunea ulterioar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Flora microbiană sănătoasă este activ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2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0ACC69-4085-429B-ACA1-6619742BBDF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150560" y="258840"/>
            <a:ext cx="77929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valuarea nutriţional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182600" y="1872720"/>
            <a:ext cx="77724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valuarea  nutriţională stă la baza tratamentului nutriţional şi constă î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rea statusului nutriţional act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rea motivelor care stau la baza unei nutriţii deficit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tode de evalua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en clinic şi antropometr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mneza şi ancheta alimentar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ăsurători tehn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ăsurători de labo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1FF7F2-0DE4-4BDD-97A4-0057E2E9D2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150560" y="258840"/>
            <a:ext cx="77929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xamenul clinic şi antropomet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utat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2 ani: complet dezbrăcaţ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2 ani: cu îmbrăcăminte uşoar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ngimea/înălţim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blă de măsurat lungim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diomet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imetrul cranian: cea mai mare circumferinţă, între regiunea frontală şi proeminenţa occipital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8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D77E27-B8E6-483D-88C1-8A5740225E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460440" y="1800360"/>
            <a:ext cx="4867200" cy="2681280"/>
          </a:xfrm>
          <a:prstGeom prst="rect">
            <a:avLst/>
          </a:prstGeom>
          <a:ln w="0">
            <a:noFill/>
          </a:ln>
        </p:spPr>
      </p:pic>
      <p:sp>
        <p:nvSpPr>
          <p:cNvPr id="1300" name="Rectangle 3"/>
          <p:cNvSpPr/>
          <p:nvPr/>
        </p:nvSpPr>
        <p:spPr>
          <a:xfrm>
            <a:off x="709560" y="464508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ăsurarea lungimii la sug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1" name="Picture 5" descr=""/>
          <p:cNvPicPr/>
          <p:nvPr/>
        </p:nvPicPr>
        <p:blipFill>
          <a:blip r:embed="rId2"/>
          <a:stretch/>
        </p:blipFill>
        <p:spPr>
          <a:xfrm>
            <a:off x="6300720" y="1800360"/>
            <a:ext cx="1704960" cy="4190760"/>
          </a:xfrm>
          <a:prstGeom prst="rect">
            <a:avLst/>
          </a:prstGeom>
          <a:ln w="0">
            <a:noFill/>
          </a:ln>
        </p:spPr>
      </p:pic>
      <p:sp>
        <p:nvSpPr>
          <p:cNvPr id="1302" name="Rectangle 6"/>
          <p:cNvSpPr/>
          <p:nvPr/>
        </p:nvSpPr>
        <p:spPr>
          <a:xfrm>
            <a:off x="4938480" y="6126120"/>
            <a:ext cx="33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ăsurarea înălţimii la cop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3" name="Slide Number Placeholder 5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9A7EE8-46A3-458F-807F-13812429ED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4" name="Picture 5" descr="heigth-p"/>
          <p:cNvPicPr/>
          <p:nvPr/>
        </p:nvPicPr>
        <p:blipFill>
          <a:blip r:embed="rId1"/>
          <a:stretch/>
        </p:blipFill>
        <p:spPr>
          <a:xfrm>
            <a:off x="2563920" y="115920"/>
            <a:ext cx="2489040" cy="6605640"/>
          </a:xfrm>
          <a:prstGeom prst="rect">
            <a:avLst/>
          </a:prstGeom>
          <a:ln w="0">
            <a:noFill/>
          </a:ln>
        </p:spPr>
      </p:pic>
      <p:sp>
        <p:nvSpPr>
          <p:cNvPr id="1305" name="Rectangle 6"/>
          <p:cNvSpPr/>
          <p:nvPr/>
        </p:nvSpPr>
        <p:spPr>
          <a:xfrm>
            <a:off x="5448240" y="471744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diometr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6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A666DE-7EE2-4463-8A53-406F1A5F0C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332000" y="258840"/>
            <a:ext cx="761184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xamenul clinic şi antropomet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4000" indent="-324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rcumferinţa braţul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½ distanţei dintre acromion şi olecran, la 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brațu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domin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măsoară de 3 x şi se face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simea pliurilor cutan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 şubler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obicei: pliul la nivelul tricepsului, la ½ distanţei dintre acromion şi olecran, la 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brațu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domin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ă ţesutul gras subcuta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D4EA88-C8B6-405F-94EA-66B2CFC9AA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Text Box 1"/>
          <p:cNvSpPr/>
          <p:nvPr/>
        </p:nvSpPr>
        <p:spPr>
          <a:xfrm>
            <a:off x="1260360" y="5940360"/>
            <a:ext cx="450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ăsurarea grosimii pliului cutan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1" name="Picture 4" descr="Harpenden Skinfold Calipers"/>
          <p:cNvPicPr/>
          <p:nvPr/>
        </p:nvPicPr>
        <p:blipFill>
          <a:blip r:embed="rId1"/>
          <a:stretch/>
        </p:blipFill>
        <p:spPr>
          <a:xfrm>
            <a:off x="1116000" y="44280"/>
            <a:ext cx="3011400" cy="507852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6" descr="measuring skinfold"/>
          <p:cNvPicPr/>
          <p:nvPr/>
        </p:nvPicPr>
        <p:blipFill>
          <a:blip r:embed="rId2"/>
          <a:stretch/>
        </p:blipFill>
        <p:spPr>
          <a:xfrm>
            <a:off x="5003640" y="1341360"/>
            <a:ext cx="3043440" cy="3594240"/>
          </a:xfrm>
          <a:prstGeom prst="rect">
            <a:avLst/>
          </a:prstGeom>
          <a:ln w="0">
            <a:noFill/>
          </a:ln>
        </p:spPr>
      </p:pic>
      <p:sp>
        <p:nvSpPr>
          <p:cNvPr id="1313" name="Slide Number Placeholder 4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BDA5D6-8D31-4BCD-B997-92E2A167BC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/>
          </p:nvPr>
        </p:nvSpPr>
        <p:spPr>
          <a:xfrm>
            <a:off x="539280" y="201780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creşterea în lungime şi greutate au viteza maximă în primele luni de viaţă (4 cm şi r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ectiv 1 kg/lună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ulterior creşterea decelerează, până la puber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c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ând apare un nou vâr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5" name="Picture 2" descr=""/>
          <p:cNvPicPr/>
          <p:nvPr/>
        </p:nvPicPr>
        <p:blipFill>
          <a:blip r:embed="rId1"/>
          <a:stretch/>
        </p:blipFill>
        <p:spPr>
          <a:xfrm>
            <a:off x="4788000" y="1125360"/>
            <a:ext cx="3867120" cy="5056200"/>
          </a:xfrm>
          <a:prstGeom prst="rect">
            <a:avLst/>
          </a:prstGeom>
          <a:ln w="0">
            <a:noFill/>
          </a:ln>
        </p:spPr>
      </p:pic>
      <p:sp>
        <p:nvSpPr>
          <p:cNvPr id="1206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D7E691-3A0C-4A24-8601-A97BB84F30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150560" y="258840"/>
            <a:ext cx="77929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reşterea normal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Creşterea ponderală la nou-născut şi sugar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0-</a:t>
            </a:r>
            <a:r>
              <a:rPr b="0" lang="ro-RO" sz="2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luni: </a:t>
            </a:r>
            <a:r>
              <a:rPr b="0" lang="ro-RO" sz="2600" spc="-1" strike="noStrike">
                <a:solidFill>
                  <a:srgbClr val="000000"/>
                </a:solidFill>
                <a:latin typeface="Tahoma"/>
              </a:rPr>
              <a:t>750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g/</a:t>
            </a:r>
            <a:r>
              <a:rPr b="0" lang="ro-RO" sz="2600" spc="-1" strike="noStrike">
                <a:solidFill>
                  <a:srgbClr val="000000"/>
                </a:solidFill>
                <a:latin typeface="Tahoma"/>
              </a:rPr>
              <a:t>lună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4-</a:t>
            </a:r>
            <a:r>
              <a:rPr b="0" lang="ro-RO" sz="26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luni: </a:t>
            </a:r>
            <a:r>
              <a:rPr b="0" lang="ro-RO" sz="2600" spc="-1" strike="noStrike">
                <a:solidFill>
                  <a:srgbClr val="000000"/>
                </a:solidFill>
                <a:latin typeface="Tahoma"/>
              </a:rPr>
              <a:t>500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g/</a:t>
            </a:r>
            <a:r>
              <a:rPr b="0" lang="ro-RO" sz="2600" spc="-1" strike="noStrike">
                <a:solidFill>
                  <a:srgbClr val="000000"/>
                </a:solidFill>
                <a:latin typeface="Tahoma"/>
              </a:rPr>
              <a:t>lună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Tahoma"/>
              </a:rPr>
              <a:t>8-12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luni: </a:t>
            </a:r>
            <a:r>
              <a:rPr b="0" lang="ro-RO" sz="2600" spc="-1" strike="noStrike">
                <a:solidFill>
                  <a:srgbClr val="000000"/>
                </a:solidFill>
                <a:latin typeface="Tahoma"/>
              </a:rPr>
              <a:t>250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g/</a:t>
            </a:r>
            <a:r>
              <a:rPr b="0" lang="ro-RO" sz="2600" spc="-1" strike="noStrike">
                <a:solidFill>
                  <a:srgbClr val="000000"/>
                </a:solidFill>
                <a:latin typeface="Tahoma"/>
              </a:rPr>
              <a:t>lună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Greutatea la naştere se dublează la 4 luni şi se triplează la 12 lun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EF0E29-6C06-46A9-886A-D07AE03AD8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150560" y="258840"/>
            <a:ext cx="77929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reşterea normal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reşterea în lungim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12 luni: 25 c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-2 ani: 15 c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2 ani se atinge aproximativ jumătate din înălţimea finală la ad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f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şitul creşterii în înălţime, diferenţa medie între băieţi şi fete este de 12,5 c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81A7FF-A9F0-4397-8951-EF6E26069A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1150560" y="258840"/>
            <a:ext cx="77929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reşterea normal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1182600" y="1916280"/>
            <a:ext cx="77724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7160" indent="-3171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precierea potenţialului de creştere în înălţim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638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Înălţime mama la 18 ani + Înălţime tată la 18 ani)/ 2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ălţimea medie a părinţilor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 la 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se adaugă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7 cm la băieţ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se sca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7 cm la f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638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valul de înălţim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Înălţimea medie a părinţilor +/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,5 cm la f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 cm la băieţ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A07F6C-AB54-4B1C-B6A2-CCB39CD6B8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150560" y="258840"/>
            <a:ext cx="77929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reşterea normal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reşterea circumferinţei cutiei cranien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12 luni: 1 cm/lună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-2 ani: 2 cm tot an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2 ani se atinge 80% din dimensiunea de la ad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9FEBC5-15DE-4402-90BC-AE5904F982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150560" y="258840"/>
            <a:ext cx="77929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Tahoma"/>
              </a:rPr>
              <a:t>Anamneza și ancheta alimentar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mneza permi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idenţierea datelor din istoricul medical personal şi familial relevante pentru evaluarea statusului nutriţ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ectuarea anchetei aliment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sugar: alimentaţie la sân sau cu lapte praf, numărul de mese şi cantitatea pe mas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la copil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ărul 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şi conţinutu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elor şi gustărilor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, apetitul, circumstanţele în care se iau mesele în familie (posibile conflicte)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32A2F7-8DB1-461E-8A80-B257A359D3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1150560" y="258840"/>
            <a:ext cx="77929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Tahoma"/>
              </a:rPr>
              <a:t>Anamneza și ancheta alimentar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Rezultatele anamnezei şi anchetei alimentare depind 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nivelul de educaţie al părinţi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motivația părinţi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particularităţile cultur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originea etn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relig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statusul famil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C44B94-E277-4325-AD73-A4625E9E6C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150560" y="31248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3600" spc="-1" strike="noStrike">
                <a:solidFill>
                  <a:srgbClr val="333399"/>
                </a:solidFill>
                <a:latin typeface="Tahoma"/>
              </a:rPr>
              <a:t>Colectarea datelor cu relevanţă pentru statusul nutriţional al copilulu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68360" y="2052360"/>
            <a:ext cx="88567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Tahoma"/>
              </a:rPr>
              <a:t>evoluţia sarcinii şi naşterii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Tahoma"/>
              </a:rPr>
              <a:t>boli ale părinţilor şi ale altor rud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Tahoma"/>
              </a:rPr>
              <a:t>utilizarea de medicamente şi suplimente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Tahoma"/>
              </a:rPr>
              <a:t>statusul social şi economic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Tahoma"/>
              </a:rPr>
              <a:t>disponibilitatea hranei într-o familie, cine o prepară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Tahoma"/>
              </a:rPr>
              <a:t>accesul la serviciile de sănătat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Tahoma"/>
              </a:rPr>
              <a:t>credinţe religioase şi de sănătat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E2C6AD-0D2F-44B6-BD6C-8490238CA9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Tahoma"/>
              </a:rPr>
              <a:t>Ancheta alimentară la suga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Chestionar prospectiv (3-7 zile) sau retrospectiv (24 de ore) pe care îl completează mama sau persoana care are grijă de cop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2DDCFF-8292-4658-ACD3-78C535BFFA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82440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4000" spc="-1" strike="noStrike">
                <a:solidFill>
                  <a:srgbClr val="333399"/>
                </a:solidFill>
                <a:latin typeface="Tahoma"/>
              </a:rPr>
              <a:t>Metode de 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anchet</a:t>
            </a:r>
            <a:r>
              <a:rPr b="1" lang="ro-RO" sz="4000" spc="-1" strike="noStrike">
                <a:solidFill>
                  <a:srgbClr val="333399"/>
                </a:solidFill>
                <a:latin typeface="Tahoma"/>
              </a:rPr>
              <a:t>ă nutriţională la copii cu vârste 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&gt;</a:t>
            </a:r>
            <a:r>
              <a:rPr b="1" lang="ro-RO" sz="4000" spc="-1" strike="noStrike">
                <a:solidFill>
                  <a:srgbClr val="333399"/>
                </a:solidFill>
                <a:latin typeface="Tahoma"/>
              </a:rPr>
              <a:t>1 a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ahoma"/>
              </a:rPr>
              <a:t>1. 24-h recall: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 toate alimentele consumate în ultimele 24 de 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-avantaje: rapidă, uşor de aplic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-dezavantaj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-imprecis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-depinde de memori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-subapreciază aport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7E1E9D-C7D1-4271-A053-0C83BE9244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</a:rPr>
              <a:t>2. Jurnalul alimentar pe 3-7 zile</a:t>
            </a: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 - toţi copi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-toate alimentele consumate într-o perioadă sunt înregistrate într-un ju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-avantaje: precisă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-dezavantaje: mai laborioasă, necesită pregătirea părintelu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Slide Number Placeholder 2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E4881E-6611-4A28-A041-5DA78FA6DD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/>
          </p:nvPr>
        </p:nvSpPr>
        <p:spPr>
          <a:xfrm>
            <a:off x="468000" y="2060280"/>
            <a:ext cx="31669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6040" indent="-266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ahoma"/>
              </a:rPr>
              <a:t>vârful de creştere de la pubertate este mai precoce la f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040" indent="-266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ahoma"/>
              </a:rPr>
              <a:t>pubertatea debutează la vârste extrem de variabile, în funcţie de populaţ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040" indent="-266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ahoma"/>
              </a:rPr>
              <a:t>debut tardiv: la cei cu status nutriţional prec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8" name="Picture 3" descr=""/>
          <p:cNvPicPr/>
          <p:nvPr/>
        </p:nvPicPr>
        <p:blipFill>
          <a:blip r:embed="rId1"/>
          <a:stretch/>
        </p:blipFill>
        <p:spPr>
          <a:xfrm>
            <a:off x="4356000" y="836640"/>
            <a:ext cx="4415040" cy="5337000"/>
          </a:xfrm>
          <a:prstGeom prst="rect">
            <a:avLst/>
          </a:prstGeom>
          <a:ln w="0">
            <a:noFill/>
          </a:ln>
        </p:spPr>
      </p:pic>
      <p:sp>
        <p:nvSpPr>
          <p:cNvPr id="1209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CB402C-086C-4FCF-B87F-D34B9442FF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/>
          </p:nvPr>
        </p:nvSpPr>
        <p:spPr>
          <a:xfrm>
            <a:off x="755640" y="2017440"/>
            <a:ext cx="81979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</a:rPr>
              <a:t>3. Chestionar de frecvenţă alimentară</a:t>
            </a: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 - copii de vârstă şcolară, adolescenţ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utilizează liste de alim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-întrebări despre cât de frecvent sunt prezente în dietă anumite grupe de alim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-dezavantaje: laborioase, consumatoare de timp, nu foarte prec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4" name="Slide Number Placeholder 2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C1BC36-0FA3-4BBE-AAC0-EE406058B4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area necesarului energetic zilnic</a:t>
            </a: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 şi a metabolismului baz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: calorimetrie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 indirectă sau cameră metabolică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în condiţii standardizate, cu durata de 40-60 minute (permite măsurarea consumului de oxig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: ecuaţii în funcţie de vârstă, sex, nivelul de activitate fizic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6" name="Slide Number Placeholder 2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2AD0E1-E49E-4661-BAEC-9B70354FFC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title"/>
          </p:nvPr>
        </p:nvSpPr>
        <p:spPr>
          <a:xfrm>
            <a:off x="1150560" y="549360"/>
            <a:ext cx="77914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3600" spc="-1" strike="noStrike">
                <a:solidFill>
                  <a:srgbClr val="333399"/>
                </a:solidFill>
                <a:latin typeface="Tahoma"/>
              </a:rPr>
              <a:t>Măsurători tehn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Necesarul energetic în funcţie de vârstă, sex şi nivelul de activita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numeroase ecuaţi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derivate din măsurători efectuate la copii sănătoş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la copii bolnavi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NE: RMB x 1,3 – 1,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Slide Number Placeholder 2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B6D71F-7ACA-4D64-B454-C379C2A25B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title"/>
          </p:nvPr>
        </p:nvSpPr>
        <p:spPr>
          <a:xfrm>
            <a:off x="1150560" y="549360"/>
            <a:ext cx="77914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3600" spc="-1" strike="noStrike">
                <a:solidFill>
                  <a:srgbClr val="333399"/>
                </a:solidFill>
                <a:latin typeface="Tahoma"/>
              </a:rPr>
              <a:t>Măsurători tehn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area compoziţiei corporale şi a densităţii osoase: DEXA (dual energy X-ray absorptiometry</a:t>
            </a: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Măsurarea compoziţie corporale: muşchi, ţesut adipos, ap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La nivel lombar: măsurarea densităţii osoase (care poate fi scăzută în boli cu malabsorbţia Ca, vitaminei 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Slide Number Placeholder 2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F68F6D-962F-4910-AA4D-255B6CD057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title"/>
          </p:nvPr>
        </p:nvSpPr>
        <p:spPr>
          <a:xfrm>
            <a:off x="1150560" y="549360"/>
            <a:ext cx="77914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3600" spc="-1" strike="noStrike">
                <a:solidFill>
                  <a:srgbClr val="333399"/>
                </a:solidFill>
                <a:latin typeface="Tahoma"/>
              </a:rPr>
              <a:t>Măsurători tehn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terminări de labor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Ro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sunt utile in diagnosticul malnutriţiei primare şi în ghidarea deciziilor terapeutice în malnutriţiile secund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deoarece statusul nutriţional este un predictor important al prognosticului, este obligatorie determinarea indicatorilor care reflectă nivelul de proteine şi stocurile de vitamine şi miner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6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DA0C04-D07D-4718-A5B9-8946A1BF23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150560" y="549360"/>
            <a:ext cx="7791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4400" spc="-1" strike="noStrike">
                <a:solidFill>
                  <a:srgbClr val="333399"/>
                </a:solidFill>
                <a:latin typeface="Tahoma"/>
              </a:rPr>
              <a:t>Determinări de labor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1182600" y="183672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Evaluarea statusului proteic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proteine serice tot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albumine ser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prealbum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retinol-binding prote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în dinamică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capca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ahoma"/>
              </a:rPr>
              <a:t>inflamaţii (anumite proteine sunt reactaţi pozitivi de fază acută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ahoma"/>
              </a:rPr>
              <a:t>deficit de sinteză şi nu de aport (insuficienţă hepatică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9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9BDC4E-A035-4E02-A4AC-45BC55DAA5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4400" spc="-1" strike="noStrike">
                <a:solidFill>
                  <a:srgbClr val="333399"/>
                </a:solidFill>
                <a:latin typeface="Tahoma"/>
              </a:rPr>
              <a:t>Determinări de labor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182600" y="183672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ahoma"/>
              </a:rPr>
              <a:t>Măsurarea vitaminelor şi minerale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ahoma"/>
              </a:rPr>
              <a:t>Teste de malabsorbţ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ahoma"/>
              </a:rPr>
              <a:t>pierderi enterale de protein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ahoma"/>
              </a:rPr>
              <a:t>determinarea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ro-RO" sz="1800" spc="-1" strike="noStrike">
                <a:solidFill>
                  <a:srgbClr val="000000"/>
                </a:solidFill>
                <a:latin typeface="Tahoma"/>
              </a:rPr>
              <a:t>1-antitripsinei în scau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ahoma"/>
              </a:rPr>
              <a:t>malabsorbţia pentru grăsimi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ahoma"/>
              </a:rPr>
              <a:t>colectarea scaunului pe 72 de h (difici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ahoma"/>
              </a:rPr>
              <a:t>frotiu din scaun colorat cu Suda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ahoma"/>
              </a:rPr>
              <a:t>malabsorbţia pentru carbohidraţ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ahoma"/>
              </a:rPr>
              <a:t>pH din scau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ahoma"/>
              </a:rPr>
              <a:t>alte tes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F8C125-7D88-4614-96E5-C8C94CD481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Text Box 1"/>
          <p:cNvSpPr/>
          <p:nvPr/>
        </p:nvSpPr>
        <p:spPr>
          <a:xfrm>
            <a:off x="826920" y="2133720"/>
            <a:ext cx="7848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5400" spc="-1" strike="noStrike">
                <a:solidFill>
                  <a:srgbClr val="333399"/>
                </a:solidFill>
                <a:latin typeface="Tahoma"/>
              </a:rPr>
              <a:t>Rolul nutriţiei din primul an de viaţă asupra stării ulterioare de sănătat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4" name="Slide Number Placeholder 2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3D8BCE-6416-4EFD-B408-3BA9FF046B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Text Box 2"/>
          <p:cNvSpPr/>
          <p:nvPr/>
        </p:nvSpPr>
        <p:spPr>
          <a:xfrm>
            <a:off x="91440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</a:rPr>
              <a:t>Alimentaţia la sâ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6" name="Text Box 3"/>
          <p:cNvSpPr/>
          <p:nvPr/>
        </p:nvSpPr>
        <p:spPr>
          <a:xfrm>
            <a:off x="395280" y="1916280"/>
            <a:ext cx="842472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risc mai mic de obezitate (cu 25%) comparativ cu alimentaţia cu formule de lapte, in majoritatea studiil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ahoma"/>
              </a:rPr>
              <a:t>mecanisme posibile de acţiune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viteza de creştere mai redusă în primul an de viaţă, printr-un conţinut mai redus de proteine: conţinutul de proteine în formulele de lapte este cu 55-60% mai m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aport caloric mai redus: sugarii hrăniţi cu lapte praf au un aport caloric cu 10-18% mai m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EABE25-D059-4B30-BBE2-CC62767D6B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Text Box 3"/>
          <p:cNvSpPr/>
          <p:nvPr/>
        </p:nvSpPr>
        <p:spPr>
          <a:xfrm>
            <a:off x="395280" y="1916280"/>
            <a:ext cx="842472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ahoma"/>
              </a:rPr>
              <a:t>Creşterea aportului prote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ingestia crescută de proteine în prima copilărie a fost asociată cu un rebound adipozitar precoce şi cu creşterea IMC-ului = “early protein hypothesi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European Childhood Obesity Project- studiu clinic care compara două formule de lapte, cu conţinut diferit de prote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reducerea aportului de proteine a dus la normalizarea creşterii până la vârsta de 2 ani, la valori apropiate de copiii hrăniţi la sâ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9" name="Slide Number Placeholder 2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A878F8-85F6-4E3E-87AC-10117F9D6E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Viteza de creştere a organelor este extrem de diferită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creierul: în primii 2 ani; circumferinţa craniană la 2 ani atinge 80% din cea de la ad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ţesutul gras: creşte până la 6-9 luni, se reduce până la vârsta de 5-6 ani şi ulterior creşte (obesity reboun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1" name="Slide Number Placeholder 2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41FFA8-1FFA-4C55-99BF-4DE5842629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Text Box 2"/>
          <p:cNvSpPr/>
          <p:nvPr/>
        </p:nvSpPr>
        <p:spPr>
          <a:xfrm>
            <a:off x="826920" y="2133720"/>
            <a:ext cx="7848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5400" spc="-1" strike="noStrike">
                <a:solidFill>
                  <a:srgbClr val="333399"/>
                </a:solidFill>
                <a:latin typeface="Tahoma"/>
              </a:rPr>
              <a:t>Nutriţia pentru evitarea alergiilo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1" name="Slide Number Placeholder 2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34ACF0-2CE1-4ABC-B1EE-948E3CFD20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461600" y="213840"/>
            <a:ext cx="7286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Tahoma"/>
              </a:rPr>
              <a:t>Alergiile aliment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= reacţii alergice apărute după ingestia unor alergeni aliment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incapacitatea de a obţine sau menţine toleranţa imună la una sau mai multe proteine aliment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incidenţă în creştere în ţările dezvoltate: 6% dintre copii, 2% dintre adulţ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cauze: necl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a fost incriminată rata scăzută a infecţiilor din prima copilărie (ipoteza de igienă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984F18-2838-4F4E-8351-A9E26C1944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Tahoma"/>
              </a:rPr>
              <a:t>Alimente implic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95% din alergiile alimentare sunt produse 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laptele de vac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ou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alu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peş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so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proteine din grâ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Este posibilă prezenţa concomitentă la acelaşi subiect a mai multor alergii alimentare, mai ales în prima copilăr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CBCA13-F773-450F-954D-020E7B76EC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Tahoma"/>
              </a:rPr>
              <a:t>Manifestări clin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ahoma"/>
              </a:rPr>
              <a:t>Variate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reacţii sistemice: urtic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e, angioedem, anafilaxie (şoc anafilati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reacţii localizate la nivelu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tegumentului: eczemă atopic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intestinului: enteropatie, enterocolit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tractului respirator: astm bronş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D83421-0254-4BBF-B477-1856BFC4B8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4000" spc="-1" strike="noStrike">
                <a:solidFill>
                  <a:srgbClr val="333399"/>
                </a:solidFill>
                <a:latin typeface="Tahoma"/>
              </a:rPr>
              <a:t>Clasificare patogenică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(mod de apari</a:t>
            </a:r>
            <a:r>
              <a:rPr b="1" lang="ro-RO" sz="4000" spc="-1" strike="noStrike">
                <a:solidFill>
                  <a:srgbClr val="333399"/>
                </a:solidFill>
                <a:latin typeface="Tahoma"/>
              </a:rPr>
              <a:t>ţi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Reacţie imună imediată împotriva proteinelor alimentare </a:t>
            </a:r>
            <a:r>
              <a:rPr b="0" lang="ro-RO" sz="2000" spc="-1" strike="noStrike">
                <a:solidFill>
                  <a:srgbClr val="000000"/>
                </a:solidFill>
                <a:latin typeface="Tahoma"/>
              </a:rPr>
              <a:t>(mediată de Ig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ahoma"/>
              </a:rPr>
              <a:t>debut l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ahoma"/>
              </a:rPr>
              <a:t>30-60 minute de la inges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ahoma"/>
              </a:rPr>
              <a:t>tablou clinic: urticarie, angioedem, greţuri, vărsături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ahoma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 anafilac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Reacţie imună întârziată</a:t>
            </a:r>
            <a:r>
              <a:rPr b="0" lang="ro-RO" sz="2000" spc="-1" strike="noStrike">
                <a:solidFill>
                  <a:srgbClr val="000000"/>
                </a:solidFill>
                <a:latin typeface="Tahoma"/>
              </a:rPr>
              <a:t> (mediată celul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ahoma"/>
              </a:rPr>
              <a:t>debut: la ore-zile de la inges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ahoma"/>
              </a:rPr>
              <a:t>tablou clinic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ficult</a:t>
            </a:r>
            <a:r>
              <a:rPr b="0" lang="ro-RO" sz="2000" spc="-1" strike="noStrike">
                <a:solidFill>
                  <a:srgbClr val="000000"/>
                </a:solidFill>
                <a:latin typeface="Tahoma"/>
              </a:rPr>
              <a:t>ăţi de alimentare, vărsături, diare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277268-9853-473E-B3CD-2D1E63D6A5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3600" spc="-1" strike="noStrike">
                <a:solidFill>
                  <a:srgbClr val="333399"/>
                </a:solidFill>
                <a:latin typeface="Tahoma"/>
              </a:rPr>
              <a:t>Posibilităţi de preveni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692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Tahoma"/>
                <a:ea typeface="Tahoma"/>
              </a:rPr>
              <a:t>Dieta de excludere a alimentelor potenţial alergene la mamă, în cursul sarcinii şi alăptări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ahoma"/>
                <a:ea typeface="Tahoma"/>
              </a:rPr>
              <a:t>nu pare a avea vreun r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Tahoma"/>
                <a:ea typeface="Tahoma"/>
              </a:rPr>
              <a:t>Alimentaţia la sân: </a:t>
            </a:r>
            <a:r>
              <a:rPr b="0" lang="ro-RO" sz="2200" spc="-1" strike="noStrike">
                <a:solidFill>
                  <a:srgbClr val="000000"/>
                </a:solidFill>
                <a:latin typeface="Tahoma"/>
                <a:ea typeface="Tahoma"/>
              </a:rPr>
              <a:t>efect</a:t>
            </a:r>
            <a:r>
              <a:rPr b="1" lang="ro-RO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Tahoma"/>
                <a:ea typeface="Tahoma"/>
              </a:rPr>
              <a:t>neconclud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ahoma"/>
                <a:ea typeface="Tahoma"/>
              </a:rPr>
              <a:t>de utilizat pentru alte benefici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Tahoma"/>
                <a:ea typeface="Tahoma"/>
              </a:rPr>
              <a:t>Formulele de lapte cu proteine hidroliz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ahoma"/>
                <a:ea typeface="Tahoma"/>
              </a:rPr>
              <a:t>reduc riscul de dermatită atopică (GINI- the German Infant Nutritional Interventio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Tahoma"/>
                <a:ea typeface="Tahoma"/>
              </a:rPr>
              <a:t>Utilizarea de lapte de la alte mamifere</a:t>
            </a:r>
            <a:r>
              <a:rPr b="0" lang="ro-RO" sz="22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ahoma"/>
                <a:ea typeface="Tahoma"/>
              </a:rPr>
              <a:t>nu se recomandă (compoziţie nutriţională inadecvată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B1E2BA-3B7E-4231-AFE3-AB39C86775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3600" spc="-1" strike="noStrike">
                <a:solidFill>
                  <a:srgbClr val="333399"/>
                </a:solidFill>
                <a:latin typeface="Tahoma"/>
              </a:rPr>
              <a:t>Prevenirea alergiilor alimentare prin nutriţia în primul an de viaţă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introducerea alimentelor solide: nu mai devreme de 3 luni şi nu mai târziu de 6 lu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administrarea în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e de 3 luni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isc crescut de alergii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întârzierea diversificării alimentaţiei, chiar cu alimente potenţial alergene, nu aduce nici un beneficiu, ci dimpotrivă, pare a accentua predispozitia spre dezvoltarea ulterioara a alergii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0E4449-5C99-4855-A1D4-837A30E882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Tahoma"/>
              </a:rPr>
              <a:t>Factori care influenţează creşter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Factori geneti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Factori de mediu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factorii etnici- sunt în bună parte extrinse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ahoma"/>
              </a:rPr>
              <a:t>emigrarea în ţările dezvolt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ificarea patternului de cre</a:t>
            </a:r>
            <a:r>
              <a:rPr b="0" lang="ro-RO" sz="2000" spc="-1" strike="noStrike">
                <a:solidFill>
                  <a:srgbClr val="000000"/>
                </a:solidFill>
                <a:latin typeface="Tahoma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factori nutriţion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ahoma"/>
              </a:rPr>
              <a:t>copii alăptaţi la sân au o creştere ceva mai lentă comparativ cu cei hrăniţi artificial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ahoma"/>
              </a:rPr>
              <a:t>efect benefic pe termen lu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ahoma"/>
              </a:rPr>
              <a:t>cauza: aportul diferit de prote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ahoma"/>
              </a:rPr>
              <a:t>laptele de vacă pare a stimula creşterea în lung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A1E734-B4A5-4FA4-AE2B-E78DFDF327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150560" y="258840"/>
            <a:ext cx="77929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tarea de nutriţ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755640" y="2022120"/>
            <a:ext cx="813744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7600" indent="-327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nutriţi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malnutriţi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1360" indent="-27252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ondere: 60-80% din greutate, </a:t>
            </a: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fără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1360" indent="-27252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asm: sub 60% din greutate, fără ede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1360" indent="-272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shiorkor: 60-80% din greutate, cu ed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1360" indent="-27252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shiorkor marasmic: sub 60% din greutate, cu ed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7600" indent="-327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rmonutriţ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7600" indent="-327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pranutriţi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suprapondere/obezit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3D5F23-7455-4843-87C4-207156CA7D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22200" y="366840"/>
            <a:ext cx="779328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alnutriţ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ficit energetic şi de nutrienţ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ficit de proteine -</a:t>
            </a:r>
            <a:r>
              <a:rPr b="0" lang="ro-RO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zolat (fără deficit caloric)</a:t>
            </a:r>
            <a:r>
              <a:rPr b="0" lang="ro-RO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- întâlnit mai ra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ubnutriţia</a:t>
            </a:r>
            <a:r>
              <a:rPr b="0" lang="ro-RO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reutate mică pentru vârstă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înălţime mică pentru vârstă: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malnutriţie cronică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greutate mică pentru înălţime: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malnutriţie acută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 combinaţie între cele </a:t>
            </a:r>
            <a:r>
              <a:rPr b="0" lang="ro-RO" sz="2600" spc="-1" strike="noStrike">
                <a:solidFill>
                  <a:srgbClr val="000000"/>
                </a:solidFill>
                <a:latin typeface="Tahoma"/>
              </a:rPr>
              <a:t>de mai su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Slide Number Placeholder 3"/>
          <p:cNvSpPr/>
          <p:nvPr/>
        </p:nvSpPr>
        <p:spPr>
          <a:xfrm>
            <a:off x="70423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29193E-A6BF-4A2E-9201-154838142A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6:56:56Z</dcterms:created>
  <dc:creator>XR05073</dc:creator>
  <dc:description/>
  <dc:language>en-US</dc:language>
  <cp:lastModifiedBy>User</cp:lastModifiedBy>
  <dcterms:modified xsi:type="dcterms:W3CDTF">2016-10-20T15:49:45Z</dcterms:modified>
  <cp:revision>74</cp:revision>
  <dc:subject/>
  <dc:title>Pacient Humalog Mix 50</dc:title>
</cp:coreProperties>
</file>