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EEC-7DD2-4BF5-A72B-720E66FF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F62-2DF9-4DC3-8D4B-7331241F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40D-6416-4247-979F-EC27A97B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A2B-B8F5-40C9-BE3F-8FC39365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9A2-C85E-4B89-8AC2-643D4BD2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18C-527E-4D2C-B484-CE97F058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1F9-4F59-4489-B75D-6BFC9F35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CAA-2A8D-4127-B753-CD0D8BDF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655-B04C-440C-9BF0-30D46998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38A-3DA2-4B0A-8DB9-B64DD93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80C-71C6-40A7-B46D-C648C154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C7C-DD48-4C7E-870E-D420CD75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8D2AD2-35C0-4111-99E4-47FA734FE663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Calibri Light"/>
              </a:rPr>
              <a:t>Protéines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3D9CAC-1F79-42AD-9709-1F058BF8F24E}" type="datetime">
              <a:rPr b="0" lang="en-US" sz="1200" spc="-1" strike="noStrike">
                <a:solidFill>
                  <a:srgbClr val="898989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92240" y="4028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Rôle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47880" y="2276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UCTUREL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NCT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ÉNERGÉTIQU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Rôle structurel 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90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énètre dans la structure de tous les ti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ôle dans la croissance et le développ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gè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rati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91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44546a"/>
                </a:solidFill>
                <a:latin typeface="Arial"/>
              </a:rPr>
              <a:t>Rôle fonctionnel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19160" y="1447920"/>
            <a:ext cx="856944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s: catalysent les réactions chim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mones: insuline, STH, TRH, L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éines contractiles: actine, myos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éines de transport: transferrine (Fe), hémoglobine (O2, CO2), GLUT (gluco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éines de stockage: ferrit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ien de la pression colloïdale-osmotique: albu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: fibrinogène, facteurs de coag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ôle en défense: immunoglobulines, anticor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age et circulation des informations génétiques: ADN, A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res: interféron, récepteurs, canaux ioniq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108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44546a"/>
                </a:solidFill>
                <a:latin typeface="Arial"/>
              </a:rPr>
              <a:t>Rôle énergétique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992240" y="2468520"/>
            <a:ext cx="822960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combustion, il libère 4 kcal / g (4,1 kca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a"/>
                </a:solidFill>
                <a:latin typeface="Arial"/>
              </a:rPr>
              <a:t>DIGESTION ET ABSORPTION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4788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être absorbées, les protéines doivent être dégradées en A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1992240" y="260280"/>
            <a:ext cx="8229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MÉTABOLISME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703520" y="1197000"/>
            <a:ext cx="8964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U NIVEAU HEPATIQUE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e déroule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ésamination d'AA, requise pour l'utilis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ynthèse hépatique de l'urée (l'ammoniac est éliminé d’organisme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ynthèse des protéines plasmatiques (90% des protéines plasmatiques). Le foie peut synthétiser 15 à 50 g de protéines plasmatiques par jou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nversion entre différents AA et synthèse d'autres composés de type AA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us les AA non essentiel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lucose (gluconéogenèse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pide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1992240" y="836640"/>
            <a:ext cx="822960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U NIVEAU DU RE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A sont activement réabsorbé dans l'épithélium du tube proxima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téinurie &lt;150 mg / 24 heur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buminurie &lt;30 mg / 24 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l y a une limite maximale du </a:t>
            </a:r>
            <a:r>
              <a:rPr b="1" lang="fr-FR" sz="24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taux de tran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ort, à des concentrations sanguines élevées, l'excès étant éliminé dans les urines (</a:t>
            </a:r>
            <a:r>
              <a:rPr b="1" lang="fr-FR" sz="24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débordement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1905120" y="390600"/>
            <a:ext cx="82296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U NIVEAU INTRACELLULAIR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'AA se combine pour former des protéines cellulaires, la concentration intracellulaire d'AA libre étant normalement faib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l y a une synthèse et une dégradation permanentes des AA en fonction des besoins de l'organisme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ne diminution de l'AA plasmatique entraîne une dégradation des protéines intracellulaires et une libération d'AA dans le sang (exception: collagène, protéines contractiles, protéines chromosomiques nucléaires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'augmentation  de l'AA plasmatique détermine la synthèse et le stockage intracellulaire des protéines. Chaque cellule a une limite de stockage; lorsque la limite est dépassée, le surplus est dégradé et utilisé comme source d'énergie ou transformé en glucides et lipide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922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QUALITÉ DES PROTÉINE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8108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5680" indent="-2656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onction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4120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leur nutritionnel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4120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ion au maintien des fonctions métaboliq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4120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5680" indent="-265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5680" indent="-2656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éi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41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8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Complete</a:t>
            </a:r>
            <a:r>
              <a:rPr b="1" lang="fr-F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vec une valeur biologique supérieur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41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8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Partiellement complet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vec une valeur biologique moyen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41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8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Incomplète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vec une valeur biologique inférieure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5680" indent="-265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1919160" y="126828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ed7d31"/>
                </a:solidFill>
                <a:latin typeface="Times New Roman"/>
                <a:ea typeface="Lucida Sans Unicode"/>
              </a:rPr>
              <a:t>Complet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ls contiennent tous des AA essentiel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ntenir AA dans la proportion correcte: 33% essentiel, 67% non essenti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ôle important dans la croissance, le développement et la réparation des tissu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emple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Viande (bœuf, poulet, porc, poisson, fruits de mer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</a:t>
            </a:r>
            <a:r>
              <a:rPr b="1" lang="ro-RO" sz="2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omage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it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Œuf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oja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199224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GÉNÉRALITÉS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981080" y="1523880"/>
            <a:ext cx="8229600" cy="56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u grec = «de première importance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mposé 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 – en proportion de 16%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utres éléments: S, P, Fe, Co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 première protéine génétiquement synthétisée était l'insuline (1958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81080" y="123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2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Partiellement comp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s contiennent tous des AA essentiels, mais en petites propor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s n'ont que 25% des AA essenti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lus grandes quantités sont nécessaires pour la croissance et le développ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éines de céréales: bl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égumineuses séché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981080" y="380880"/>
            <a:ext cx="822960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Arial"/>
                <a:ea typeface="Times New Roman"/>
              </a:rPr>
              <a:t>Incomplè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88920" indent="-53172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l manque un ou plusieurs AA essenti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8920" indent="-53172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autres AA essentiels sont en faibles quanti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8920" indent="-53172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mme la seule source de protéines, ils ne peuvent pas soutenir la croiss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8920" indent="-53172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ls ne peuvent pas assurer la trophicité des cellules et des tissus qui sont constamment renouvel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8920" indent="-53172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xe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ro-RO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zéine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de maïs</a:t>
            </a:r>
            <a:r>
              <a:rPr b="1" lang="ro-RO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1040" indent="-37944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ans L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51040" indent="-37944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rès pauvre en T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" charset="2"/>
              <a:buChar char="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llagène dans les tissus animaux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1040" indent="-37944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65000"/>
              <a:buFont typeface="Wingdings" charset="2"/>
              <a:buChar char="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ans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51040" indent="-37944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65000"/>
              <a:buFont typeface="Wingdings" charset="2"/>
              <a:buChar char="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vec de faibles quantités de Met, Ile, L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992240" y="1197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ne alimentation variée fournit la bonne proportion d'AA essentiels et une source complète de protéin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es diètes végétariens rendent plus difficile le nécessaire d'AA, en particulier Lis et Me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ne alimentation saine doit contenir 1/1 ou 50-66% / 33-50% de protéines animales et végétale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981080" y="549360"/>
            <a:ext cx="92203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téines complémentaires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ertaines protéines sont pauvres dans un AA essentiel, mais riche en d'autr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in (pauvre en Lis) - gélatine (pauvre en Trp, mais relativement riche en Lis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oisson - riz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ïs - haricot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âtes - lentilles / haricots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905120" y="40788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NÉCESSAIRE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992240" y="1341360"/>
            <a:ext cx="8229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JR = 0,8 g / kgc / jou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0% des besoins énergétiqu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écessaire accepté: 0,8-1,2 g / kgc / jou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0-15% (11-13%) des besoins caloriqu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inimum accepté: 40 g / jour (y compris les protéines intestinales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inimum indiqué: 56 g / jour, en tenant compte de la valeur biologique et de la digestibilité des protéine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63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44546a"/>
                </a:solidFill>
                <a:latin typeface="Arial"/>
              </a:rPr>
              <a:t>Les besoins en protéines augmentent: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92240" y="153000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nditions physiologiqu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05040" indent="-24372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fant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05040" indent="-24372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rossess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05040" indent="-24372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Arial"/>
              </a:rPr>
              <a:t>Lacta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05040" indent="-24372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thlètes et personnes avec une masse musculaire développé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8560" indent="-26856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nditions pathologiqu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437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Toute condition qui augmente le taux de métabolisme basal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05040" indent="-24372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e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5040" indent="-24372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litraumat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5040" indent="-24372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rûl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5040" indent="-24372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hirurgie (récupération postopératoi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437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ditions </a:t>
            </a:r>
            <a:r>
              <a:rPr b="1" lang="ro-RO" sz="1900" spc="-1" strike="noStrike">
                <a:solidFill>
                  <a:srgbClr val="000000"/>
                </a:solidFill>
                <a:latin typeface="Arial"/>
              </a:rPr>
              <a:t>à pertes élevée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05040" indent="-24372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5040" indent="-24372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yndrome néphrotiqu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98108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4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Certaines conditions physiologiques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981080" y="2428920"/>
            <a:ext cx="82296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	</a:t>
            </a:r>
            <a:r>
              <a:rPr b="1" lang="ro-RO" sz="20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	</a:t>
            </a:r>
            <a:r>
              <a:rPr b="1" lang="ro-RO" sz="20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Lucida Sans Unicode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Lucida Sans Unicode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Lucida Sans Unicode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  <a:ea typeface="Lucida Sans Unicode"/>
              </a:rPr>
              <a:t>	</a:t>
            </a: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OMS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, </a:t>
            </a: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2007</a:t>
            </a: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Institut de médecine, États-Unis 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(2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0</a:t>
            </a: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0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2</a:t>
            </a: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/2005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)</a:t>
            </a:r>
            <a:r>
              <a:rPr b="1" lang="en-US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Grossess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Trim II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1800" spc="-1" strike="noStrike">
                <a:solidFill>
                  <a:srgbClr val="ffcc66"/>
                </a:solidFill>
                <a:latin typeface="Times New Roman"/>
                <a:ea typeface="Lucida Sans Unicode"/>
              </a:rPr>
              <a:t>	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+ 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10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 g/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jour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1,1 g/kg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 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corp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s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/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jour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Trim III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+ 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3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1 g/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jour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1,1 g/kg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 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corp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s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/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jou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o-RO" sz="20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Lacta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tion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2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Mois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 0-6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+ 1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9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 g/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jour 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1,1 g/kg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 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corp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s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/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jour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 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28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Mois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 6-12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                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+ 12 g/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jour              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1,1 g/kg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 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corp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s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/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jour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 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18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	</a:t>
            </a:r>
            <a:r>
              <a:rPr b="1" lang="ro-RO" sz="1800" spc="-1" strike="noStrike">
                <a:solidFill>
                  <a:srgbClr val="04617b"/>
                </a:solidFill>
                <a:latin typeface="Constantia"/>
                <a:ea typeface="Lucida Sans Unicod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39852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4546a"/>
                </a:solidFill>
                <a:latin typeface="Arial"/>
                <a:ea typeface="Times New Roman"/>
              </a:rPr>
              <a:t>Athlètes et personnes avec une masse musculaire développée </a:t>
            </a:r>
            <a:r>
              <a:rPr b="1" lang="it-IT" sz="4000" spc="-1" strike="noStrike">
                <a:solidFill>
                  <a:srgbClr val="44546a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19160" y="2468160"/>
            <a:ext cx="82296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1-1,4 g de protéines / kg c / jo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es athlètes ne doivent pas dépasser 2 x A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'excès d'énergie doit provenir des gluci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n apport </a:t>
            </a:r>
            <a:r>
              <a:rPr b="1" lang="fr-FR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éléve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en protéines </a:t>
            </a:r>
            <a:r>
              <a:rPr b="1" lang="fr-FR" sz="2200" spc="-1" strike="noStrike">
                <a:solidFill>
                  <a:srgbClr val="ed7d31"/>
                </a:solidFill>
                <a:latin typeface="Arial"/>
                <a:ea typeface="Times New Roman"/>
              </a:rPr>
              <a:t>ne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conduit pas à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Élév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'assimil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éveloppement musculai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44546a"/>
                </a:solidFill>
                <a:latin typeface="Arial"/>
              </a:rPr>
              <a:t>Les besoins en protéines diminuent 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8108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Certaines conditions pathologiqu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insuffisance rén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ladie du fo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Calibri Light"/>
              </a:rPr>
              <a:t>Légumes avec un contenu élevée en protéines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3600"/>
            </a:br>
            <a:r>
              <a:rPr b="1" lang="fr-FR" sz="2400" spc="-1" strike="noStrike">
                <a:solidFill>
                  <a:srgbClr val="000000"/>
                </a:solidFill>
                <a:latin typeface="Calibri Light"/>
              </a:rPr>
              <a:t>g protéines / 100 g d'alim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Haricots verts gr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il séché (bulb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hampign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Haricots séch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ois se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a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ins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Farine de so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1809720" y="1935000"/>
            <a:ext cx="84009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es composés organiques constitués d'acides aminés, disposés dans un certain ordre, basés sur des informations génétiqu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 seule source de N utilisable par l'homm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es protéines du corps sont constituées de 20 AA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 Light"/>
              </a:rPr>
              <a:t>Graines, noi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 Light"/>
              </a:rPr>
              <a:t>g protéines / 100 g d'aliments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achides, noiset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âtaig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Tournesol (grai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Noix vertes, pép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314840" y="194616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Céréales </a:t>
            </a:r>
            <a:r>
              <a:rPr b="1" lang="ro-RO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Calibri Light"/>
              </a:rPr>
              <a:t>g protéines / 100 g d'aliment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ge perl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m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olen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ïs séch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ïs bouil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emoule c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emoule bouil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iz c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iz bouil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vo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 Light"/>
              </a:rPr>
              <a:t>F</a:t>
            </a:r>
            <a:r>
              <a:rPr b="1" lang="fr-FR" sz="4000" spc="-1" strike="noStrike">
                <a:solidFill>
                  <a:srgbClr val="000000"/>
                </a:solidFill>
                <a:latin typeface="Calibri Light"/>
              </a:rPr>
              <a:t>arine et produits à base de fari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 Light"/>
              </a:rPr>
              <a:t>g protéines / 100 g d'aliments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rine blan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rine no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ain bla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ain no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ain Grah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ain hypoglycé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scu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 Light"/>
              </a:rPr>
              <a:t>Pâtes </a:t>
            </a:r>
            <a:br>
              <a:rPr sz="4000"/>
            </a:br>
            <a:r>
              <a:rPr b="1" lang="fr-FR" sz="2800" spc="-1" strike="noStrike">
                <a:solidFill>
                  <a:srgbClr val="000000"/>
                </a:solidFill>
                <a:latin typeface="Calibri Light"/>
              </a:rPr>
              <a:t>g protéines / 100 g d'aliment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92240" y="191628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C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Vermicelle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caroni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paghetti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ouilles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16600" y="1988640"/>
            <a:ext cx="339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Bouil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Vermicelle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caroni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paghetti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uilles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 Light"/>
              </a:rPr>
              <a:t>Produits laitiers solid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 Light"/>
              </a:rPr>
              <a:t>g protéines / 100 g d'aliments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romage cottage faible en lip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Calibri"/>
              </a:rPr>
              <a:t>Fromage de breb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romage au lait de va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Calibri"/>
              </a:rPr>
              <a:t>Fromage fon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Calibri"/>
              </a:rPr>
              <a:t>Souffl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Beur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009920" y="1893960"/>
            <a:ext cx="31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-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 Light"/>
              </a:rPr>
              <a:t>Produits laitiers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 Light"/>
              </a:rPr>
              <a:t>liquid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 Light"/>
              </a:rPr>
              <a:t>g protéines / 100 g d'aliment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Calibri"/>
              </a:rPr>
              <a:t>Crème fouetté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Calibri"/>
              </a:rPr>
              <a:t>Ya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Calibri"/>
              </a:rPr>
              <a:t>Lait de v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it de vache aig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rème aig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it en poud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 Light"/>
              </a:rPr>
              <a:t>Vian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 Light"/>
              </a:rPr>
              <a:t>g protéines / 100 g d'aliment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Boeuf maig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Porc maig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Porc gr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gneau maig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Viande de mouton maig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Poulet maig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Viande d'o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Viande d’oie grass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Viande de canar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Viande de poulet</a:t>
            </a: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Viande de dind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Viande de lapi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Viande de cer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Viande de sangli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 Light"/>
              </a:rPr>
              <a:t>Produits à base de viande</a:t>
            </a:r>
            <a:br>
              <a:rPr sz="4000"/>
            </a:br>
            <a:r>
              <a:rPr b="1" lang="fr-FR" sz="2400" spc="-1" strike="noStrike">
                <a:solidFill>
                  <a:srgbClr val="000000"/>
                </a:solidFill>
                <a:latin typeface="Calibri Light"/>
              </a:rPr>
              <a:t>g protéines / 100 g d'aliment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5740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uci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bervur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âté de fo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alamis ord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alami de Sibi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Bac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167520" y="1773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7-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 Light"/>
              </a:rPr>
              <a:t>Poisson</a:t>
            </a:r>
            <a:br>
              <a:rPr sz="4000"/>
            </a:br>
            <a:r>
              <a:rPr b="1" lang="fr-FR" sz="2400" spc="-1" strike="noStrike">
                <a:solidFill>
                  <a:srgbClr val="000000"/>
                </a:solidFill>
                <a:latin typeface="Calibri Light"/>
              </a:rPr>
              <a:t>g protéines / 100 g d'aliment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ar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Har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ru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ardines en conser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 Light"/>
              </a:rPr>
              <a:t>Cavi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 Light"/>
              </a:rPr>
              <a:t>g protéines / 100 g d'aliment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9188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aviar de car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aviar noi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aviar de broch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16752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198108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SYNTHÈSE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80972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lant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ll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 prennent N des nitrates et de l'ammonium du so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tilise N pour synthétiser les acides aminé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es animaux et l'hom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ll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ends AA par l'apport des plantes et des animaux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ertains AA (non essentiels) peuvent être synthétisés dans l’organism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 Light"/>
              </a:rPr>
              <a:t>Organe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s</a:t>
            </a:r>
            <a:br>
              <a:rPr sz="4000"/>
            </a:br>
            <a:r>
              <a:rPr b="1" lang="fr-FR" sz="2800" spc="-1" strike="noStrike">
                <a:solidFill>
                  <a:srgbClr val="000000"/>
                </a:solidFill>
                <a:latin typeface="Calibri Light"/>
              </a:rPr>
              <a:t>g protéines / 100 g d'aliment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9188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rvea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n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oum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R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16752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Oeu</a:t>
            </a:r>
            <a:r>
              <a:rPr b="1" lang="ro-RO" sz="4400" spc="-1" strike="noStrike">
                <a:solidFill>
                  <a:srgbClr val="000000"/>
                </a:solidFill>
                <a:latin typeface="Calibri Light"/>
              </a:rPr>
              <a:t>f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665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eufs de poule  (50 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aune d'oeuf de poule  (20 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lanc d'oeuf de poule (30 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euf de can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udre de l’oeuf (100 g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464600" y="1600200"/>
            <a:ext cx="2746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981080" y="704880"/>
            <a:ext cx="8229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CLASSIFICATION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063880" y="148428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cides aminé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eptid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oligopeptid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olypeptid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téine          si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végétal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imau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globulair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ibrillai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njugu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érivé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Line 3"/>
          <p:cNvSpPr/>
          <p:nvPr/>
        </p:nvSpPr>
        <p:spPr>
          <a:xfrm>
            <a:off x="3575160" y="2708280"/>
            <a:ext cx="12859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Line 4"/>
          <p:cNvSpPr/>
          <p:nvPr/>
        </p:nvSpPr>
        <p:spPr>
          <a:xfrm>
            <a:off x="3575160" y="2781360"/>
            <a:ext cx="1285920" cy="428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Line 5"/>
          <p:cNvSpPr/>
          <p:nvPr/>
        </p:nvSpPr>
        <p:spPr>
          <a:xfrm>
            <a:off x="3719520" y="3645000"/>
            <a:ext cx="5713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Line 6"/>
          <p:cNvSpPr/>
          <p:nvPr/>
        </p:nvSpPr>
        <p:spPr>
          <a:xfrm>
            <a:off x="3719520" y="3645000"/>
            <a:ext cx="642960" cy="1428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719520" y="3645000"/>
            <a:ext cx="714240" cy="2000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5735520" y="3573360"/>
            <a:ext cx="46080" cy="57168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571680"/>
              <a:gd name="textAreaBottom" fmla="*/ 56988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2"/>
                  <a:pt x="0" y="144"/>
                </a:cubicBezTo>
                <a:lnTo>
                  <a:pt x="0" y="21456"/>
                </a:lnTo>
                <a:cubicBezTo>
                  <a:pt x="0" y="2152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7535880" y="4076640"/>
            <a:ext cx="71280" cy="64296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642960"/>
              <a:gd name="textAreaBottom" fmla="*/ 64116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2166840" y="-2025720"/>
            <a:ext cx="82296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. ACIDES AMINÉS </a:t>
            </a:r>
            <a:endParaRPr b="0" lang="en-US" sz="4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981080" y="1935000"/>
            <a:ext cx="82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e sont les unités de base des protéin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ls contiennent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n groupe carboxyliqu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COO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n groupe amino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ne chaîne latéral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R: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 –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– COOH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A dans les protéines de mammifères sont AA "alpha"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1981080" y="70488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ACIDES AMINÉS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198108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l y a 20 protéinogènes AA dans le corp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8 essentiel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conditionnellement essenti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9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on essentiels (peuvent être synthétisés dans l’organisme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Line 3"/>
          <p:cNvSpPr/>
          <p:nvPr/>
        </p:nvSpPr>
        <p:spPr>
          <a:xfrm flipH="1">
            <a:off x="5806800" y="2786040"/>
            <a:ext cx="4680" cy="142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1809720" y="642960"/>
            <a:ext cx="857268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n fonction de la capacité à être synthétisé dans l’organism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d7d31"/>
                </a:solidFill>
                <a:latin typeface="Times New Roman"/>
                <a:ea typeface="Lucida Sans Unicode"/>
              </a:rPr>
              <a:t>Essentielle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’organisme ne peut pas les synthétis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ed7d31"/>
                </a:solidFill>
                <a:latin typeface="Times New Roman"/>
                <a:ea typeface="Lucida Sans Unicode"/>
              </a:rPr>
              <a:t>Non essentiel</a:t>
            </a:r>
            <a:r>
              <a:rPr b="1" lang="en-US" sz="2800" spc="-1" strike="noStrike">
                <a:solidFill>
                  <a:srgbClr val="ed7d31"/>
                </a:solidFill>
                <a:latin typeface="Times New Roman"/>
                <a:ea typeface="Lucida Sans Unicode"/>
              </a:rPr>
              <a:t>le</a:t>
            </a:r>
            <a:r>
              <a:rPr b="1" lang="ro-RO" sz="2800" spc="-1" strike="noStrike">
                <a:solidFill>
                  <a:srgbClr val="ed7d31"/>
                </a:solidFill>
                <a:latin typeface="Times New Roman"/>
                <a:ea typeface="Lucida Sans Unicode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’organisme peut les synthétiser en quantité suffisant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9966"/>
                </a:solidFill>
                <a:latin typeface="Times New Roman"/>
                <a:ea typeface="Lucida Sans Unicode"/>
              </a:rPr>
              <a:t>Conditionné </a:t>
            </a:r>
            <a:r>
              <a:rPr b="1" lang="it-IT" sz="2800" spc="-1" strike="noStrike">
                <a:solidFill>
                  <a:srgbClr val="ed7d31"/>
                </a:solidFill>
                <a:latin typeface="Times New Roman"/>
                <a:ea typeface="Lucida Sans Unicode"/>
              </a:rPr>
              <a:t>essentielle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’organisme peut les synthétiser dans des conditions normales, mais dans certaines circonstances leur synthèse devient insuffisante par rapport aux besoins d’organisme (ils deviennent essentielles)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44546a"/>
                </a:solidFill>
                <a:latin typeface="Arial"/>
              </a:rPr>
              <a:t>AA essentiel</a:t>
            </a:r>
            <a:r>
              <a:rPr b="1" lang="en-US" sz="4000" spc="-1" strike="noStrike">
                <a:solidFill>
                  <a:srgbClr val="44546a"/>
                </a:solidFill>
                <a:latin typeface="Arial"/>
              </a:rPr>
              <a:t>le</a:t>
            </a:r>
            <a:r>
              <a:rPr b="1" lang="ro-RO" sz="4000" spc="-1" strike="noStrike">
                <a:solidFill>
                  <a:srgbClr val="44546a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80720" y="193464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é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172200" y="19346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Izoleuc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euc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s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Méthion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hénylalan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Thréon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Tryptoph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Val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27:18Z</dcterms:created>
  <dc:creator>egyptian hak</dc:creator>
  <dc:description/>
  <dc:language>en-US</dc:language>
  <cp:lastModifiedBy>ada gherbon</cp:lastModifiedBy>
  <dcterms:modified xsi:type="dcterms:W3CDTF">2021-03-11T21:40:09Z</dcterms:modified>
  <cp:revision>301</cp:revision>
  <dc:subject/>
  <dc:title>PROTEINELE</dc:title>
</cp:coreProperties>
</file>