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941C4-6B8F-4DFB-A2A5-A09304766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57E59-4A03-4702-943D-C4EF3018E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46459-9625-4234-931D-0452C4C31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1DD11-0FF2-4574-81E6-E480571E2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25917-E37F-457A-BB4E-27FE17AD1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5C5C0-AEBC-418E-904A-402CD47A9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645DF-A154-4FFF-8ACE-378D29D78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B8A09-E9B4-4258-BCBD-647370D7F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1A07F-DEC9-4BB1-8C95-E9F840D4E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1A894-E5CD-41A1-8C02-F033F0B49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DB7D1-B7C1-4497-816F-2519219CE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03D4E-9627-4964-A002-E5E7D0264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085F0-6CC3-4F10-B633-CCC237F0A7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be0e3"/>
                </a:solidFill>
                <a:latin typeface="Arial"/>
              </a:rPr>
              <a:t>Minéraux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ffff66"/>
                </a:solidFill>
                <a:latin typeface="Arial"/>
              </a:rPr>
              <a:t>Importance en </a:t>
            </a:r>
            <a:r>
              <a:rPr b="1" lang="en-US" sz="4400" spc="-1" strike="noStrike">
                <a:solidFill>
                  <a:srgbClr val="ffff66"/>
                </a:solidFill>
                <a:latin typeface="Arial"/>
              </a:rPr>
              <a:t>alimentation</a:t>
            </a:r>
            <a:r>
              <a:rPr b="1" lang="ro-RO" sz="44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ne </a:t>
            </a: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le goût de la nourri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Permet une conservation sans alté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Contrôle la vitesse de fermentation (fromag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Donne une texture plus fine aux alim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ffff66"/>
                </a:solidFill>
                <a:latin typeface="Arial"/>
              </a:rPr>
              <a:t>Sources habituell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l et addition de sel </a:t>
            </a: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20-25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Aliments transformés et préparés: </a:t>
            </a: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75-8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Céréales et pain: </a:t>
            </a: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            </a:t>
            </a: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33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Viande et produits à base de viande </a:t>
            </a: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16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ffff66"/>
                </a:solidFill>
                <a:latin typeface="Arial"/>
              </a:rPr>
              <a:t>S</a:t>
            </a:r>
            <a:r>
              <a:rPr b="1" lang="en-US" sz="4400" spc="-1" strike="noStrike">
                <a:solidFill>
                  <a:srgbClr val="ffff66"/>
                </a:solidFill>
                <a:latin typeface="Arial"/>
              </a:rPr>
              <a:t>o</a:t>
            </a:r>
            <a:r>
              <a:rPr b="1" lang="ro-RO" sz="4400" spc="-1" strike="noStrike">
                <a:solidFill>
                  <a:srgbClr val="ffff66"/>
                </a:solidFill>
                <a:latin typeface="Arial"/>
              </a:rPr>
              <a:t>ur</a:t>
            </a:r>
            <a:r>
              <a:rPr b="1" lang="en-US" sz="4400" spc="-1" strike="noStrike">
                <a:solidFill>
                  <a:srgbClr val="ffff66"/>
                </a:solidFill>
                <a:latin typeface="Arial"/>
              </a:rPr>
              <a:t>c</a:t>
            </a:r>
            <a:r>
              <a:rPr b="1" lang="ro-RO" sz="4400" spc="-1" strike="noStrike">
                <a:solidFill>
                  <a:srgbClr val="ffff66"/>
                </a:solidFill>
                <a:latin typeface="Arial"/>
              </a:rPr>
              <a:t>e</a:t>
            </a:r>
            <a:r>
              <a:rPr b="1" lang="en-US" sz="4400" spc="-1" strike="noStrike">
                <a:solidFill>
                  <a:srgbClr val="ffff66"/>
                </a:solidFill>
                <a:latin typeface="Arial"/>
              </a:rPr>
              <a:t>s</a:t>
            </a:r>
            <a:r>
              <a:rPr b="1" lang="ro-RO" sz="44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Grandes quantité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Vian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La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aus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uf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is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Carot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Céle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Petites quantité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Quelques légu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Fru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Produits de suc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Hui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Dérivés céréalie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66"/>
                </a:solidFill>
                <a:latin typeface="Arial"/>
              </a:rPr>
              <a:t>Types d'aliments, en fonction de la teneur en Na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Pas de Na: moins de 5 mg par por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Très faible teneur en Na: moins de 35 mg par por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Faible teneur en Na: moins de 140 mg par por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Faible teneur en Na: au moins 25% de moins que les aliments entie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ffff66"/>
                </a:solidFill>
                <a:latin typeface="Arial"/>
              </a:rPr>
              <a:t>Contenu alimentair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mg Na/100 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Viande: </a:t>
            </a: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lt;</a:t>
            </a: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10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Légumes: </a:t>
            </a: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lt;</a:t>
            </a: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Farine de blé:</a:t>
            </a: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&lt;</a:t>
            </a: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5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in</a:t>
            </a: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</a:t>
            </a: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romages</a:t>
            </a: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</a:t>
            </a: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Sala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</a:t>
            </a: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Co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 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l</a:t>
            </a: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</a:t>
            </a: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7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Arial"/>
              </a:rPr>
              <a:t>Calcul du défici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éficit en sodium</a:t>
            </a: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 (mEq/l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0,6 x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 (kg) x (140-Na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urant</a:t>
            </a: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ffff66"/>
                </a:solidFill>
                <a:latin typeface="Arial"/>
              </a:rPr>
              <a:t>Chlor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ff66"/>
                </a:solidFill>
                <a:latin typeface="Arial"/>
              </a:rPr>
              <a:t>C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o-RO" sz="4400" spc="-1" strike="noStrike">
                <a:solidFill>
                  <a:srgbClr val="ffc000"/>
                </a:solidFill>
                <a:latin typeface="Arial"/>
              </a:rPr>
              <a:t>GÉNÉRALITÉS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Le principal anion du fluide extracellula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Quantité totale dans le corps: 100 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Extracellulaire: :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75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Intracellulaire: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5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Concentration sérique norma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96 à 106 mEq / 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ffff66"/>
                </a:solidFill>
                <a:latin typeface="Arial"/>
              </a:rPr>
              <a:t>Rô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79280" y="1341360"/>
            <a:ext cx="878544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Maintien de la pression osmot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Régulation acido-basique et hydroélectrolyt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Favoriser la fixation d'O2 et la libération de CO2 de l'H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Formation de HCl dans le suc gastr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Activation de l'amylase saliva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Facilite l'élimination rénale des produits azotés résultant du catabolisme des proté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Participation à la contraction musculai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ffff66"/>
                </a:solidFill>
                <a:latin typeface="Arial"/>
              </a:rPr>
              <a:t>S</a:t>
            </a:r>
            <a:r>
              <a:rPr b="1" lang="en-US" sz="4400" spc="-1" strike="noStrike">
                <a:solidFill>
                  <a:srgbClr val="ffff66"/>
                </a:solidFill>
                <a:latin typeface="Arial"/>
              </a:rPr>
              <a:t>o</a:t>
            </a:r>
            <a:r>
              <a:rPr b="1" lang="ro-RO" sz="4400" spc="-1" strike="noStrike">
                <a:solidFill>
                  <a:srgbClr val="ffff66"/>
                </a:solidFill>
                <a:latin typeface="Arial"/>
              </a:rPr>
              <a:t>ur</a:t>
            </a:r>
            <a:r>
              <a:rPr b="1" lang="en-US" sz="4400" spc="-1" strike="noStrike">
                <a:solidFill>
                  <a:srgbClr val="ffff66"/>
                </a:solidFill>
                <a:latin typeface="Arial"/>
              </a:rPr>
              <a:t>c</a:t>
            </a:r>
            <a:r>
              <a:rPr b="1" lang="ro-RO" sz="4400" spc="-1" strike="noStrike">
                <a:solidFill>
                  <a:srgbClr val="ffff66"/>
                </a:solidFill>
                <a:latin typeface="Arial"/>
              </a:rPr>
              <a:t>e</a:t>
            </a:r>
            <a:r>
              <a:rPr b="1" lang="en-US" sz="4400" spc="-1" strike="noStrike">
                <a:solidFill>
                  <a:srgbClr val="ffff66"/>
                </a:solidFill>
                <a:latin typeface="Arial"/>
              </a:rPr>
              <a:t>s</a:t>
            </a:r>
            <a:r>
              <a:rPr b="1" lang="ro-RO" sz="44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NaCl: 1 g de NaCl contient 600 mg de C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Aliment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Les produits laiti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Vian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Des œu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Eau - petite quantit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Arial"/>
              </a:rPr>
              <a:t>Macromineraux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Macrominer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x</a:t>
            </a: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1. Minéraux trouvés dans le corps d'un adulte typique en une quantité supérieure à 5 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2. Minéraux nécessaires au corps d'un adulte typique en quantité supérieure à 100 mg par jou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lles so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ff66"/>
                </a:solidFill>
                <a:latin typeface="Arial"/>
              </a:rPr>
              <a:t>N</a:t>
            </a:r>
            <a:r>
              <a:rPr b="1" lang="ro-RO" sz="4400" spc="-1" strike="noStrike">
                <a:solidFill>
                  <a:srgbClr val="ffff66"/>
                </a:solidFill>
                <a:latin typeface="Arial"/>
              </a:rPr>
              <a:t>écessaires </a:t>
            </a:r>
            <a:r>
              <a:rPr b="1" lang="en-US" sz="4400" spc="-1" strike="noStrike">
                <a:solidFill>
                  <a:srgbClr val="ffff66"/>
                </a:solidFill>
                <a:latin typeface="Arial"/>
              </a:rPr>
              <a:t>chez adul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uantité recommandée plus de 11 a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2500 mg Cl/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jo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Pas besoin de supplément pendant la grossesse et l'allaite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ffff66"/>
                </a:solidFill>
                <a:latin typeface="Arial"/>
              </a:rPr>
              <a:t>Nécessair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Apport quotidien habituel de sel et de nourriture: 3-9 g / jou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Arial"/>
              </a:rPr>
              <a:t>Potassium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25892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o-RO" sz="4400" spc="-1" strike="noStrike">
                <a:solidFill>
                  <a:srgbClr val="ffc000"/>
                </a:solidFill>
                <a:latin typeface="Arial"/>
              </a:rPr>
              <a:t>GÉNÉRALITÉS </a:t>
            </a:r>
            <a:br>
              <a:rPr sz="4400"/>
            </a:br>
            <a:r>
              <a:rPr b="1" lang="ro-RO" sz="4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8360" y="1989000"/>
            <a:ext cx="8229600" cy="38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Cation principal intracellulaire - 98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Quantit</a:t>
            </a: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é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total dans le corp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150-250 g (150 g = 3500 mEq)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plus petit chez les femmes</a:t>
            </a: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43 mEq / kg de poids corpor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Concentration sérique normale: 3,5-5 mEq / 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ffff66"/>
                </a:solidFill>
                <a:latin typeface="Arial"/>
              </a:rPr>
              <a:t>Rô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Maintien de l'équilibre osmotique et acido-bas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Activité neuromuscula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Synthèse des protéines (pour chaque gramme de N qui entre dans la structure des protéines cellulaires, 3 mEq K sont retenu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Au niveau musculai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Maintenir la masse muscula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Maintenir le stockage du glycogè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Influence la synthèse et l'activité de certaines enzymes et hormones (adrénaline, insuline, glucagon, STH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ffff66"/>
                </a:solidFill>
                <a:latin typeface="Arial"/>
              </a:rPr>
              <a:t>K et hypertens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Une alimentation riche en K a un effet hypotenseur, encore plus important que la réduction de l'apport en N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ffff66"/>
                </a:solidFill>
                <a:latin typeface="Arial"/>
              </a:rPr>
              <a:t>Métabolis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Absor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intestin grê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côl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Excré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c000"/>
                </a:solidFill>
                <a:latin typeface="Arial"/>
              </a:rPr>
              <a:t>Urin</a:t>
            </a:r>
            <a:r>
              <a:rPr b="1" lang="en-US" sz="2000" spc="-1" strike="noStrike">
                <a:solidFill>
                  <a:srgbClr val="ffc000"/>
                </a:solidFill>
                <a:latin typeface="Arial"/>
              </a:rPr>
              <a:t>e</a:t>
            </a: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 (80-90%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Fèces  (5-15%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Cutané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Réna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Filt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Réabsor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Excré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ffff66"/>
                </a:solidFill>
                <a:latin typeface="Arial"/>
              </a:rPr>
              <a:t>Nécessaire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Apport recommandé: 3,5 g / jour (EFSA, 2017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Arial"/>
              </a:rPr>
              <a:t>Sour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On le trouve dans presque tous les ali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Fraîch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Congelé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Produits végéta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Produits animau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ffff66"/>
                </a:solidFill>
                <a:latin typeface="Arial"/>
              </a:rPr>
              <a:t>Sources - grandes quantité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cc66"/>
                </a:solidFill>
                <a:latin typeface="Arial"/>
              </a:rPr>
              <a:t>Vian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Produits de vian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cc66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ois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cc66"/>
                </a:solidFill>
                <a:latin typeface="Arial"/>
              </a:rPr>
              <a:t>La</a:t>
            </a: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Produits laitiers (yogour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Grains ent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Légumineuses séché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cc66"/>
                </a:solidFill>
                <a:latin typeface="Arial"/>
              </a:rPr>
              <a:t>Légu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bbe0e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bbe0e3"/>
                </a:solidFill>
                <a:latin typeface="Arial"/>
              </a:rPr>
              <a:t>Tom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Épin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Sal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Champign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bbe0e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bbe0e3"/>
                </a:solidFill>
                <a:latin typeface="Arial"/>
              </a:rPr>
              <a:t>Pommes de ter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bbe0e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bbe0e3"/>
                </a:solidFill>
                <a:latin typeface="Arial"/>
              </a:rPr>
              <a:t>So</a:t>
            </a:r>
            <a:r>
              <a:rPr b="1" lang="en-US" sz="1800" spc="-1" strike="noStrike">
                <a:solidFill>
                  <a:srgbClr val="bbe0e3"/>
                </a:solidFill>
                <a:latin typeface="Arial"/>
              </a:rPr>
              <a:t>j</a:t>
            </a:r>
            <a:r>
              <a:rPr b="1" lang="ro-RO" sz="1800" spc="-1" strike="noStrike">
                <a:solidFill>
                  <a:srgbClr val="bbe0e3"/>
                </a:solidFill>
                <a:latin typeface="Arial"/>
              </a:rPr>
              <a:t>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cc66"/>
                </a:solidFill>
                <a:latin typeface="Arial"/>
              </a:rPr>
              <a:t>Fru</a:t>
            </a: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its</a:t>
            </a: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Banan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bbe0e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be0e3"/>
                </a:solidFill>
                <a:latin typeface="Arial"/>
              </a:rPr>
              <a:t>Mel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bbe0e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be0e3"/>
                </a:solidFill>
                <a:latin typeface="Arial"/>
              </a:rPr>
              <a:t>A</a:t>
            </a:r>
            <a:r>
              <a:rPr b="1" lang="ro-RO" sz="1800" spc="-1" strike="noStrike">
                <a:solidFill>
                  <a:srgbClr val="bbe0e3"/>
                </a:solidFill>
                <a:latin typeface="Arial"/>
              </a:rPr>
              <a:t>brico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ais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oisett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Arial"/>
              </a:rPr>
              <a:t>Sodium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ff66"/>
                </a:solidFill>
                <a:latin typeface="Arial"/>
              </a:rPr>
              <a:t>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Arial"/>
              </a:rPr>
              <a:t>Sources - petites quantité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Farine blan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Riz décortiqu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Boissons alcoolisées distillé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Arial"/>
              </a:rPr>
              <a:t>Calcium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C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o-RO" sz="4400" spc="-1" strike="noStrike">
                <a:solidFill>
                  <a:srgbClr val="ffc000"/>
                </a:solidFill>
                <a:latin typeface="Arial"/>
              </a:rPr>
              <a:t>GÉNÉRALITÉS </a:t>
            </a:r>
            <a:br>
              <a:rPr sz="4400"/>
            </a:br>
            <a:r>
              <a:rPr b="1" lang="ro-RO" sz="4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50920" y="1628640"/>
            <a:ext cx="860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Le minéral présent en plus grande quantité dans le cor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2-4% du poids corpor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40% de la teneur totale en minéra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Indispensable pour l'intégrité du système osseux et des d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Rôle plastique important avec le phosph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ffff66"/>
                </a:solidFill>
                <a:latin typeface="Arial"/>
              </a:rPr>
              <a:t>Distribu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99%: Sels phosphocalciques (hydroxyapatite de calcium - un dérivé du phosphate de C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1%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g</a:t>
            </a: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Fluides extracellulai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Cellul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ff66"/>
                </a:solidFill>
                <a:latin typeface="Arial"/>
              </a:rPr>
              <a:t>La quantité dans l’organis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omme adulte</a:t>
            </a: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1200 g 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Fem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e adulte</a:t>
            </a: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900-1000 g 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Nouveau-né: :</a:t>
            </a: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30 g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Enfant à 1 an 80 g Ca</a:t>
            </a: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88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ffff66"/>
                </a:solidFill>
                <a:latin typeface="Arial"/>
              </a:rPr>
              <a:t>Ca </a:t>
            </a:r>
            <a:r>
              <a:rPr b="1" lang="en-US" sz="4400" spc="-1" strike="noStrike">
                <a:solidFill>
                  <a:srgbClr val="ffff66"/>
                </a:solidFill>
                <a:latin typeface="Arial"/>
              </a:rPr>
              <a:t>du </a:t>
            </a:r>
            <a:r>
              <a:rPr b="1" lang="ro-RO" sz="4400" spc="-1" strike="noStrike">
                <a:solidFill>
                  <a:srgbClr val="ffff66"/>
                </a:solidFill>
                <a:latin typeface="Arial"/>
              </a:rPr>
              <a:t>squelett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88880" y="1131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Réser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Stocké dans les principales trabécules osseu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Mobilisé pour répondre aux besoins accrus de la grossesse, de l'allaitement ou de la croiss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Ca – </a:t>
            </a: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dans les os: cristaux d'hydroxyapatit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ffff66"/>
                </a:solidFill>
                <a:latin typeface="Arial"/>
              </a:rPr>
              <a:t>Ca sériqu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Libre (ionique) </a:t>
            </a: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45-5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Forme fonctionnel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Complexes de Ca et anions: </a:t>
            </a: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8-1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Phosphates, citr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Ca lié aux protéines (albumine): </a:t>
            </a: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40-45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Concentration sériqu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Ca total: </a:t>
            </a: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8,8-10,8 mg/dl (2,2-2,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 mmol/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Ca ionique:</a:t>
            </a: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4,4-5,5 mg/dl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(1,12-1,23 mmol/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ffff66"/>
                </a:solidFill>
                <a:latin typeface="Arial"/>
              </a:rPr>
              <a:t>Absorp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Pourcentage de Ca ingéré qui est absorbé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Globalement: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5</a:t>
            </a: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Forme absorbé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Solub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complexes de faible poids moléculai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Oxala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Carbona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66"/>
                </a:solidFill>
                <a:latin typeface="Arial"/>
              </a:rPr>
              <a:t>Les facteurs qui favorisent l'absorptio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Vitamine D active (calcitrio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Acidité gastr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c000"/>
                </a:solidFill>
                <a:latin typeface="Arial"/>
              </a:rPr>
              <a:t>La presence</a:t>
            </a:r>
            <a:r>
              <a:rPr b="1" lang="en-US" sz="2400" spc="-1" strike="noStrike">
                <a:solidFill>
                  <a:srgbClr val="ffc000"/>
                </a:solidFill>
                <a:latin typeface="Arial"/>
              </a:rPr>
              <a:t>:</a:t>
            </a:r>
            <a:r>
              <a:rPr b="1" lang="ro-RO" sz="2400" spc="-1" strike="noStrike">
                <a:solidFill>
                  <a:srgbClr val="ffc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Protéin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Lact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Acide lacti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Acide citriqu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Vitamine et mineraux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vitami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 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Vitami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F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M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M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Carence en phosph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Carence en calciu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Acide oxalique d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Épinards (5% de Ca est absorbé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Rhubar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Patates dou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Harico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Fibres alimentaires (si l'apport est&gt; 50 g / jou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Lipides en grande quantit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Glucocorticoï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Ménopa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Carence en œstrogèn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Arial"/>
              </a:rPr>
              <a:t>Les f</a:t>
            </a:r>
            <a:r>
              <a:rPr b="1" lang="ro-RO" sz="4400" spc="-1" strike="noStrike">
                <a:solidFill>
                  <a:srgbClr val="ffff66"/>
                </a:solidFill>
                <a:latin typeface="Arial"/>
              </a:rPr>
              <a:t>acteurs qui diminuent l'absor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o-RO" sz="4400" spc="-1" strike="noStrike">
                <a:solidFill>
                  <a:srgbClr val="ffc000"/>
                </a:solidFill>
                <a:latin typeface="Arial"/>
              </a:rPr>
              <a:t>GÉNÉRALITÉS </a:t>
            </a:r>
            <a:br>
              <a:rPr sz="4400"/>
            </a:br>
            <a:r>
              <a:rPr b="1" lang="ro-RO" sz="4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Cation majeur extracellula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2% des minéraux du cor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Valeur sérique normale: 136-145 mEq / l (mmol / 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Quantité totale dans le corps: 90-100 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Il peut être trouvé da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Sécrétions gastriques (bile, suc pancréatiqu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Squelette (35-40%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L'absorption est augmentée par l'acidité gastrique, de sorte que le Ca est plus difficile à absorber en l'absence de nourri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66"/>
                </a:solidFill>
                <a:latin typeface="Arial"/>
              </a:rPr>
              <a:t>Absorption de Ca dans divers états physiologiqu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24000" y="1916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Augmenté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es nourriss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rosses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Lact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066920" y="1916280"/>
            <a:ext cx="4537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minu</a:t>
            </a: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é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Sujets âgés (de 0,2% par a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Après la ménopause (2% par an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ffff66"/>
                </a:solidFill>
                <a:latin typeface="Arial"/>
              </a:rPr>
              <a:t>Excré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871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Excrétion </a:t>
            </a:r>
            <a:r>
              <a:rPr b="1" lang="fr-FR" sz="2800" spc="-1" strike="noStrike">
                <a:solidFill>
                  <a:srgbClr val="ffc000"/>
                </a:solidFill>
                <a:latin typeface="Arial"/>
              </a:rPr>
              <a:t>urinaire:</a:t>
            </a: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 100-200 mg / jo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diminue après 65 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Excrétion fécale: 100-120 mg / jo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Excrétion par transpiration: 16-24 mg / jo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Excrétion par les ongles, les cheveux, la desquamation de la peau: 60 mg / jou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66"/>
                </a:solidFill>
                <a:latin typeface="Arial"/>
              </a:rPr>
              <a:t>Facteurs qui augmentent l'excrétion urinair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24000" y="2332080"/>
            <a:ext cx="8229600" cy="34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Apport de proté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pport</a:t>
            </a: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 de glucides simp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Apport de so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pport</a:t>
            </a: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 excessive de caféi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ffff66"/>
                </a:solidFill>
                <a:latin typeface="Arial"/>
              </a:rPr>
              <a:t>Rô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Rôle plastique dans les os et les d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Fonctions métabol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Transport ionique transmembrana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Libération de neurotransmetteurs au niveau des synap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Modulation des fonctions hormon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Activation / inhibition enzymat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Requis da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Transmission nerve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Contrôle de l'activité cardia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Maintenir le tonus muscula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Contrôle de l'excitabilité neuromusculai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ffff66"/>
                </a:solidFill>
                <a:latin typeface="Arial"/>
              </a:rPr>
              <a:t>Ca ioniqu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initie la formation de caillots sangu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Stimulation de la libération de thromboplastine  par les plaquet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Cofacteur de la conversion de la prothrombine en thrombi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ffff66"/>
                </a:solidFill>
                <a:latin typeface="Arial"/>
              </a:rPr>
              <a:t>Autres rôl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864216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Active le facteur intrinsèque Castle, favorise l'absorption de la vitamine B12 dans l'ilé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Maintient l'équilibre hydroélectrolytique et acido-bas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Active les enzy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Labferment, trypsine, lipase, phosphatase alca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Effets sympathomimétiques, en antagonisme avec 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Diminue l'excitabilité neuromusculaire avec M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Il intervient dans le métabolisme du F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66"/>
                </a:solidFill>
                <a:latin typeface="Arial"/>
              </a:rPr>
              <a:t>Nécessaire , EFSA 2017 mg Ca / jour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ffffff"/>
                </a:solidFill>
                <a:latin typeface="Arial"/>
              </a:rPr>
              <a:t>Adul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18-24 ans: 1000 m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Plus de 25 ans: 950 m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Arial"/>
              </a:rPr>
              <a:t>Q</a:t>
            </a:r>
            <a:r>
              <a:rPr b="1" lang="ro-RO" sz="4400" spc="-1" strike="noStrike">
                <a:solidFill>
                  <a:srgbClr val="ffff66"/>
                </a:solidFill>
                <a:latin typeface="Arial"/>
              </a:rPr>
              <a:t>uantité maximum autorisé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2500 mg/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o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ffff66"/>
                </a:solidFill>
                <a:latin typeface="Arial"/>
              </a:rPr>
              <a:t>S</a:t>
            </a:r>
            <a:r>
              <a:rPr b="1" lang="en-US" sz="4400" spc="-1" strike="noStrike">
                <a:solidFill>
                  <a:srgbClr val="ffff66"/>
                </a:solidFill>
                <a:latin typeface="Arial"/>
              </a:rPr>
              <a:t>o</a:t>
            </a:r>
            <a:r>
              <a:rPr b="1" lang="ro-RO" sz="4400" spc="-1" strike="noStrike">
                <a:solidFill>
                  <a:srgbClr val="ffff66"/>
                </a:solidFill>
                <a:latin typeface="Arial"/>
              </a:rPr>
              <a:t>ur</a:t>
            </a:r>
            <a:r>
              <a:rPr b="1" lang="en-US" sz="4400" spc="-1" strike="noStrike">
                <a:solidFill>
                  <a:srgbClr val="ffff66"/>
                </a:solidFill>
                <a:latin typeface="Arial"/>
              </a:rPr>
              <a:t>c</a:t>
            </a:r>
            <a:r>
              <a:rPr b="1" lang="ro-RO" sz="4400" spc="-1" strike="noStrike">
                <a:solidFill>
                  <a:srgbClr val="ffff66"/>
                </a:solidFill>
                <a:latin typeface="Arial"/>
              </a:rPr>
              <a:t>e</a:t>
            </a:r>
            <a:r>
              <a:rPr b="1" lang="en-US" sz="4400" spc="-1" strike="noStrike">
                <a:solidFill>
                  <a:srgbClr val="ffff66"/>
                </a:solidFill>
                <a:latin typeface="Arial"/>
              </a:rPr>
              <a:t>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Les sources les plus importantes: 75% des besoins quotidie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Lait (absorbé 27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rom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Sources riches (absorption supérieure à 50%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Légumes: chou, brocoli, pers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Huît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u</a:t>
            </a: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m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Conserve d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 poiss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Jaune d'œu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oisett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ffff66"/>
                </a:solidFill>
                <a:latin typeface="Arial"/>
              </a:rPr>
              <a:t>Rô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23640" y="177336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Intervient d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régulation du volume de plas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conduction de l'influx nerve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contrôle de la contraction muscula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régulation de la pression artériel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activation des enzymes (bêta galactosidase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De très bonnes sourc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So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man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Arachi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Autres sourc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Eaux minéra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Borsec: </a:t>
            </a: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341 mg/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Dorna:</a:t>
            </a: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346 mg/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Sources pauvr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Épinards (5% absorbé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Germe de bl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Haricots secs (absorbent 15%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ffff66"/>
                </a:solidFill>
                <a:latin typeface="Arial"/>
              </a:rPr>
              <a:t>Phosphor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ff66"/>
                </a:solidFill>
                <a:latin typeface="Arial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o-RO" sz="4400" spc="-1" strike="noStrike">
                <a:solidFill>
                  <a:srgbClr val="ffc000"/>
                </a:solidFill>
                <a:latin typeface="Arial"/>
              </a:rPr>
              <a:t>GÉNÉRALITÉS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Le phosphate est le principal anion intracellula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Contenu corporel total: 1% en poi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omme</a:t>
            </a: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 70 kg - 700 g (23 mmol) 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80% dans les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9% dans le muscle squelettiqu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Concentration sérique normale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3-4,5 mg/d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1-1,5 mmol/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ffff66"/>
                </a:solidFill>
                <a:latin typeface="Arial"/>
              </a:rPr>
              <a:t>Absorp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Lieu d'absorp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Intestin grê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Contrôlée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 </a:t>
            </a: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vitamine 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30120" y="15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ffff66"/>
                </a:solidFill>
                <a:latin typeface="Arial"/>
              </a:rPr>
              <a:t>Absorp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L'absorption est plus facile à partir des produits solubles (viand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Diminuer l'absorp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Caséine du lait: P dans le lait maternel est plus facilement absorbé que dans le lait de v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Acide phytique de céré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Antiacides liant les phosphat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ffff66"/>
                </a:solidFill>
                <a:latin typeface="Arial"/>
              </a:rPr>
              <a:t>Excrétion</a:t>
            </a: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rédominant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ré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Secondai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Desqua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Pea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Muqueuse intestina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ffff66"/>
                </a:solidFill>
                <a:latin typeface="Arial"/>
              </a:rPr>
              <a:t>Rô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80880" y="121896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Élément intracellulaire import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Composant majeur de l'os (hydroxyapatit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Composant des phospholipides de la membrane cellula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On le trouve dans les réserves d'énergie (ATP, AD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Composant de l'ADN, de l'AR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Composant de presque toutes les enzymes, messagers cellulai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Certaines hormones sont activées par phosphory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Vital dans la régulation de l'équilibre acido-basiqu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ffff66"/>
                </a:solidFill>
                <a:latin typeface="Arial"/>
              </a:rPr>
              <a:t>Nécessair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534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EFSA, 201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Nécessaire chez l'adulte: 550 mg / jou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ffff66"/>
                </a:solidFill>
                <a:latin typeface="Arial"/>
              </a:rPr>
              <a:t>Absorption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Dans 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intestin grê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gros intest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estomac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ffff66"/>
                </a:solidFill>
                <a:latin typeface="Arial"/>
              </a:rPr>
              <a:t>S</a:t>
            </a:r>
            <a:r>
              <a:rPr b="1" lang="en-US" sz="4400" spc="-1" strike="noStrike">
                <a:solidFill>
                  <a:srgbClr val="ffff66"/>
                </a:solidFill>
                <a:latin typeface="Arial"/>
              </a:rPr>
              <a:t>o</a:t>
            </a:r>
            <a:r>
              <a:rPr b="1" lang="ro-RO" sz="4400" spc="-1" strike="noStrike">
                <a:solidFill>
                  <a:srgbClr val="ffff66"/>
                </a:solidFill>
                <a:latin typeface="Arial"/>
              </a:rPr>
              <a:t>ur</a:t>
            </a:r>
            <a:r>
              <a:rPr b="1" lang="en-US" sz="4400" spc="-1" strike="noStrike">
                <a:solidFill>
                  <a:srgbClr val="ffff66"/>
                </a:solidFill>
                <a:latin typeface="Arial"/>
              </a:rPr>
              <a:t>c</a:t>
            </a:r>
            <a:r>
              <a:rPr b="1" lang="ro-RO" sz="4400" spc="-1" strike="noStrike">
                <a:solidFill>
                  <a:srgbClr val="ffff66"/>
                </a:solidFill>
                <a:latin typeface="Arial"/>
              </a:rPr>
              <a:t>e</a:t>
            </a: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P dans les ali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Natur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Additi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Attention! Certaines boissons gazeuses contiennent de l'acide phosphorique comme acidifia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ffff66"/>
                </a:solidFill>
                <a:latin typeface="Arial"/>
              </a:rPr>
              <a:t>Sources de nourritur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Aliments riches en proté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Céré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Les produits de viande et les fromages transformés contiennent plus de P que les produits nature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Arial"/>
              </a:rPr>
              <a:t>MAGNÉSIUM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M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o-RO" sz="4400" spc="-1" strike="noStrike">
                <a:solidFill>
                  <a:srgbClr val="ffc000"/>
                </a:solidFill>
                <a:latin typeface="Arial"/>
              </a:rPr>
              <a:t>GÉNÉRALITÉS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Le quatrième cation dans le cor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e deuxième cation intracellula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Impliqué dans plus de 300 réactions métaboliques essentiell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Quantité totale de Mg dans le corps = 20-25 g (1000 mmo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Concentration sérique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= 0</a:t>
            </a: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75-1</a:t>
            </a: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 mmol/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= 1,8-2,4 mEq/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1 mmol = 2 mEq = 24,3 m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ff66"/>
                </a:solidFill>
                <a:latin typeface="Arial"/>
              </a:rPr>
              <a:t>Distribution de Mg dans le corp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Os:</a:t>
            </a: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50-60% (phosphate d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g</a:t>
            </a: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20% de Mg peuvent être mobilisés au beso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Muscles + tissus mous: 40-5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Fluides extracellulaires: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1%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ffff66"/>
                </a:solidFill>
                <a:latin typeface="Arial"/>
              </a:rPr>
              <a:t>Absorp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eu</a:t>
            </a: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intestin grêle (jéjunum et ilé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Il est absorbé environ 30 à 40%, le reste est éliminé dans les sel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324000" y="1517760"/>
            <a:ext cx="8229600" cy="421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Absorbé de toute préparation de sel soluble (citrate, chlorure, aspartate, lactate, gluconat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Non absorbé par l'oxyde ou l'hydroxyde de Mg (insoluble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Arial"/>
              </a:rPr>
              <a:t>RÔ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68360" y="1125360"/>
            <a:ext cx="8229600" cy="507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ôle dans le métabolis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facteur enzymat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Fournit une structure de résistan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s (avec Ca, 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dentaire (avec Ca et F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Réduit l'excitabilité des fibres myocardiques et musculai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Il intervient dans la conductivité myocardique et la contractili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Rôle dans la synthèse des acides nucléiques, la synthèse des proté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Rôle dans la transmission de l'influx nerve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Rôle dans le transport transmembrana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Action antiathérogè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ctive la synthèse d'immunoglobulin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ffff66"/>
                </a:solidFill>
                <a:latin typeface="Arial"/>
              </a:rPr>
              <a:t>Avantages possibl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Diminue l'action des radicaux libres, effet antioxyd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Protection cardiovascula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Il abaisse la tension artériel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Diminue le risque de diabète et de résistance à l'insu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Effet du maintien d'une structure osseuse norma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ffff66"/>
                </a:solidFill>
                <a:latin typeface="Arial"/>
              </a:rPr>
              <a:t>Excré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8640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Au niveau du re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iltré et réabsorbé actif, en proportion de 99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Secondai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Cutan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Digestif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323640" y="1413000"/>
            <a:ext cx="856908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hommes </a:t>
            </a: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fem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350 mg/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jour</a:t>
            </a: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300 g/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jo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Limite maximale admissible (à partir de suppléments et de médicaments): 350 mg / jou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ffff00"/>
                </a:solidFill>
                <a:latin typeface="Arial"/>
              </a:rPr>
              <a:t>Nécessaire – EFSA, 201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Arial"/>
              </a:rPr>
              <a:t>Sources naturell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Légumes verts (partie de la chlorophylle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Épin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ines de tournes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Harico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éréa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n de bl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Avo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Vian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Oléagine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oix de cajo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man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ép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Caf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Caca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h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457200" y="928440"/>
            <a:ext cx="8507520" cy="51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Un apport de 350 mg Mg est assuré pa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75 g de graines de tournes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 g de 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50 g de céré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200 g de haricots se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0 g d'or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0 g d'épin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,2 kg de légu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 kg de pois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,2 kg de vian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ffff66"/>
                </a:solidFill>
                <a:latin typeface="Arial"/>
              </a:rPr>
              <a:t>Soufr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S</a:t>
            </a:r>
            <a:r>
              <a:rPr b="1" lang="ro-RO" sz="32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o-RO" sz="4400" spc="-1" strike="noStrike">
                <a:solidFill>
                  <a:srgbClr val="ffc000"/>
                </a:solidFill>
                <a:latin typeface="Arial"/>
              </a:rPr>
              <a:t>GÉNÉRALITÉS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fonctions importantes dans le corps hum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rement mentionn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le corps d'un adulte contient environ 140 à 150 g de souf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ffff00"/>
                </a:solidFill>
                <a:latin typeface="Arial"/>
              </a:rPr>
              <a:t>Rô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Tout d'abord, le rôle plasti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impliqués dans la synthèse de presque toutes les parties d’organisme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Autres rôles important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intervient dans les métabolismes intermédiaire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méliore la fonction hépatiqu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intervient dans la synthèse de substances importantes - participe à l'hémostase nécessaire en cas de lésion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fait partie de la structure des vitamines B1 et B7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st contenu dans l'insulin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git comme un antioxydan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protège les cellules de l'action nocive des facteurs environnementaux, tels que la pollution et les radiation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intervient dans la production de collagène, participant ainsi également au maintien de l'élasticité de la peau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il fait partie de la structure de la kératin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ffff66"/>
                </a:solidFill>
                <a:latin typeface="Arial"/>
              </a:rPr>
              <a:t>Nécessair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Nécessaire chez les adultes: environ 1-1,3 g / jo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ffff66"/>
                </a:solidFill>
                <a:latin typeface="Arial"/>
              </a:rPr>
              <a:t>Les sources alimentair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La principale source de souf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les acides aminés méthionine, cystine, cystéine et taur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Tous les aliments riches en protéines contiennent également du souf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viande (y compris poiss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duits lait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œufs (en particulier le jaune d'œu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égumineuses (harico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ucifères (chou, chou-fleur, brocol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erme de blé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aliments contenant du soufre non protéiqu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licine à l'ai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17% de sulfate inorganique dans l'aliment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'ea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tres boiss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iè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V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id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uelques ju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ffff66"/>
                </a:solidFill>
                <a:latin typeface="Arial"/>
              </a:rPr>
              <a:t>Nécessaire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Minimum: 500 mg Na / jo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Apport habituel: 4-5 g Na / jour (10-12 g se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Recommand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OMS, 2012: maximum 2000 mg / jour (5 g de se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Régime DASH: 1600-2300 mg Na / jo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1 g Na pour 2,5 g NaCl (se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1 g de NaCl contient 400 mg de 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Pas besoin de supplément pendant la grossesse et l'allaite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8T12:06:16Z</dcterms:created>
  <dc:creator>mihaela.rosu</dc:creator>
  <dc:description/>
  <dc:language>en-US</dc:language>
  <cp:lastModifiedBy>ada</cp:lastModifiedBy>
  <dcterms:modified xsi:type="dcterms:W3CDTF">2021-04-23T08:58:07Z</dcterms:modified>
  <cp:revision>180</cp:revision>
  <dc:subject/>
  <dc:title>Sodiu</dc:title>
</cp:coreProperties>
</file>