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F0C-212E-4A37-AF09-B859290F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D5D-FAB5-4613-92ED-872FC0F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18F-8E91-438D-9C81-DC0FA1D4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4C8-4B95-44B0-978F-B64E41CF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8A1-DF9C-4DFE-94F9-12AC0F93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723-A2CE-41DA-97C1-631E3C2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1BF-7A30-4B63-8CA7-53BA6280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D3D-0317-46FD-AEB0-14B795D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FD6-A45E-43E5-B972-90C37E8B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204-5437-45FA-B6A5-4A511E7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77A-9B1C-48F1-B00D-E889874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03F-DDC7-4702-B81B-3157AD1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B4CF-5C6E-4B1A-A603-74C6C90D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00"/>
                </a:solidFill>
                <a:latin typeface="Arial"/>
              </a:rPr>
              <a:t>L'ea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'eau devient utilisable en ajoutant du ch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Quantit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mett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ur l'eau potable: 0,5 à 1 partie par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ur l'eau du bain: 1 à 2 parties par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ut également être stérilisé par l'ajout d'ozone (1 à 2 parties par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viron 5 millions de décès par an sont causés par une eau impropre à la consom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2000 ml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-1,5 ml/kcal d'énergie consom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mme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3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emmes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2,2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mmes enceintes: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,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mmes qui allaitent: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une addi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600-700 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 ml/kcal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5 ml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s nourri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5 ml/kcal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50 ml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Jeunes e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50-60 ml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'origine de l'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e la nourriture: 2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au contenue dans les al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au résultant de leur métabo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à partir de liquides: 50-80%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Augmentation du nécessaire  en 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position à des températures extrêmes (chaudes ou fro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gmente la quantité d'eau nécessaire pour maintenir la température corpor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ité physique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gmente la perte de peau (transpi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position à l'air chauffé ou climat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gmente la perte par évaporation de la p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rossesse, all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gmente la quantité de liquide dans l’organisme d'une fe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gime riche en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lus d'eau est nécessaire pour éviter la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er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pathologique de liq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e perte d'eau de plus de 20% du poids corporel (par vomissements, diarrhée, polyurie, etc.) peut entraîner la m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besoin en eau augmente dans les conditions fébriles, étant nécessaire la supplémentation avec 500 ml / jour pour chaque degré au-dessus de 37º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47640" y="1052640"/>
            <a:ext cx="6172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ccecff"/>
                </a:solidFill>
                <a:latin typeface="Arial"/>
              </a:rPr>
              <a:t>Alco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0880" y="2025720"/>
            <a:ext cx="76201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Ce n'est pas nécessaire pour l’organisme, mais, au contraire, en grande quantité, il est nocif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Fournit de l'énergie, 1 g d'alcool = 7 kcal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Les petites quantités (125 ml de vin, 40 ml de spiritueux, 330 ml de bière) ne semblent pas avoir d'impact négatif, mais on estime qu'elles produisent même des effets bénéfiqu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ugmentation du cholestérol H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iminution de la coagulation sangu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ugmentation de la sensibilité à l'insu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bbe0e3"/>
                </a:solidFill>
                <a:latin typeface="Arial"/>
              </a:rPr>
              <a:t>Le café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8288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ctuellement, il est recommandé de consommer jusqu'à 200 (400) mg de caféine / jour, ce qui semble conduire à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minution du risque 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ém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é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abète de typ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éoplasmes (foie, côlon, se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contient également de nombreux antioxyda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010280" y="0"/>
            <a:ext cx="20289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ns eau, il n'y a pas de v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ndispensable pour l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ontenu </a:t>
            </a: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en l'eau d’organ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omme: 50 à 75% du poids corpo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tenu par â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ulte: 54% du poids corpo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À la naissance: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minue avec l'âge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ten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(adul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ommes: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emmes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pend du contenu du tissu adip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hez les femmes et obèses - plus pet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au totale (l) ≈ P (kg)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hez les fe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s sont réduits de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z l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 obè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s sont réduits de 10 à 20%, selon le degré d'obés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'eau dans l’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rganisme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 dans les cellules métaboliquement a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oins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e tissu o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a quantité d'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lus élevé chez les athlè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Fonctions de l'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ol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lieu réacti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strat dans les réactions métabo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mposant structu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xcré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ilieu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ermolyse (1 l d'eau transpirée = 600 kcal de chaleur dissipé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articipe à presque toutes les fonctions corpor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gulation de la température cor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port de nutriments, d'oxygène et de produits catabo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uillage des tissus (bouche, yeux, ne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artie principale de tous les liquides organiques (suc gastrique, salive, liquide amniotique,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amollir les selles, prévenir la 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tection des articulations et des organes in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Bilan hydr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cc"/>
                </a:solidFill>
                <a:latin typeface="Arial"/>
              </a:rPr>
              <a:t>Consommation d'eau quotid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tant que tel et les boiss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000-1700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ourritur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700-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ésultant du métabolism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200-3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cc"/>
                </a:solidFill>
                <a:latin typeface="Arial"/>
              </a:rPr>
              <a:t>Élimination quotidienne de l'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r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000-15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tières fécal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00-2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anspiration insensible (peau)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5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Élimin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es voies respiratoires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ertes physiologiques en 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r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inimum 750 ml pour maintenir la fonction ré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au = transpiration insensible (500-600 ml / j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30 ml/100 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spiration (300 ml / j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3 ml / 100 cal (à un PCO2 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tières fé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00 ml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35:06Z</dcterms:created>
  <dc:creator>Home</dc:creator>
  <dc:description/>
  <dc:language>en-US</dc:language>
  <cp:lastModifiedBy>ada gherbon</cp:lastModifiedBy>
  <dcterms:modified xsi:type="dcterms:W3CDTF">2021-04-09T08:15:33Z</dcterms:modified>
  <cp:revision>189</cp:revision>
  <dc:subject/>
  <dc:title>Apa</dc:title>
</cp:coreProperties>
</file>