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F0E-22C8-4428-8F99-9E2BBED6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1F3-863C-4450-8CE6-A95E396A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5CE-B8B2-4742-B412-35F4B7C1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46F-72A7-4D76-BC4C-B71680FF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291-A58A-4B77-AD57-8A36075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D9B-4558-42F4-BE4E-FAE2EAD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793-326F-4490-92B5-02380E9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411-A69B-4022-9666-249C914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A1E-9B83-49F3-BAC4-41AE4F5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E7C-BF87-4AEE-89B4-F919C45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213-D296-4AC9-A209-1C21483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0E4-AC48-4247-9812-6B56C29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06A7-01F2-4976-A1B9-8BD304A4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Vitamines liposolu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71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160" y="609120"/>
            <a:ext cx="10744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bbe0e3"/>
                </a:solidFill>
                <a:latin typeface="Arial"/>
              </a:rPr>
              <a:t>L</a:t>
            </a:r>
            <a:r>
              <a:rPr b="1" lang="fr-FR" sz="3200" spc="-1" strike="noStrike">
                <a:solidFill>
                  <a:srgbClr val="bbe0e3"/>
                </a:solidFill>
                <a:latin typeface="Arial"/>
              </a:rPr>
              <a:t>a différenciation cellulaire et la transcription des gè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'acide rétinoï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roissance et la différenciation des cellules épithéliales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hibition des promoteurs tumor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égulation de la transcription gé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914040"/>
            <a:ext cx="9753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bbe0e3"/>
                </a:solidFill>
                <a:latin typeface="Arial"/>
              </a:rPr>
              <a:t>Immun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anti-inflamm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immunomodu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bbe0e3"/>
                </a:solidFill>
                <a:latin typeface="Arial"/>
              </a:rPr>
              <a:t>Antioxyd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êta-carot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active les radicaux libres O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90360"/>
            <a:ext cx="101347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bbe0e3"/>
                </a:solidFill>
                <a:latin typeface="Arial"/>
              </a:rPr>
              <a:t>Autres rô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éveloppement embry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étabolisme o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ématopoï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'intégrité de la peau et régulation de la sécrétion des glandes sébac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Systèmes d'équival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 biodisponibilité et l'activité biologique de la vitamine A et de la provitamine A sont diffé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 est nécessaire d'utiliser un facteur d'équivalence afin de pouvoir comparer la quantité existante dans les al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3160" y="380880"/>
            <a:ext cx="11658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ER (activité équivalente au rétino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opté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 AER =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 μg de rétinol t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 μg de trans β-carotène provenant de suppléments (forme très bien absorbé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2 μg de bêta-carotène trans provenant des al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24 μ</a:t>
            </a: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g d'autres caroténoïdes trans (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carotène,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γ-</a:t>
            </a: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carotène, cryptoxanthi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étiquettes spécifient généralement la quantité de vitamine A dans l'UI, c'est pourquoi la méthode de conversion doit être conn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UI de rétinol = 0,3 μg 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UI de bêta-carotène provenant de suppléments = 0,15 μg 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UI de bêta-carotène d'origine alimentaire = 0,05 μg 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 UI d'autres caroténoïdes dans les aliments = 0,025 μg 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218960"/>
            <a:ext cx="1112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besoins nutritionnels en vitamine A peuvent être satisfaits en quantité suffisante à partir de n'importe quelle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étinol et 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aroténoï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binaisons d'entre 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SA, 2017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, adu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me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0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μg A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mme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0 μg A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imite maximale autorisée: 3000 μg 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ela ne concerne que le rétinol, pas le bêta-carot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760" y="2901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3352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êta-carot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ot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égumes aux feuilles jaunes et v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pha carot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ot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ile de palme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êta cryptoxant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oivron rouge do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p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72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ti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Huile de foie de p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duits laitie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Les risques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des </a:t>
            </a: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trop grandes quantit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fet tératog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Maladie psychiatrique (dé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ladie du fo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'ostéopor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Carence en vitamine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viron 20000 enfants par an deviennent aveugles en raison d'une carence en vitamin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Cau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ficit prima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 alimentation inadéq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rage préc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éficit secondai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fférentes mala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Vitamin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éti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aroténoï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Arial"/>
              </a:rPr>
              <a:t>Symptô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280" y="762120"/>
            <a:ext cx="12344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oubles oc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éméralopie, même la cécité compl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Xérophtalmie (opacification cornée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Kératomal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ints Bitot (dépôts de kératine dans la conjon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ffections de la p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au squameuse à tendance acné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usceptibilité accrue aux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ommages à l'émail d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oubles géni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érilité chez les ho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roubles menstruels chez les femme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éficit de croissance (en taille, poi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némie, par aggravation la carence en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8108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5000-30000 UI/jou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100.000 UI im, répétées après 4 sema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tamine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alcifé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62120" y="1066680"/>
            <a:ext cx="94485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Groupe de composés lipo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écostéroï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es pertinentes pour l’organisme hu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itamine D2 (ergocalcifér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itamine D3 (cholécalcifér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920" y="533520"/>
            <a:ext cx="118108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s se trouvent sous forme de précurse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rgostérol (provitamine D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7-déhydrocholestérol (provitamine D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rgosté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se trouve dans les p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l se transforme en ergocalcif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7-déhydrocholesté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hysiologiquement, il est dans le tissu sous-cutané hu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se transforme en cholécalciférol, sous l'action des rayons UV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609480"/>
            <a:ext cx="11734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taux de transformation des précurseurs dépend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titude, altitude, saison, présence de n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âge (les dépôts de vitamine D diminuent avec l'â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igmentation constitutionnelle (la pigmentation de la peau a pour effet de prévenir l'intoxication à la vitamine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exposition au soleil le matin ou en fin d'après-midi pendant l'été est une source importante de vitamine D (périodes où les rayons sont moins noc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crèmes avec protection ultraviolette, appliquées de manière chronique, peuvent entraîner une carence en vitamine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"/>
              </a:rPr>
              <a:t>Absorption </a:t>
            </a: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1523880"/>
            <a:ext cx="103629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holécalciférol exog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est absorbé dans l'intestin grê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st transporté vers le f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taux d'absorption est d'environ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bsorption diminue dans les syndromes de malabsor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Métabolisme </a:t>
            </a:r>
            <a:r>
              <a:rPr b="0" lang="pt-BR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1240" y="1577520"/>
            <a:ext cx="1091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ans le fo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e cholécalciférol est hydroxylé en 25-hydroxycholécalciférol (calcid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réaction de conversion est inhibé, quand il y a un apport accru de vitamine D3, pour éviter l'excè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alcidiol, à des doses physiologiques, est biologiquement in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240" y="1143000"/>
            <a:ext cx="1127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ans les r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tubules proximaux, sous l'action de la 1-α-hydroxylase, l'hydroxylation du calcidiol en 1,25-dihydroxycholécalciférol (calcitriol) se prod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alcitr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forme la plus active de vitamine D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810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7-déhydrochole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yons  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holécalcif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25-hydroxy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f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25-hydroxycholécalciférol (calcidi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1-α-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ydroxy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,25-dihydroxycholécalciférol (calcitrio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"/>
          <p:cNvCxnSpPr/>
          <p:nvPr/>
        </p:nvCxnSpPr>
        <p:spPr>
          <a:xfrm flipH="1">
            <a:off x="5560200" y="915480"/>
            <a:ext cx="396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0" name="Straight Arrow Connector 8"/>
          <p:cNvCxnSpPr/>
          <p:nvPr/>
        </p:nvCxnSpPr>
        <p:spPr>
          <a:xfrm flipH="1">
            <a:off x="5560200" y="2516040"/>
            <a:ext cx="3960" cy="1372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1" name="Straight Arrow Connector 10"/>
          <p:cNvCxnSpPr/>
          <p:nvPr/>
        </p:nvCxnSpPr>
        <p:spPr>
          <a:xfrm flipH="1">
            <a:off x="5484600" y="4268520"/>
            <a:ext cx="3600" cy="1448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Dé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vitamine A = terme nutritionnel pour une famille de composés alimenta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ss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ipo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tructurellement lié au ré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étinoïdes = rétinol + métabolites endogènes + nombreux analogues synthé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Rô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417320"/>
            <a:ext cx="109728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ans le métabolisme du Ca et du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intient la concentration intracellulaire et extracellulaire d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ans l'inte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timule l'absorption du Ca ainsi que du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ans les r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e l'excrétion rénale de Ca et de 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685800"/>
            <a:ext cx="9905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ans les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n petite quant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timule la minéralisation oss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n grande quant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voque la résorption osseuse (en mobilisant Ca des 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ans les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ugmente la formation d'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intenir le tonus musc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u niveau du système endocrin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ntrôle la synthèse de P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Autres rô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gent antiprolifératif pour certaines cellules tu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fficace dans le traitement du psor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minue l'incidence de l'hypertension artéri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1 μg de calciférol = 40 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SA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5 μg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imite maximale autorisée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00  μg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ndogè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ynthèse de vitamine D dans la peau, sous l'action des rayons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ogè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esque exclusivement des aliments d'origine an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huile de foie de p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isson 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une d'œ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 lait est généralement enrichi en vitamine D2 ou D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Arial"/>
              </a:rPr>
              <a:t>Évaluation du statut en vitamin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concentration sérique de calcidi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e meilleur indicateur du statut en vitamine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ormal: 20-150 nmol/l (9-60 ng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Carence en vitamine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osition insuffisante aux rayons U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ort alimentaire insuffi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aladies: foie, reins, mal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ersonnes à ris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usul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égétar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600" y="304920"/>
            <a:ext cx="10261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anifestations clin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z les enfants: rachit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z l'adulte: l'ostéomal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rai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it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D +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50000 U / semaine,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00 U / jour, jusqu'à la normalisation des valeurs de calcid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phylax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position au soleil: 10-15 minutes, 2-3 fois / sem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Excès de vitamine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e produit en cas de surdosage avec des suppléments vitami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la ne peut pas se produire uniquement par l'exposition au soleil et par l’apport ali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s effets toxiques se produi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z l'adulte, à un apport de 500 à 1000 μ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z les enfants, à&gt; 150 μ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ymptômes: calculs rénaux, polyurie, prur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Vitamine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Tocophé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or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ans les aliments végé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us forme de précurseurs (provitamine A - caroténoï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roténoïdes = pigments organiques issus de chloroplastes végétaux (&gt;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hez l'homme, 4 caroténoïdes à activité vitami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lpha-carot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êta-carot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amma-carot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êta-cryptoxanthi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Dé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terme vitamin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uit composés naturels liposolu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ocophérols (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α, β, γ, 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ocotriénols (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α, β, γ, 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cophérol (ou RRR-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cophé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 composé naturel avec la biodisponibilité la plus élev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ut-rac-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coph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posé synthétique de vitamin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élange de 8 stéréoisom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Rô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tioxy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mpêche l'oxydation des AG insatu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ibe l'action oxydante du perhydrol sur les globules rou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mpêche l'oxydation des vitamines A e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ffet protecteur dans certaines mala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ertains types de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rth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ladie coronarien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nsport de H dans les processus re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rophique neuronal et vasc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ssure le fonctionnement normal des organes géni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mpêche la stérilité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ntithrombo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"/>
              </a:rPr>
              <a:t>Absorption et métabo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752120"/>
            <a:ext cx="10896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bsorption: dans l'intestin grê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fficacité d'absorption =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é en cas de malabsorption des lip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ransport au f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pôts: dans le tissu adipeux et le muscle sous forme de RRR-α-tocophé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Arial"/>
              </a:rPr>
              <a:t>Les unités de mesure pour la vitamine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besoins en vitamine E sont exprimés en unités 2R-α-tocophé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1 UI de tout-rac-α-tocophérol ou ses ester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,45 mg de 2R-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coph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UI de RRR-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cophéro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,67 mg de 2R-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-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cophé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ié au contenu de l'alimentation en AG polyinsatu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0,4 m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E/1 g AG polyinsatu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SA, 2017, adult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Homme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g/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e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mg/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Sourc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eules les plantes synthétisent la vitamin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sources les plus ri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es huiles végétales comes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urces pauv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iande et autres produits d'origine an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Aliments rich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9219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sper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eu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a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léagin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a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pinards et autres légumes à feuilles ve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er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de 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"/>
              </a:rPr>
              <a:t>Défic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Vitamine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Menadio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520" y="533160"/>
            <a:ext cx="11277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ans les aliments d'origine ani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orme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e estérifiée (palmitate de rétin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'intestin grêle - converti en réti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orme de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orme d'aldéhyde (rét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ôle important pour la v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orme d'acide (acide rétinoï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ité vitaminique par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'a pas d'effets sur la rét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609120"/>
            <a:ext cx="11430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Vitamine K = terme générique qui comp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itamine K3 (ménadio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s déri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mpr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 composés naturellement 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K1 - phylloquinone ou phytoménad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ans les plantes v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K2 - ménaquinone ou ménatét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l se forme dans le gros intestin, sous l'action de bactéries anaéro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 formes synthétiques (K3, K4, K5) utilisées dans l'industrie animale, comme antifong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"/>
              </a:rPr>
              <a:t>Absorption et métabo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23880"/>
            <a:ext cx="975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K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st absorbé dans le duodénum (taux = 20-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'absorption diminue en cas de mal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st transporté vers le fo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Vi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K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duit par la flore intestinale (iléon terminal et côl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taux d'absorption est dimin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ncentration sérique normale de vitamine K1: 0,3-2,6 nmol /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Arial"/>
              </a:rPr>
              <a:t>Rô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371600"/>
            <a:ext cx="9601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ervient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ynthèse hépatique des facteurs de coa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étabolisme oss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ossible: protection cardiovascul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Vitamine K requise = 1 µg / kg de poids corporel (70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g / j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besoins en vitamine K n'augmentent pas pendant la grossesse et l'allai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"/>
              </a:rPr>
              <a:t>Sources</a:t>
            </a: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K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le trouve en plus grande quantité dans les plantes vertes, mais sa biodisponibilité est diminué (absorption de 15-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épin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hou, chou-fleur, brocoli, choux de Brux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vocat, 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er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duits laitiers (fro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i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eu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Arial"/>
              </a:rPr>
              <a:t>Dé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066320"/>
            <a:ext cx="11125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hémorragie due à une carence alimentaire en vitamine K est très r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Absorption, métabolis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2880"/>
            <a:ext cx="11506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À partir d'aliments végé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orption sous forme de rétinol (avec les lip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À partir d'aliments végé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êta-carot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testin grêle: il est absorbé avec les lip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l est converti en rétinyle ester, transporté vers le f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tocké dans le foie  (20-30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g/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foi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ffisant pour assurer le nécessaire pendant 5-10 mois, en l'absence d'a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Arial"/>
              </a:rPr>
              <a:t>Facteurs qui diminuent l'absorption intesti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506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e condition qui affecte l'absorption des lip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rence en sels bili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égime faible en lipides (&lt;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éparation des al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présence d'un excès de fibres alimentaires, en particulier certaines pec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ipides alimentaires inadéquats (par exemple, utilisation de substituants lipidiques non digesti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minution de l'acidité gas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 consommation d'al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1" lang="ro-RO" sz="4400" spc="-1" strike="noStrike">
                <a:solidFill>
                  <a:srgbClr val="ffffcc"/>
                </a:solidFill>
                <a:latin typeface="Arial"/>
              </a:rPr>
              <a:t>'efficacité d'absorp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1013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A (apport en quantités physiologique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70-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ta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A (apport élevé 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60-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êta-carotè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9-2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'absorption est plus élevée en cas d'apport diminu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"/>
              </a:rPr>
              <a:t>Rô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219320"/>
            <a:ext cx="10820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bbe0e3"/>
                </a:solidFill>
                <a:latin typeface="Arial"/>
              </a:rPr>
              <a:t>V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éti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rticipe à la synthèse des pigments rétiniens (rhodopsine et iodops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ôle dans la vue nocturne et crépus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'acide rétinoï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intient la morphologie et la fonction normales de la cornée et de la conjon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7:41:55Z</dcterms:created>
  <dc:creator>Home</dc:creator>
  <dc:description/>
  <dc:language>en-US</dc:language>
  <cp:lastModifiedBy>ada</cp:lastModifiedBy>
  <dcterms:modified xsi:type="dcterms:W3CDTF">2021-04-23T08:14:02Z</dcterms:modified>
  <cp:revision>242</cp:revision>
  <dc:subject/>
  <dc:title>Slide 1</dc:title>
</cp:coreProperties>
</file>