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FB4F-E606-4298-98A2-B530CC6CF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BCD4-33A8-40E2-8FCC-E6C8F32FD3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D92-D721-49F3-B190-7513DFD9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900-F22C-4389-BD4B-3A0AAB41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CC5D4-1BDA-43DF-8AB1-F2612930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F6E08-652A-40FE-92A7-24F3BF16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D49C5-B59F-44C3-819F-E876CB07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DBAA7-F3CC-4A65-9CE2-97682A5F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065B1-12CF-458D-A5C0-BAA331B1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35D33-6C12-43C8-BD03-CB34E72A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3C330-F9CD-4248-A3B4-A64DF4F6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9B90A-5353-427B-A79C-C68C3983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1081E-CC4E-48C2-B2C3-765969D0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5E6E2-83B3-4CF9-93DF-5CC49070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C34-5FAB-487B-84B1-69A99F02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E505F-E9F5-48E4-964A-6C0258FC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85665-5752-4D01-ABE6-2A3DE52D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07BF7-8248-4496-91ED-07F6349F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83DC9-8A22-4F17-BAD5-AE4A1A66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AA141-A97A-4462-B38D-D0EA8401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2D949-5624-474C-B1EF-EB42920D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AE13C-B80D-4113-BDF3-0673424C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0A91C-8367-44CD-AB54-89EEB03E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272E8-B7B4-40BF-A4C0-093F3C14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44396-EB61-46D4-8D63-F7C07CE2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1EE-4E0A-4C64-B48D-796E96F1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9B312-F6F0-4EA7-B8E3-7F633538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E820F-663A-44B1-AE13-B830B260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450DA-9D73-4261-A667-6CEC7ACD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82674-CE17-49A9-9162-FC2A0EDE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7580C-FA7E-442F-BB95-3AAA7599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55C5F-A67E-4113-8E30-8D521987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A06F6-E243-4E92-8321-4FA22A92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64688-7078-4AF2-B68F-F093D581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9A94D-F31F-4F10-86A1-1C31A5DE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FC3B8-AF1D-4B4D-9398-333EC1EC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D8E3-D75F-41E8-8F0F-B139357A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E2C3D-3B1B-4201-9567-C70AE7FD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5FB74-8015-479F-A132-C192A3F4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48F25-8792-4D3A-9DF9-656C38E7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3C9B7-136C-45B2-8A6A-CCAB3706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AE393-C6BF-4EBF-A66A-327D684D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EAC72-67FA-41F5-A63F-8284880D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D5E7F-E84B-4FF8-AEC5-40A525C6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85F53-4762-4491-A33D-0BB5CDFC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9E179-7542-44BA-996E-30022B49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F1240-FDC2-4F80-A24E-5B7849A1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BE48-EB7A-44A4-BB6E-0CA21DC0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8F399-2BC1-477F-B59B-7574AC6E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25518-5618-43E6-BAB4-0D23B8B0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2D80E-028E-4ABF-969B-95F43939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06FB2-9CFD-4599-BEE4-83DD02D9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3F2CE-FC75-4D51-9E4F-70D372FD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2E909-1ADA-4E36-A96E-61FBC6E2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5A50F-1F7D-42AA-AAEC-F366ACE9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4CCDF-A2F0-45E3-8432-0556261A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5B970-A2D4-4345-84CB-D09C2301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79ECB-F839-4E2F-8BE4-CFF4FC2C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CF89-9B47-4B43-BC5F-7C68434B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5B132-600C-4B54-8DC7-386B1B7E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6C9E7-36B1-4C71-8144-EAA9E062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701F2-0075-4F66-B69D-7E70D51E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BA1DEF-94DC-466F-9855-D64D84E3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C64ED-70DD-4029-99F0-2CE034E7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58065-E871-4644-972F-E160D6EC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C8728-3828-4A5D-9AC9-0C043268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9711-3435-4D71-8639-AB59C35D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0CE3-9128-4C4E-9B97-36C88F32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944C-C58A-45BD-A8A8-BFEF934C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D19B-03DC-4384-87D9-BCCD836A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351-DAE7-4ED1-B2E6-1CA9074F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65E7-AB0D-47DE-BA9C-D6B25E75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0B82-C42B-436D-B066-9C67D45B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AE66-69D6-411E-B25B-E09A394E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A527-78E9-4041-9D6B-94A57C17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AA31-543B-428B-AA97-02A502E6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F58DD-CAED-4063-8F5F-800C807E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8A118-C9D0-4D5A-AA8B-03E6B848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9455-3D35-4589-8F74-83C28871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2428F-38DC-4A68-98FF-D74AEEB2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21AF4-362F-46B8-8E48-ED2FFC99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46A-0EF4-435D-BFDB-18ACF775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8B0BC-C42F-43D3-AE81-07DDE474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9FD2E-7CFC-464C-AE9B-E5822A33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175A2-F9FC-4F53-9EE3-07F3EBAD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48CB5-CCBE-4FDE-A596-153BD64B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A91D-5883-4A8D-879F-506CDA79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1C2A-889E-43E5-8D33-A6465414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A0743-C6EE-4F20-A39C-2BFEB628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61FB8-9C42-49E3-BB97-6DD8812A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3D750-4EB8-4B74-8898-4CC2CF1D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C97E6-69CD-47D9-BC42-A272DB77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2C5-94A0-41EC-8CEB-1ED41C7F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7B4D5-E607-4719-BC25-702CA336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CCB0E-BA84-424A-A08C-7FD50522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5AAB-0496-4E91-93BB-DE271020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1A938-C52B-4C1A-B693-F173D86E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0D59C-3270-4416-829E-E5790C30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C3665-C25C-4C93-9972-6854205B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3F5BB-116C-4B1E-8DE7-F7A9585D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5EB99-51F9-4E0D-9D17-653BE639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E54C9-C330-4EA2-A522-0D455AFB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C3876-BA0C-454E-A998-2E50EED6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B8A-050E-46CA-9943-65D15D03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200CD-0229-4628-8A34-4E150178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1AFC3-7D2D-4326-A268-7BB0567D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37E27-E598-4B69-95D6-F652C37F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DC240-0678-4D96-80A6-B54E3E5D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B289C-0983-4192-BFD4-2174134A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55CEB-7F81-4531-B3FC-000CA33C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72899-F072-4B0E-B227-364E9A10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9F6D3-C0AC-43BE-A621-13B5DCD0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A9994-94E3-4674-A112-19B595A2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5CBB5-5D5A-4682-9B66-D28C61D6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0EF-53B7-4D16-B0F6-7D552810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A25C4-DDC0-4759-BB94-560EFD2C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78F03-0C6B-43A4-B123-B7C84231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FF3A6-14CC-4783-B89B-F24A4D1D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4871E-94DF-45CB-84A6-322636BB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C241C-B86D-4373-8E37-BF167F24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8C236-A81A-44C9-ACE9-41DCA478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9DCFB-452B-4E7B-AE56-A6DF9718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F45FF-6F2E-4735-81E0-7D155016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7DF13-18A7-41BE-8995-56DEEE98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65A11-42F4-487B-B290-11DDB71C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385-9219-4B34-A0E3-B62C19AE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EDEE6-2587-46F7-9F54-4C2D0C90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06BB5-21FC-4795-AE4C-2C93617E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1B2FD-E575-44D4-BE3A-FD3E45A8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43146-117F-4858-AC18-DCF10E1C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17291-6CED-4665-9F88-B64C7FFD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61EF8-4A80-443F-8BB0-1E621BB9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68F01-6588-4E4E-8CDF-54A248EB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E547F-B370-4489-AA12-AE194E0E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FAE95-52D1-42AB-AE8B-D60D4804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7F8ED-1746-46F8-894A-12AB89CE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242-420A-4166-A723-BF2F5130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4B068-29C9-44F7-80C7-C69E06DD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AD05D-33A0-4569-A074-980DFD74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79552-F96C-4E2F-A974-64699E88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3F144-56F0-4877-93F6-F90C5C30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D66D1-639E-4424-A21F-D4999ABC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A3268-C8A5-4F03-9533-00056ADB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9BD27-FB57-4372-B540-BA17DFBC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0656C-F63B-46F0-AC57-260CDC2E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9B8AC-38B3-45AC-82CA-950B6304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9F969-77C9-4922-95C5-16C7AA2A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F61-BA2C-4FAF-BFE5-C95DCC56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46226-1775-454D-8437-5E1F3466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DA69F-A814-41CC-9A16-874AEAD7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DFE94-4A07-4005-B42D-9D682CA3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E69E9-BF34-43BF-A9F4-4D13351A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D9386-5353-4604-AACD-82BC2626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D558E-98FC-4060-BACE-FC19C8D2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46E3A-785A-434D-8BD2-21912EDA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CA4C4-8324-47FF-9BCC-3D503142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1B3DB-AFC0-4740-B60F-2983EB80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7D050-DB73-4246-96C6-3959A4DC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C69B-331A-49E7-8724-B8738E339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FC8E-12DB-41F5-9386-FB3662AAC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B033-4499-4469-8B56-83135ECCA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2C82-2C39-495A-9D88-5E54B9B25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A62B-DE03-4681-9514-B5DAC88BD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1308-A39F-4633-9529-CE12CA83E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7C9B-DDCE-4431-9238-51A0AB25E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7521-2E74-4151-A3F9-D267CA9E8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77FF-65F3-4982-8ADE-FE6463F98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5900-25DA-4BA3-98B1-CCBAD9FB9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84BC-A7F7-4651-9724-501A40D3C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8671-B9CB-4E67-B240-EF68CA45E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1320" y="3713040"/>
            <a:ext cx="8003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NUTRI</a:t>
            </a:r>
            <a:r>
              <a:rPr b="1" lang="ro-RO" sz="6000" spc="-1" strike="noStrike">
                <a:solidFill>
                  <a:srgbClr val="000000"/>
                </a:solidFill>
                <a:latin typeface="Verdana"/>
              </a:rPr>
              <a:t>ŢIA LA VÂRSTNICI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Slide Number Placeholder 2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FLUID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isc mai mare de deshidratar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Posibilă şi hiperhidratare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e recomandă 6 pahare de apă/z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3561-50E1-4AA1-ACB5-1781F6AFAB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Ă A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Poate fi mai mic la vârstnici (metabolism hepatic şi clearance periferic reduse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portul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oate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reşte cu vârsta (alimente fortificate, suplimente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 (același ca la adulți)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900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g/zi la 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♂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700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g/zi la 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♀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87D4-6ADE-4100-8D24-CEA9554CB4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Ă D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85480" y="1804680"/>
            <a:ext cx="8577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Importantă pentru os şi tonusul muscular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La vârstnic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↓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inteza tegumentară, activarea renală şi răspunsul intestinului (mecanismul de transport intestinal al calciului stimulat de vitamina D)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DB57-4410-4C70-B26A-D9F096C956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Ă D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56628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Este nevoie de aport crescu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15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g/zi (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70 ani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20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g/zi (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70 ani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limente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eşte gra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limente fortificate (lactate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e recomandă frecvent suplimente: 20 </a:t>
            </a:r>
            <a:r>
              <a:rPr b="1" lang="el-GR" sz="30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g/z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1BC2-14DE-4461-B42B-58000F6AE7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Ă 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66280" y="148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 = 15 mg/zi (ca la adulți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onsum mai mic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e alimente cu con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ț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ut lipidic bogat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ecât recomandat (teama de ATS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eficitul franc este extrem de rar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D7B4-577D-4304-99EE-B74E88E308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Ă K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66280" y="1804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ol în coagulare şi în sinteza unor proteine osoase (inclusiv osteocalcina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I (ca la adulți)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120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g/zi la 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♂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90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g/zi la 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♀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CCCD-48C8-411F-A39B-133EB9EFD1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Ă 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6628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ol antioxidant, în vindecarea rănilor şi în apărarea imun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 (ca la adulți)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90 mg/zi la 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♂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75 mg/zi la 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♀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ei care consumă cantități mari de legume și fructe au un aport crescut de vitamina C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eficit la edentaţi, demenţi, instituţionalizaţ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A5FC-1709-4802-A745-C299F4F9F6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E B1, B2 ŞI B3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566280" y="16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ol în metabolismul energetic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ecesarul NU scade cu vârst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B1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Verdana"/>
              </a:rPr>
              <a:t>1,2 mg/zi la </a:t>
            </a:r>
            <a:r>
              <a:rPr b="0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♂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Verdana"/>
              </a:rPr>
              <a:t>1,1 mg/zi la </a:t>
            </a:r>
            <a:r>
              <a:rPr b="0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B2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Verdana"/>
              </a:rPr>
              <a:t>1,3 mg/zi la </a:t>
            </a:r>
            <a:r>
              <a:rPr b="0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♂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Verdana"/>
              </a:rPr>
              <a:t>1,1 mg/zi la </a:t>
            </a:r>
            <a:r>
              <a:rPr b="0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B3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Verdana"/>
              </a:rPr>
              <a:t>16 mg/zi la </a:t>
            </a:r>
            <a:r>
              <a:rPr b="0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♂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Verdana"/>
              </a:rPr>
              <a:t>14 mg/zi la </a:t>
            </a:r>
            <a:r>
              <a:rPr b="0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96EF-D32E-4A25-9074-5C836A6F6B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E B1, B2 ŞI B3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66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portul mediu depăşeşte RD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eficit de B1 la alcoolic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eficit de B2 la persoanele care evită lactatele şi carne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eficit de B2 şi B3 la persoanele sărac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5A32-4975-426E-A16A-F32C086453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FOLAŢ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cidul folic – coenzină cu rol esenţial în metabolismul acizilor nucleici şi AA (inclusiv homocisteină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eficitul de folaţ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hiperhomocisteinemi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odificări procarcinogenice ale ADN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disfuncţie cognitiv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nemi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7041-FF50-4448-ACC4-BB7FAB7AEF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66280" y="1947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Noţiuni introductiv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Modificări fiziologic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Modificări patologic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ecesarul nutri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ţiona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Evaluarea nutriţional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38E5-9731-4E90-9563-017EC931E7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FOLAŢ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auze ale deficitului de folaţ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determinism genetic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port inadecvat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alabsorbţi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onsum de etano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edicaţie antifolat (metotrexat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5EF8-92EC-4044-875C-F22CFADDBA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FOLAŢ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a la adulț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: 400 </a:t>
            </a:r>
            <a:r>
              <a:rPr b="1" lang="el-GR" sz="30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g/z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UL: 1000 </a:t>
            </a:r>
            <a:r>
              <a:rPr b="1" lang="el-GR" sz="30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g/z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8DE3-8305-4AEE-AB0C-854792F40D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FOLAŢ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13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oncentraţia folaţilor NU scade cu vârst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3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Ingestia de folaţi este mai mică la vârstnic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3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Fortificare a făinii (FDA) – biodisponibilitate 85-100% (faţă de 50% în legume şi fructe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36F6-7DE9-4470-B23F-2DD913328F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FOLAŢ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onsum de alimente fortificate: risc de depăşire a UL şi de mascare a semnelor anemiei prin deficit de B12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arenţa de folaţi: la vârstnicii ce nu consumă alimente fortificate, mai ales la instituţionalizaţi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3A6B-72DF-49BA-96D9-53B39F9517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123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Ă B6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itamina B6: coenzimă în metabolismul AA şi glicogenulu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Ingestia de B6 este suboptimă la majoritatea vârstnicilor, mai ales la cei cu poliartrită reumatoidă, demenţă, AVC şi instituţionalizaţ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AD28-091F-453B-8FE9-8B85F328DD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836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Ă B6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66280" y="1804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ârstnicii au un necesar crescut de B6 (probabil necesităţi metabolice crescute, pentru că absorbţia este normală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: 1,7 mg/zi (</a:t>
            </a:r>
            <a:r>
              <a:rPr b="1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♂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1,5 mg/zi (</a:t>
            </a:r>
            <a:r>
              <a:rPr b="1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♀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E3DE-F094-418B-852C-73E16F9A3A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Ă B12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itamina B12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hematopoez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funcţii neurologice normal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oenzimă pent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transferul grupărilor meti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trofia gastrică (10-30% la persoan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50 ani)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– favorizează carența de vitamină B12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13AF-4DA1-43C7-96FE-6B22E1FFDC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Ă B12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urse de B12: produsele animal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eficitul de B12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nemie macrocitară – megaloblastic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odificări neurologice (parestezii, tulburări de sensibilitate, ataxie, demenţă, tulburări de memorie şi psihice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hiperhomocisteinemi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770F-0EE8-4796-9788-775D5C713D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Ă B12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auze ale deficitului de B12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dietele complet vegetariene (rar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alabsorbţia (atrofia gastrică, rezecţiile gastrice, antisecretorii, H. pylori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: 2,4 </a:t>
            </a:r>
            <a:r>
              <a:rPr b="1" lang="el-GR" sz="30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g/zi (ca la adulți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limente fortificate sau suplimen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E861-F406-4384-BA7B-2D752B9077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SODIU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Frecvent consum crescu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Excesul – factor de risc în patologi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I mai mic decât la adulț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1300 mg/zi (51-70 ani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1200 mg/zi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70 an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322E-E1BA-4EDD-8413-346FD3EC9A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ARTICULARITĂȚI NUTRIŢIONALE LA VÂRSTNIC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ecesarul caloric sca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ecesarul altor nutrienţi de obicei nu se modifică </a:t>
            </a:r>
            <a:r>
              <a:rPr b="1" lang="ro-RO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nevoie de alimente foarte bune calitativ (ceea ce nu se prea întâmplă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iscul de suprapondere şi obezit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5221-D8B7-4AF4-A039-3ADC93A8ED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CALCIU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olur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sănătatea osulu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revenirea cancerului de colon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revenirea HTA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bsorbţia calciului scade cu vârsta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clorhidri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răspuns deficitar al intestinului la vitamina D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deficit de vitamină D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A84A-F380-4F6F-BC27-120FFB2C43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CALCIU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urse: produsele lact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portul scade cu vârst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 (recomandări din 2010)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51-70 ani: 1000 mg/zi (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♂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) și 1200 mg/zi (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♀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70 ani: 1200 m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orecţia deficitului de calciu reduce riscul de fracturi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A980-48BB-49F8-A548-EAAA0757D4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MAGNEZIU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olur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structura osoas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excitabilitatea neuromuscular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ofactor enzimatic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Există legătură între densitate osoasă scăzută ş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hipomagneziemi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port scăzut de magneziu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1BC6-30BB-4845-8BBA-3AFD71930A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MAGNEZIU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566280" y="16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bsorbţia magneziului scade cu vârst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Hipermagneziemie la cei ce folosesc laxative pe bază de magneziu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420 mg/zi (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♂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320 mg/zi (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♀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uplimentarea magneziului reduce riscul de fractur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B5DE-715D-44E3-9B92-4EA9C3549C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FIER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566640" y="1714320"/>
            <a:ext cx="82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olur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transportul oxigenului (component al hemoglobinei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răspunsul imun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bsorbţia fierului scade cu vârst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epozitele de fier sunt mai mari la vârstnici (risc pt. insulinorezistență, diabet, boli CV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ecesarul de Fe nu este influențat semnificativ de vârstă la bărbaț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2A21-4A2D-481D-A677-610B923098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FIER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566280" y="2000160"/>
            <a:ext cx="800100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: 8 mg/z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arenţă: instituţionalizaţi, cei cu hipoaciditate (mai ales dacă nu consumă fier provenit din grupările hem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3439-B187-4476-9B50-662B1F77DB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ZIN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oluri: catalitice, reglatoare (imune!), vindecarea rănilor, funcţional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 (ca la adulți)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11 mg/zi (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♂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8 mg/zi (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♀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Ingestia de zinc scade cu vârst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D8BD-7A2A-45A6-A8B5-291F2E0C4D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ZIN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orecţia deficitelor de Zn se face cu doze mici (40-50 mg/zi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uplimentele cu doze mari de Zn cresc riscul deficitului de Cu sau imunosupresie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5B9C-AE0B-42F9-9CB7-369DC806FB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CUPRU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ol catalitic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eficitul de Cu: boli CV, osteoporoz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Excesul de Cu: boala Alzheimer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 (ca la adulți): 900 </a:t>
            </a:r>
            <a:r>
              <a:rPr b="1" lang="el-GR" sz="30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g/z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portul de Cu scade la vârstnic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eficit: instituţionalizaţi, corecţie agresivă a deficitului de Zn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C1DA-DA7F-4380-B7C5-C58F031F8B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CROM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olur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reşterea sensibilităţii la insulin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meliorarea metabolismului glucoze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meliorarea lipidograme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Ingestia de Cr scade cu vârst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I la vârst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50 ani e mai mic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30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g/zi (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♂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20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g/zi (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♀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4117-CD6E-48D2-825C-EA3A5CB74A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ENERGET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566280" y="1766520"/>
            <a:ext cx="80010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ecesarul energetic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  <a:ea typeface="Arial"/>
              </a:rPr>
              <a:t>↓ la subiecți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Arial"/>
              </a:rPr>
              <a:t>&gt;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  <a:ea typeface="Arial"/>
              </a:rPr>
              <a:t>65 ani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(10 kcal/zi/an la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♂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şi      7 kcal/zi/an la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♀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↓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etabolismul baza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↓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ctivitatea fizic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C2B3-31AC-4E14-8D15-E8E28F7318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SELENIU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66280" y="1785600"/>
            <a:ext cx="80010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olur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tioxidant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reglarea acţiunii hormonilor tiroidien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reglarea acţiunii vitaminei C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eficitul de seleniu: f. rar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: 55 </a:t>
            </a:r>
            <a:r>
              <a:rPr b="1" lang="el-GR" sz="30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g/zi (ca la adulți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7C14-C0ED-4923-AD5C-7686D85B0A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566280" y="1947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Noţiuni introductiv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Modificări fiziologic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Modificări patologic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Necesarul nutri</a:t>
            </a: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ţiona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Evaluarea nutriţional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9DBE-ECE5-47CA-92E8-BE918D2449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NCHETA ALIMENTAR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vi-VN" sz="3000" spc="-1" strike="noStrike">
                <a:solidFill>
                  <a:srgbClr val="000000"/>
                </a:solidFill>
                <a:latin typeface="Verdana"/>
              </a:rPr>
              <a:t>Particularităţi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lterarea memoriei de scurtă durat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Efortul” perceput de subiec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bsenţa unui îngrijitor care să înregistreze alimentele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(instituţii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Lipsa timpului personalului (instituţii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422A-773E-4BF9-8684-D4BD279F01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MARKERII STATUSULUI PROTE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lbumin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Frecvent folosit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ro-RO" sz="3000" spc="-1" strike="noStrike" baseline="-25000">
                <a:solidFill>
                  <a:srgbClr val="000000"/>
                </a:solidFill>
                <a:latin typeface="Verdana"/>
              </a:rPr>
              <a:t>½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=18 zil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oncentrația plasmatică mai mică la vârstnic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emnificaţia hipoalbuminemiei: malnutriţie, inflamaţie cronică, hepatopatii avansate, sindrom nefrotic, malabsorbţi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D811-FB69-4FF1-8C6F-CF29228A7B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MARKERII STATUSULUI PROTE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D562-630E-42E6-A5C6-2E594C8A20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4" name="Picture 2" descr=""/>
          <p:cNvPicPr/>
          <p:nvPr/>
        </p:nvPicPr>
        <p:blipFill>
          <a:blip r:embed="rId1"/>
          <a:stretch/>
        </p:blipFill>
        <p:spPr>
          <a:xfrm>
            <a:off x="1809720" y="1714680"/>
            <a:ext cx="521496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MARKERII STATUSULUI PROTE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Prealbumina (transtiretina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Transportă tiroxin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ro-RO" sz="3000" spc="-1" strike="noStrike" baseline="-25000">
                <a:solidFill>
                  <a:srgbClr val="000000"/>
                </a:solidFill>
                <a:latin typeface="Verdana"/>
              </a:rPr>
              <a:t>½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=2 zil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cade după vârsta de 90 de an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La denutriţi realimentaţi trebuie să crească cu 10 mg/l/zi (minim 20 mg/l/săpt.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E4FD-8B4A-4457-AFF8-8AC0B449B6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EVALUAREA ANTROPOMETRIC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Greutate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ântăriri repetate (dificilă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IMC – calculat cu înălţimea de la 50 de ani (dacă este cunoscută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G mică: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80% G ideal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F67E-970A-473A-8699-ED5A9424DC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EVALUAREA ANTROPOMETRIC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566280" y="17143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căderea ponderal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emnificativă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2%/1 lun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5%/3 lun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10%/6 lun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G stabilă se poate întâlni şi în caz de creştere a masei adipoase asociată cu scăderea masei muscular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B208-13DE-4491-81D4-0D7328BF09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EVALUAREA ANTROPOMETRIC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5F4D-C16F-4897-910F-F82F91F761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566280" y="1752480"/>
            <a:ext cx="800100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Măsurarea circumferinței brațulu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2151000" y="2325600"/>
            <a:ext cx="470700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EVALUAREA ANTROPOMETRIC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Măsurarea rezervelor adipoas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IMC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ircumferinţa abdominal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Măsurarea pliului cutan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bsorbţiometrie cu raze X (DEXA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3224-4CF3-4605-971C-B1294378BC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ENERGET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ecesarul caloric mediu estimat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pt.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â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stnicii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instituționalizaț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51-70 ani: 2204 kcal/zi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♂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1978 kcal/zi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♀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&gt;70 ani: 2054 kcal/zi (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♂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873 kcal/zi (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♀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F670-4C5C-4B7B-9BA4-47E8B6ADEC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EVALUAREA ANTROPOMETRIC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Măsurarea masei muscular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Formule matematice (circumferinţa braţului, grosimea pliului cutanat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bsorbţiometrie cu raze X (DEXA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0000"/>
                </a:solidFill>
                <a:latin typeface="Verdana"/>
              </a:rPr>
              <a:t>C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0000"/>
                </a:solidFill>
                <a:latin typeface="Verdana"/>
              </a:rPr>
              <a:t>RMN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217E-AADB-4991-8438-FD2AC3A8C9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INDICII NUTRIŢIONAL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uantificarea unor parametri complecşi (anamnestici, ai examenului fizic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aloare predictivă bună pentru denutriţi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aloare predictivă slabă pentru supraponder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CEDB-0B00-44B6-A37F-F4E2C9F566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ENERGET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±perturbări ale balanţei energetic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Malnutriţia francă – rar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grupe de risc crescut pentru malnutriţie: bătrânii din cămine şi cei imobilizaţi la domiciliu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reşterea în greutate – reducerea activităţii fizic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C4F9-3857-4EB7-B595-1B476B6CBC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PROTE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566280" y="1714680"/>
            <a:ext cx="8001000" cy="39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celaşi ca la populaţia adultă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0,8 g/kg/z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portul proteic propriu-zis scade la vârstnici, dar este în general suficient (excepţie grupele de risc crescut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825C-0826-4CE7-925D-45EA12ED09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LIPID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celaşi ca la populaţia adultă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≈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1 g/kg/z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portul lipidic propriu-zis scade la vârstnici, dar este în general suficien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I (ceva mai mic decât la adulți)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cid linoleic: 14 g/zi 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♂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, 11 g/zi 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♀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cid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-linolenic: 1,6 g/zi 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♂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, 1,1 g/zi 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♀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93AB-5899-45C2-9A73-CDD8389207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CARBOHIDRAŢ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56628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portul absolut scade cu vârsta (procentul creşte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portul recomandat de fibre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30 g/zi (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♂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21 g/zi (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♀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623C-25AE-46F9-8329-AC1009A325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00:57Z</dcterms:created>
  <dc:creator>x</dc:creator>
  <dc:description/>
  <dc:language>en-US</dc:language>
  <cp:lastModifiedBy>User</cp:lastModifiedBy>
  <dcterms:modified xsi:type="dcterms:W3CDTF">2017-08-31T13:24:56Z</dcterms:modified>
  <cp:revision>262</cp:revision>
  <dc:subject/>
  <dc:title>Slide 1</dc:title>
</cp:coreProperties>
</file>