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7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  <p:sldId id="310" r:id="rId72"/>
    <p:sldId id="311" r:id="rId73"/>
    <p:sldId id="312" r:id="rId74"/>
    <p:sldId id="313" r:id="rId75"/>
    <p:sldId id="314" r:id="rId76"/>
    <p:sldId id="315" r:id="rId77"/>
    <p:sldId id="316" r:id="rId78"/>
    <p:sldId id="317" r:id="rId79"/>
    <p:sldId id="318" r:id="rId80"/>
    <p:sldId id="319" r:id="rId81"/>
    <p:sldId id="320" r:id="rId82"/>
    <p:sldId id="321" r:id="rId83"/>
    <p:sldId id="322" r:id="rId84"/>
    <p:sldId id="323" r:id="rId85"/>
    <p:sldId id="324" r:id="rId86"/>
    <p:sldId id="325" r:id="rId87"/>
    <p:sldId id="326" r:id="rId88"/>
    <p:sldId id="327" r:id="rId89"/>
    <p:sldId id="328" r:id="rId90"/>
    <p:sldId id="329" r:id="rId91"/>
    <p:sldId id="330" r:id="rId92"/>
    <p:sldId id="331" r:id="rId93"/>
    <p:sldId id="332" r:id="rId94"/>
    <p:sldId id="333" r:id="rId95"/>
    <p:sldId id="334" r:id="rId96"/>
    <p:sldId id="335" r:id="rId97"/>
    <p:sldId id="336" r:id="rId98"/>
    <p:sldId id="337" r:id="rId99"/>
    <p:sldId id="338" r:id="rId100"/>
    <p:sldId id="339" r:id="rId101"/>
    <p:sldId id="340" r:id="rId102"/>
    <p:sldId id="341" r:id="rId103"/>
    <p:sldId id="342" r:id="rId104"/>
    <p:sldId id="343" r:id="rId105"/>
    <p:sldId id="344" r:id="rId106"/>
    <p:sldId id="345" r:id="rId107"/>
    <p:sldId id="346" r:id="rId108"/>
    <p:sldId id="347" r:id="rId109"/>
    <p:sldId id="348" r:id="rId110"/>
    <p:sldId id="349" r:id="rId111"/>
    <p:sldId id="350" r:id="rId112"/>
    <p:sldId id="351" r:id="rId113"/>
    <p:sldId id="352" r:id="rId114"/>
    <p:sldId id="353" r:id="rId115"/>
    <p:sldId id="354" r:id="rId116"/>
    <p:sldId id="355" r:id="rId117"/>
    <p:sldId id="356" r:id="rId118"/>
    <p:sldId id="357" r:id="rId119"/>
    <p:sldId id="358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slide" Target="slides/slide55.xml"/><Relationship Id="rId73" Type="http://schemas.openxmlformats.org/officeDocument/2006/relationships/slide" Target="slides/slide56.xml"/><Relationship Id="rId74" Type="http://schemas.openxmlformats.org/officeDocument/2006/relationships/slide" Target="slides/slide57.xml"/><Relationship Id="rId75" Type="http://schemas.openxmlformats.org/officeDocument/2006/relationships/slide" Target="slides/slide58.xml"/><Relationship Id="rId76" Type="http://schemas.openxmlformats.org/officeDocument/2006/relationships/slide" Target="slides/slide59.xml"/><Relationship Id="rId77" Type="http://schemas.openxmlformats.org/officeDocument/2006/relationships/slide" Target="slides/slide60.xml"/><Relationship Id="rId78" Type="http://schemas.openxmlformats.org/officeDocument/2006/relationships/slide" Target="slides/slide61.xml"/><Relationship Id="rId79" Type="http://schemas.openxmlformats.org/officeDocument/2006/relationships/slide" Target="slides/slide62.xml"/><Relationship Id="rId80" Type="http://schemas.openxmlformats.org/officeDocument/2006/relationships/slide" Target="slides/slide63.xml"/><Relationship Id="rId81" Type="http://schemas.openxmlformats.org/officeDocument/2006/relationships/slide" Target="slides/slide64.xml"/><Relationship Id="rId82" Type="http://schemas.openxmlformats.org/officeDocument/2006/relationships/slide" Target="slides/slide65.xml"/><Relationship Id="rId83" Type="http://schemas.openxmlformats.org/officeDocument/2006/relationships/slide" Target="slides/slide66.xml"/><Relationship Id="rId84" Type="http://schemas.openxmlformats.org/officeDocument/2006/relationships/slide" Target="slides/slide67.xml"/><Relationship Id="rId85" Type="http://schemas.openxmlformats.org/officeDocument/2006/relationships/slide" Target="slides/slide68.xml"/><Relationship Id="rId86" Type="http://schemas.openxmlformats.org/officeDocument/2006/relationships/slide" Target="slides/slide69.xml"/><Relationship Id="rId87" Type="http://schemas.openxmlformats.org/officeDocument/2006/relationships/slide" Target="slides/slide70.xml"/><Relationship Id="rId88" Type="http://schemas.openxmlformats.org/officeDocument/2006/relationships/slide" Target="slides/slide71.xml"/><Relationship Id="rId89" Type="http://schemas.openxmlformats.org/officeDocument/2006/relationships/slide" Target="slides/slide72.xml"/><Relationship Id="rId90" Type="http://schemas.openxmlformats.org/officeDocument/2006/relationships/slide" Target="slides/slide73.xml"/><Relationship Id="rId91" Type="http://schemas.openxmlformats.org/officeDocument/2006/relationships/slide" Target="slides/slide74.xml"/><Relationship Id="rId92" Type="http://schemas.openxmlformats.org/officeDocument/2006/relationships/slide" Target="slides/slide75.xml"/><Relationship Id="rId93" Type="http://schemas.openxmlformats.org/officeDocument/2006/relationships/slide" Target="slides/slide76.xml"/><Relationship Id="rId94" Type="http://schemas.openxmlformats.org/officeDocument/2006/relationships/slide" Target="slides/slide77.xml"/><Relationship Id="rId95" Type="http://schemas.openxmlformats.org/officeDocument/2006/relationships/slide" Target="slides/slide78.xml"/><Relationship Id="rId96" Type="http://schemas.openxmlformats.org/officeDocument/2006/relationships/slide" Target="slides/slide79.xml"/><Relationship Id="rId97" Type="http://schemas.openxmlformats.org/officeDocument/2006/relationships/slide" Target="slides/slide80.xml"/><Relationship Id="rId98" Type="http://schemas.openxmlformats.org/officeDocument/2006/relationships/slide" Target="slides/slide81.xml"/><Relationship Id="rId99" Type="http://schemas.openxmlformats.org/officeDocument/2006/relationships/slide" Target="slides/slide82.xml"/><Relationship Id="rId100" Type="http://schemas.openxmlformats.org/officeDocument/2006/relationships/slide" Target="slides/slide83.xml"/><Relationship Id="rId101" Type="http://schemas.openxmlformats.org/officeDocument/2006/relationships/slide" Target="slides/slide84.xml"/><Relationship Id="rId102" Type="http://schemas.openxmlformats.org/officeDocument/2006/relationships/slide" Target="slides/slide85.xml"/><Relationship Id="rId103" Type="http://schemas.openxmlformats.org/officeDocument/2006/relationships/slide" Target="slides/slide86.xml"/><Relationship Id="rId104" Type="http://schemas.openxmlformats.org/officeDocument/2006/relationships/slide" Target="slides/slide87.xml"/><Relationship Id="rId105" Type="http://schemas.openxmlformats.org/officeDocument/2006/relationships/slide" Target="slides/slide88.xml"/><Relationship Id="rId106" Type="http://schemas.openxmlformats.org/officeDocument/2006/relationships/slide" Target="slides/slide89.xml"/><Relationship Id="rId107" Type="http://schemas.openxmlformats.org/officeDocument/2006/relationships/slide" Target="slides/slide90.xml"/><Relationship Id="rId108" Type="http://schemas.openxmlformats.org/officeDocument/2006/relationships/slide" Target="slides/slide91.xml"/><Relationship Id="rId109" Type="http://schemas.openxmlformats.org/officeDocument/2006/relationships/slide" Target="slides/slide92.xml"/><Relationship Id="rId110" Type="http://schemas.openxmlformats.org/officeDocument/2006/relationships/slide" Target="slides/slide93.xml"/><Relationship Id="rId111" Type="http://schemas.openxmlformats.org/officeDocument/2006/relationships/slide" Target="slides/slide94.xml"/><Relationship Id="rId112" Type="http://schemas.openxmlformats.org/officeDocument/2006/relationships/slide" Target="slides/slide95.xml"/><Relationship Id="rId113" Type="http://schemas.openxmlformats.org/officeDocument/2006/relationships/slide" Target="slides/slide96.xml"/><Relationship Id="rId114" Type="http://schemas.openxmlformats.org/officeDocument/2006/relationships/slide" Target="slides/slide97.xml"/><Relationship Id="rId115" Type="http://schemas.openxmlformats.org/officeDocument/2006/relationships/slide" Target="slides/slide98.xml"/><Relationship Id="rId116" Type="http://schemas.openxmlformats.org/officeDocument/2006/relationships/slide" Target="slides/slide99.xml"/><Relationship Id="rId117" Type="http://schemas.openxmlformats.org/officeDocument/2006/relationships/slide" Target="slides/slide100.xml"/><Relationship Id="rId118" Type="http://schemas.openxmlformats.org/officeDocument/2006/relationships/slide" Target="slides/slide101.xml"/><Relationship Id="rId119" Type="http://schemas.openxmlformats.org/officeDocument/2006/relationships/slide" Target="slides/slide102.xml"/><Relationship Id="rId120" Type="http://schemas.openxmlformats.org/officeDocument/2006/relationships/slide" Target="slides/slide103.xml"/><Relationship Id="rId1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CFD3-D6B1-446E-8366-B04EF43E7E27}" type="slidenum">
              <a:rPr b="0" lang="ro-RO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D7FB-9B4F-4052-BB71-46AA283AF6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9441-AB1E-4DAD-BF0A-A21088D77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8053-857F-4A14-BB95-F7DE7DBC7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DA91-6ED6-453A-B210-EE48D4F6B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88B4-603D-48C7-826F-BE91011A7DD8}" type="slidenum">
              <a:rPr b="0" lang="ro-RO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4F2E-358E-4B4D-961B-6DE18D23076A}" type="slidenum">
              <a:rPr b="0" lang="ro-RO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9E3D-38A5-4C53-8AE5-3498210816C1}" type="slidenum">
              <a:rPr b="0" lang="ro-RO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42A0-8D70-4940-AE91-4F9CA8EB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595D-4320-4618-8089-1113DFAA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06BD4-6EDF-409E-B702-FB951C5A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4F476-280E-4E56-9ED2-147FA60A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98134-453C-49F1-81F1-40550702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C0EC6-FADB-4A9B-B7CC-C80B3DDE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700D7-5D09-46DC-BE6F-523A4427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2E19C-0D09-4EF4-8D41-31165F3A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B3F0F-E7D0-4DB6-8A56-698F35B7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96D96-BE83-4D9D-944E-BAB0F305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68E65-0B7C-4763-B386-F2450F31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C2A97-5DA6-4ADE-9F51-9BF862DC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C7BB-9A16-4AA8-923F-9D4515DB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D93A8-D2B7-43A7-96DB-31CA2371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52F90-E5CB-4CE5-BC6A-12296EC6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F5721-55B7-43B0-A974-AEDB5250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2ED10-605B-4EA4-BCBF-EFAF841D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03D5F-08B3-4F2C-ACC9-E5150C27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9C7D1-B6D9-4968-8B29-B9959975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49FA6-DDEC-4181-8268-0E6A1708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F70A2-CE1A-4933-8742-80307F37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565A4-8171-4BDA-B9D9-5DE25D29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C9462-9D13-4227-BB01-29D4B80F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586D-51B1-45FA-812C-76876337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6CAE5-FB1D-4808-A872-C09E96C4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25E5B-39A7-47A1-9ADB-39B11317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93646-E256-4F00-BAE6-4BB0DFD7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575A3-1278-44AF-9A61-9F2EAC1F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2DE58-7F08-43FC-B886-6D369D78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96E65-6240-4422-9211-5A32396F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5A47D-7CB0-4515-B756-47272ED3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63E52-0D2B-4281-9DAE-A068E377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787DF-278A-4E0D-A92E-BBCB24A3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CCA8A-51FC-4DC8-990C-3AC69D05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240B-ED4F-4486-BC46-5AB11056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0C583-344A-4CF5-8124-0E32933C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A50B4-67A8-47EC-8881-6DE181EC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62844-416D-4A59-BA0D-E173E909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C5D47-3760-42EA-AB5C-89178026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27B54-9A12-43F8-B80F-61546C0F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39C89-E62A-4CA7-B50E-C4C352C8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A2839-FDF7-4750-8B26-CA96C027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ADAAD-4938-4570-9EB6-406354D8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C39E2-DD16-4CE9-AD52-5008DDB5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E40AF3-543A-4395-9FCA-3E655EB7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66E1-5ECE-4190-870E-D3A26F72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5B3A2-197F-4EAA-BE39-396F5057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53D10-4525-43CC-BAD2-30AA4A4A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EB29F-F444-4931-8398-BDB64460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D258F-0CC5-4272-90E3-A7B0964E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41A20-3851-4C93-9BE4-7648286B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342D5D-6FCE-43FF-A8FA-0140A980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1DAF4D-B329-4ED4-AA88-CF4B8639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74813E-E900-49B9-894F-48A1C97C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1D6860-12C0-4D7C-A4E8-738F7249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F8901-3163-43F2-96C9-A2090590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3D66-0F1E-4677-B6D6-5B535250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B69029-88EC-4B00-A1BC-65C766A5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051940-6ACB-46D9-AC5F-ADEB9A4E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628B2-8C48-4B1F-8362-2D713446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02DB24-E79F-44E4-8949-66B822A9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9F19B4-47D5-4EBB-A4B1-8A575544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6D8D6F-76B4-4C24-AE8E-1F444447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7A926C-9A55-416F-9801-23109C26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09CCDC-7EA6-46DD-8726-B7BDFABD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53EF75-3B52-4790-99ED-502CD288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5D2FFB-BD08-459C-A6CA-5A833EC4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736C-5E8E-465F-BB21-D4A5414E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7DF4AB-713F-4300-BA6F-2C08AFB9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4E1706-34B2-4E35-B4A5-E5CDD29D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607C91-2C9E-490E-8841-40E2842B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968A01-CB20-46BA-A720-0812FF51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DB8F76-12AA-4221-993E-415FD56C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EFAD94-05DB-4C3A-B145-AA13C724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9DB2F8-748D-402C-8CF7-60A756A0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12A2DA-EA25-4219-9D96-BAD14B90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E7BFF4-CE8A-4182-B17C-C39CB20C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E0BF4E-0C4D-4FB3-8051-667345BF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3B76-64F6-4CF2-AF54-8D410D90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04EE87-66FB-4208-ACDD-E8B3D307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542720-EBD1-4E69-934D-12C1833A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641139-3570-4716-86FE-0079C5D4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9BAAB4-562C-4163-BC49-3A344CDE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FC86BE-EC87-4EF8-9478-D702E23F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067EA3-352B-478F-94CD-DEADC768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A4324F-EB9F-4CC3-9107-409C3305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7CA4E6-C048-4AE6-AF07-CB5BAA26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668628-F42A-4B70-9B64-ED7227C3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8E8D98-2F65-451B-91F6-AF9BEAB52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EFDD-103F-4668-BF2B-19FD8A26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F4EC13-124A-411F-A6E2-76BBDA25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1C34-61F6-42FF-9766-F6E47C43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CCD-0373-499D-AB84-807A3908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06D2-3EC3-4956-90BD-C732A1C8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BF2E-AB12-4C19-83E0-688F9A79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D864-673D-45F8-8452-61C75638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6704-8EA1-43FD-9E7D-A45B32B0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E7E2-2FB0-4317-A2DD-103FE0D91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CE1D9-0120-4D95-9337-D8D30E94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C8F74-2D6F-4530-9BAB-0E7E053C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47527D-6378-452A-922A-BD96DDCC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BADC79-D852-418F-8F58-544638E8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95E96C-3614-4123-AD8D-7FEB76F9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D4D8-5611-4C0D-8913-324CAD48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99808-5ACC-42DC-95DB-675CAC21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54A15-779A-4F45-9FD9-4247B81A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9F6C9-03B0-4D19-9C5D-F1856CD4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33F4C-548A-41CC-9392-B0193402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F2AE95-62C9-4765-84ED-5CE231BC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D54530-414E-49EC-86FD-13643ADC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6E142A-3E5B-43AD-A9BC-AA3009C32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29E60-B50C-42C9-A2D2-F25C77EF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A787D-2C45-46A4-9694-91264E14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BE9CB-659B-4F62-A3ED-45E2E7D9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A726-BF5A-4386-BC02-E5F0E508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E5B3C-2FDE-4449-8BAE-51FBD891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FB251-F51F-4478-86E9-EE432FA9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5263F-2F0C-4C96-8A42-5CA5F63C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6FA4B-6235-4A28-B0B3-C4FED66D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C868C-B7F0-4B7F-A55B-770DD3CD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6D99E-8DAC-4325-88F5-37E8DC9E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25249-EBD5-4514-8221-32855506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732E3-265F-4E62-BD17-CDFA009E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64B07-88DF-4465-80B3-32179BEA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A38EF-6F60-4FBD-B3BB-AB2294F7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5BB5-18C2-4F61-B902-6B1192DD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C039D-8F65-4D0A-BF00-510FA0C1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4991B-A1DE-4ED2-BA20-8AF2E108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1B4DF-C0C3-4D79-950C-F9279AEA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72CEF-11F5-4D92-9548-89DAAFA8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D25F9-F39A-4BE2-A017-7925DF1A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1815C-FA7C-4A55-B7D3-12275D75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E030B-AE21-41A4-BC9A-97026CF9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A77B8-3530-417E-8F6F-968B37B6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FA239-2607-496B-982D-FC484743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26EEE-71AA-4BF5-8F5D-90EE8CBC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D14F-D435-41FF-973A-CCA1EAAE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DDEEB-FEAF-403C-BFE6-E4FD15377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57115-09DA-41EA-927F-979BEF7E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BBAAE-4F10-4DED-BC8C-8BF0E44E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1B75A-0833-4826-B838-B5AF55F3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069AB-CC5A-4D5A-B78F-0322A5C5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A2B75-CF4D-44A2-A9BB-9DA785E5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6C941-05E5-42AD-94EE-505B8297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9740C-F39F-443F-BC7F-CDE511BB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9C48D-80DE-40E2-B084-591F5E41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DE5A0-D62B-4BCA-866C-B1840BAB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5F00-140B-400E-A846-D3209B59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AE548-6438-4FDB-BBAF-13B9A8E5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C371C-7900-47D0-9BB0-B7EA662F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F6F59-ACE5-4EDC-AD62-D8C4F7AB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61E25-F04D-47BB-8D3E-97456ECE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53006-3151-4B19-8685-70FFDD70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5E8F7-1DCA-4504-BCD4-7B869234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0F462-C22F-4CC1-AA5A-41CF2845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762C6-955C-4E19-88CE-0B26D4ED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F17D3-A23C-4C14-A818-E51A415E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DD1DD-11C2-4130-B4DA-BF18945F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5518-A558-46AF-97ED-6BEB2A01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7C20C-2CD1-4A2A-A650-0852E953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75BED-2A6A-493F-97DE-A225FE20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EB831-6122-4904-B874-3A115602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B1B09-3139-489B-86D6-5BFEB267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B012D-ECD0-44CB-A3DF-540CE3E5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85EFB-0ACB-4DD2-BDF4-CAC76E4A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ACF43-0F89-4F47-B63D-4AF33829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E3557-BDA6-462F-B155-657B0138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74809-D898-440A-A9FA-5FE55B80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90051-3F71-46B9-A61F-F8C00981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1FB4-F68B-4853-AD84-737F0198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4017B-639A-47F6-993C-AB42BFB8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9761A-F215-42DF-B3EC-B4295095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2CDE7-155B-4B81-A3C8-3C2A7180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0AFC6-C5DC-4429-9C95-228B5CCB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BF694-D185-49D4-8EDB-F57A9459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8B4B0-6723-4B64-A16C-1C544BC0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B3229-AFC8-4B35-8B5A-7E0D84AC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3A0FC-101F-4B43-8866-72325492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AA7F9-16B0-43FB-9783-845CBB2B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CA2FE-C153-4E07-8880-173A1083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D255-2EF5-47DD-A7C7-5F83D3D97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5AE9-2FA7-4CFF-B188-C485D88005E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EDFF-1ACD-4B01-BF47-8AF4FC110F8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8C86-D203-4B99-8BB7-09286B7B65D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B07D-4EC6-4F96-B671-9E97CC97DF7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CDB8-8F62-4F64-B28E-220A5844AC3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093C-122C-4637-990E-6CF5D9A466B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31B5-5902-439E-B160-C3FCAEA930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0A26-A5A7-4B7A-AD17-3D0BB6F0A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5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01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2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92FA-3678-4C12-A52E-53F4BB1272C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4F62-6C9D-48D3-B338-AC539DE5258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5FB1-94CB-4CBD-8C80-FAAD507E68E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1428-A68F-41A7-90B8-A97D7301339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85E6-CA78-4846-A4C7-B47B78B4C4A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5686-8C5B-4411-B755-168FFFC5BD5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722160" y="235728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7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Alimenta</a:t>
            </a:r>
            <a:r>
              <a:rPr b="1" lang="ro-RO" sz="6000" spc="-1" strike="noStrike">
                <a:solidFill>
                  <a:srgbClr val="ffff00"/>
                </a:solidFill>
                <a:latin typeface="Times New Roman"/>
              </a:rPr>
              <a:t>ţia noului născut și a 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ugarului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B7C1-2F1E-4DC9-B3BF-E3206F6B0B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COMPOZIŢIA LAPTELUI  DE MAM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566640" y="1752480"/>
          <a:ext cx="8001000" cy="4353120"/>
        </p:xfrm>
        <a:graphic>
          <a:graphicData uri="http://schemas.openxmlformats.org/drawingml/2006/table">
            <a:tbl>
              <a:tblPr/>
              <a:tblGrid>
                <a:gridCol w="3791160"/>
                <a:gridCol w="2104920"/>
                <a:gridCol w="2104920"/>
              </a:tblGrid>
              <a:tr h="530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Constituent (/litru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Colostr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Lapte matur (ziua 1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22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izi graşi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saturaţ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12: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14: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16: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18: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onesaturaţ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18:1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ω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linesaturaţ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ω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18:3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ω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22:5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ω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22:6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ω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ω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18:2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ω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20:4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ω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22:4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ω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-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-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-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7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3231-F3B0-4AE0-B21A-DD921CE75F58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Alimenta</a:t>
            </a:r>
            <a:r>
              <a:rPr b="1" lang="ro-RO" sz="4400" spc="-1" strike="noStrike">
                <a:solidFill>
                  <a:srgbClr val="ccffff"/>
                </a:solidFill>
                <a:latin typeface="Tahoma"/>
              </a:rPr>
              <a:t>ţ</a:t>
            </a: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ia </a:t>
            </a:r>
            <a:r>
              <a:rPr b="1" lang="ro-RO" sz="4400" spc="-1" strike="noStrike">
                <a:solidFill>
                  <a:srgbClr val="ccffff"/>
                </a:solidFill>
                <a:latin typeface="Tahoma"/>
              </a:rPr>
              <a:t>adolescentului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Rectangle 4"/>
          <p:cNvSpPr/>
          <p:nvPr/>
        </p:nvSpPr>
        <p:spPr>
          <a:xfrm>
            <a:off x="60948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cesar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energet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15960" indent="-263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50-56 kc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kg/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4 ore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(B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15960" indent="-263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44-47 kc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kg/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4 ore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(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Necesar hidric 50-60 ml/kgc/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Glucide: 8 g/kg/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roteine: 0,85 g/kg/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Lipide: rest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3 mese şi 1-2 gustă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2F6B-A089-4983-95AC-A9F608D6B2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Alimenta</a:t>
            </a:r>
            <a:r>
              <a:rPr b="1" lang="ro-RO" sz="4400" spc="-1" strike="noStrike">
                <a:solidFill>
                  <a:srgbClr val="ccffff"/>
                </a:solidFill>
                <a:latin typeface="Tahoma"/>
              </a:rPr>
              <a:t>ţ</a:t>
            </a: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ia </a:t>
            </a:r>
            <a:r>
              <a:rPr b="1" lang="ro-RO" sz="4400" spc="-1" strike="noStrike">
                <a:solidFill>
                  <a:srgbClr val="ccffff"/>
                </a:solidFill>
                <a:latin typeface="Tahoma"/>
              </a:rPr>
              <a:t>adolescentului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cesar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glucidi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8 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k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/24 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Pâine intermediară şi prodse de panificaţie 150-200 g/z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Cereale integrale, paste făinoase, gris, orez, mămăliguță, biscuiț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Legume: cartofi, morcovi, fasole verde, dovlecei, mazăre, rădăcinoase, spanac, conopidă, roşii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Fruc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3910-F7A8-4274-8D97-BFF9E924C5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Alimenta</a:t>
            </a:r>
            <a:r>
              <a:rPr b="1" lang="ro-RO" sz="4400" spc="-1" strike="noStrike">
                <a:solidFill>
                  <a:srgbClr val="ccffff"/>
                </a:solidFill>
                <a:latin typeface="Tahoma"/>
              </a:rPr>
              <a:t>ţ</a:t>
            </a: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ia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400" spc="-1" strike="noStrike">
                <a:solidFill>
                  <a:srgbClr val="ccffff"/>
                </a:solidFill>
                <a:latin typeface="Tahoma"/>
              </a:rPr>
              <a:t>adolescentului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Rectangle 3"/>
          <p:cNvSpPr/>
          <p:nvPr/>
        </p:nvSpPr>
        <p:spPr>
          <a:xfrm>
            <a:off x="60948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cesar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rote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70% de origine animal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220 g carne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500 ml lap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30-50 g brânz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1 ou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30% proteine vegeta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Rectangle 4"/>
          <p:cNvSpPr/>
          <p:nvPr/>
        </p:nvSpPr>
        <p:spPr>
          <a:xfrm>
            <a:off x="333360" y="3440160"/>
            <a:ext cx="456264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854E-F2E8-4706-9353-32F4DB7734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Alimenta</a:t>
            </a:r>
            <a:r>
              <a:rPr b="1" lang="ro-RO" sz="4400" spc="-1" strike="noStrike">
                <a:solidFill>
                  <a:srgbClr val="ccffff"/>
                </a:solidFill>
                <a:latin typeface="Tahoma"/>
              </a:rPr>
              <a:t>ţ</a:t>
            </a: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ia </a:t>
            </a:r>
            <a:r>
              <a:rPr b="1" lang="ro-RO" sz="4400" spc="-1" strike="noStrike">
                <a:solidFill>
                  <a:srgbClr val="ccffff"/>
                </a:solidFill>
                <a:latin typeface="Tahoma"/>
              </a:rPr>
              <a:t>adolescentului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Rectangle 3"/>
          <p:cNvSpPr/>
          <p:nvPr/>
        </p:nvSpPr>
        <p:spPr>
          <a:xfrm>
            <a:off x="60948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cesar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lipid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50% de origine animal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25-30 g 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20-25 ml ul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1 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Rectangle 4"/>
          <p:cNvSpPr/>
          <p:nvPr/>
        </p:nvSpPr>
        <p:spPr>
          <a:xfrm>
            <a:off x="333360" y="3440160"/>
            <a:ext cx="456264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1B78-800C-4C5B-B7F3-44082C6524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COMPOZIŢIA LAPTELUI  DE MAM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566640" y="1752480"/>
          <a:ext cx="8001000" cy="4334040"/>
        </p:xfrm>
        <a:graphic>
          <a:graphicData uri="http://schemas.openxmlformats.org/drawingml/2006/table">
            <a:tbl>
              <a:tblPr/>
              <a:tblGrid>
                <a:gridCol w="3791160"/>
                <a:gridCol w="2104920"/>
                <a:gridCol w="210492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nstituent (/litru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lostr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Lapte matur (ziua 1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39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tamine hidrosolubi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tamina C (m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amina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boflavina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acina (m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tamina B6 (m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lat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tamina B12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id pantotenic (m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otină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0-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8-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9-0,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-1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5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-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-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462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tamine liposolubi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tamina A (m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otenoizi (m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tamina K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tamina D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tamina E (m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-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-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3-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-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-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-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73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B4E2-10EB-42C5-9065-6C9B34AB0C9B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COMPOZIŢIA LAPTELUI  DE MAM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566640" y="1752480"/>
          <a:ext cx="8001000" cy="4238640"/>
        </p:xfrm>
        <a:graphic>
          <a:graphicData uri="http://schemas.openxmlformats.org/drawingml/2006/table">
            <a:tbl>
              <a:tblPr/>
              <a:tblGrid>
                <a:gridCol w="3791160"/>
                <a:gridCol w="2104920"/>
                <a:gridCol w="2104920"/>
              </a:tblGrid>
              <a:tr h="557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Constituent (/litru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Colostr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Lapte matur (ziua 1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3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croelem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lciu (m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gneziu (m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sfor (m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diu (m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tasiu (m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or (m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-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-1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-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0-7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0-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-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-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-1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-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0-5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0-4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</a:tr>
              <a:tr h="199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croelem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er (m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inc (m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pru (m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gan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μ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leniu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μ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od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μ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uor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μ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5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-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5-0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-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3-0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-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2-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-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-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f"/>
                    </a:solidFill>
                  </a:tcPr>
                </a:tc>
              </a:tr>
            </a:tbl>
          </a:graphicData>
        </a:graphic>
      </p:graphicFrame>
      <p:sp>
        <p:nvSpPr>
          <p:cNvPr id="73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7252-D1BE-44DE-BE7C-A43ECB1B414A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Times New Roman"/>
              </a:rPr>
              <a:t>Compoziţia laptelui de vac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2472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87,5% conţinut hidr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12,5% substanţă uscat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00"/>
                </a:solidFill>
                <a:latin typeface="Times New Roman"/>
              </a:rPr>
              <a:t>Proteinele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34 g/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3-4 ori mai bogat în proteine, faţă de laptele de mam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cazeină (80%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β</a:t>
            </a:r>
            <a:r>
              <a:rPr b="1" lang="ro-RO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-lactoglobulin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lactoferina – cantităţi mic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alergie la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proteinele laptelui de vac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Glucidele:</a:t>
            </a:r>
            <a:r>
              <a:rPr b="1" lang="ro-RO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cantităţi mai mici, faţă de laptele de mamă (se va zahara 5%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ori mai puţină galactoz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Lipidel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cantităţi asemănăto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Sărurile mineral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cantităţi de ≈4 ori mai ma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6648-4841-4026-8CCC-7034D539C2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456840" y="620640"/>
            <a:ext cx="84358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Laptele uman are aprox. acelaşi conţinut caloric ca şi laptele de vacă: 6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0 kcal/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in med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Conţinutul de proteine, Na, K, Mg, Zn  mai redus (1/3-1/2), faţă de laptele de vac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compozi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ție optimă!!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Pe lângă nutrienţi, laptele uman mai conţin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hormon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factori de creşt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imunoglobul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leucocite (limfocite B şi T, neutrofile şi macrofag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oligozaharide (nucleotide şi citokin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4F9D-229A-42AA-AD2C-545BB11308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4219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Times New Roman"/>
              </a:rPr>
              <a:t>Principalii macronutrienţi şi conţinutul caloric din laptele uman versus lapte de vac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41" name=""/>
          <p:cNvGraphicFramePr/>
          <p:nvPr/>
        </p:nvGraphicFramePr>
        <p:xfrm>
          <a:off x="468360" y="1700280"/>
          <a:ext cx="8136000" cy="4611600"/>
        </p:xfrm>
        <a:graphic>
          <a:graphicData uri="http://schemas.openxmlformats.org/drawingml/2006/table">
            <a:tbl>
              <a:tblPr/>
              <a:tblGrid>
                <a:gridCol w="2711520"/>
                <a:gridCol w="2712960"/>
                <a:gridCol w="2711520"/>
              </a:tblGrid>
              <a:tr h="1184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omponen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Lapte uman mat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(g la 100 ml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Lapte de vac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(g la 100 ml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274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Prote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- dintre care caze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,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,57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8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Grăsim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01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Lactoz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6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4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00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Miner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≈</a:t>
                      </a:r>
                      <a:r>
                        <a:rPr b="1" lang="ro-RO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00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alor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≈</a:t>
                      </a:r>
                      <a:r>
                        <a:rPr b="1" lang="ro-RO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68 k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≈</a:t>
                      </a:r>
                      <a:r>
                        <a:rPr b="1" lang="ro-RO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68 k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7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2B30-A6C0-4837-8DD9-D206651DF8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Times New Roman"/>
              </a:rPr>
              <a:t>Efectele pozitive ale alimentaţiei la sâ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Principalul efec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protecţie împotriva bolilor infecţioase (ex. diaree, infecţii respiratori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În ţările în curs de dezvoltare, mortalitatea în primii 5 ani de viaţă este considerabil mai mare la copi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i care nu sunt alimentaţi la sâ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Explicaţia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protecţia pasivă a membranei mucoase dată de anticorpi şi alte componente imune din laptele um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stimularea sistemului imun propriu al copilului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(de ex., lactoferin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Avantaje asupra funcţiei congniti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isc mai redus de obezit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Relație afectivă mamă – copi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2465-6FDF-40F2-9094-ACE14A4456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Times New Roman"/>
              </a:rPr>
              <a:t>Efectele pozitive ale alimentaţiei la sâ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Times New Roman"/>
              </a:rPr>
              <a:t>Asupra mame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efect inhibitor al ovulaţie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amenoree lactic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induce utilizarea rezervelor adipoas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ajută la scăderea depozitelor de grăsime excesiv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reduce riscul matern de cancer de sân şi ovarian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ibil 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și de fracturi după menopauz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E74E-84C1-418B-8DEE-08B4F3D8DB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Times New Roman"/>
              </a:rPr>
              <a:t>Efectele medicamentel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imes New Roman"/>
              </a:rPr>
              <a:t>majoritatea medicamentelor sunt excretate prin lap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B5DE-B017-40B9-B9BF-68F3F53466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19120" y="115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00"/>
                </a:solidFill>
                <a:latin typeface="Times New Roman"/>
              </a:rPr>
              <a:t>Alimentaţia la sân şi medicaţia mam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53" name=""/>
          <p:cNvGraphicFramePr/>
          <p:nvPr/>
        </p:nvGraphicFramePr>
        <p:xfrm>
          <a:off x="324000" y="814320"/>
          <a:ext cx="8507160" cy="5719680"/>
        </p:xfrm>
        <a:graphic>
          <a:graphicData uri="http://schemas.openxmlformats.org/drawingml/2006/table">
            <a:tbl>
              <a:tblPr/>
              <a:tblGrid>
                <a:gridCol w="4254480"/>
                <a:gridCol w="4252680"/>
              </a:tblGrid>
              <a:tr h="973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ntarea la sân este contraindicat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icanceroa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tanţe radioactive (oprirea temporară a alăptări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e adverse posibile, monitorizarea noului născut şi sugarului pentru somnolenţ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caţia psihiatrică şi anticonvulsivant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losirea altor medicamete, dacă este posib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ramfenicol, Tetraciclină, Metronidazol, Chinolone (Ciprofloxaci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73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itorizarea noului-născut şi sugarului pentru ict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lfamide, Sulfamethoxazol-Trimethoprim (Cotrimoxazol, Bisepto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73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ilizarea altor medicamente, acestea putând inhiba lactaţ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rogeni, Diuretice tiazidice, Contracept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camente sigure, monitorizarea sugar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e mai folosite medicamente: analgezice, antipiretice (paracetamol, acid acetilsalicilic, ibuprof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antibiotice (ampicilină, amoxicilină, eritromicină), antituberculoase, antimalarice, antihelmintice, antifungice, bronhodilatatoare (salbutamol), antihistaminice, antidiabetice, suplimente nutritive (iod, vitamine, fie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sp>
        <p:nvSpPr>
          <p:cNvPr id="7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396A-4A36-44C4-874F-D7C044B6A3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214200" y="571680"/>
            <a:ext cx="8686800" cy="55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Nou-născut = prima lună de viaț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Sugar = lunile 2-12 de viaț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4200-201A-4E38-AF39-58CD190BD5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Times New Roman"/>
              </a:rPr>
              <a:t>10 paşi pentru succesul alimetaţiei la sâ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Existenţa unor măsuri scrise, cunoscute de întreg personalul medi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Talentul şi dăruirea personalului medical în a implementa aceste măsur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Informarea tuturor femeilor însărcinate privind beneficiile alăptăr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Ajutarea mamei în iniţierea alăptării în primele ore după naşt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Învăţarea tehnicii corecte a alăptării şi menţinerii lactaţiei, chiar în cazul separării mamelor de nou-născuţ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242B-DB8B-4F40-B971-583F38DD94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Times New Roman"/>
              </a:rPr>
              <a:t>10 paşi pentru succesul alimetaţiei la sâ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Să se administreze noului-născut exclusiv lapte de sâ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Să se permită mamelor să rămână alături de nou-născuţi cât mai mult timp (chiar 24 ore/z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Încurajarea alăptării la cererea noului-născ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Să nu se utilizeze tetine ori suze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Externarea mamelor din spital sau clinică, doar după însuşirea corectă a tehnicilor alăptăr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6090-34D4-4458-8939-E710A91242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imentaţia la sân- hrana ideală a sugarului şi copilului m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În cazul în care alimentaţia la sân nu este posibilă- formule de lapte (substituenţi ai laptelui matern) care să determine o dezvoltare şi o creştere normal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Formulele de lapte- produse pe bază de lapte de vacă sau alte animale, sau alte componente animale (inclusiv peşt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99DE-5578-4F67-8517-04AA77199A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Times New Roman"/>
              </a:rPr>
              <a:t>Formule de lap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mule de start </a:t>
            </a:r>
            <a:r>
              <a:rPr b="1" lang="ro-RO" sz="2400" spc="-1" strike="noStrike">
                <a:solidFill>
                  <a:srgbClr val="ffff99"/>
                </a:solidFill>
                <a:latin typeface="Times New Roman"/>
              </a:rPr>
              <a:t>(de început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– </a:t>
            </a:r>
            <a:r>
              <a:rPr b="1" lang="ro-RO" sz="2400" spc="-1" strike="noStrike">
                <a:solidFill>
                  <a:srgbClr val="ffff99"/>
                </a:solidFill>
                <a:latin typeface="Times New Roman"/>
              </a:rPr>
              <a:t>inclusiv pentru prematur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13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destinate sugarilor 0-6 lu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13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pot fi adaptate sau parţial adapta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99"/>
                </a:solidFill>
                <a:latin typeface="Times New Roman"/>
              </a:rPr>
              <a:t>Formule de continu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13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destinate sugarilor peste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 lu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13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administrate paralel cu diversificarea alimentaţie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13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utilizate până la 1 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99"/>
                </a:solidFill>
                <a:latin typeface="Times New Roman"/>
              </a:rPr>
              <a:t>Formule speci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13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conţinut redus de lactoză (sau fără lactoză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13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preparate de soia (lipseşte lactoza şi proteinele laptelui de vacă)- sugari peste 6 luni cu alergi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13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</a:rPr>
              <a:t>formule hipoalergen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56D3-BC71-4D01-9B33-8F521A2892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parate adap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ine din zer/ca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zeină: 60/40 (aport optim de A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glucide: exclusiv din lactoză (6,3-7,9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lipidele: 80-100% grăsimi vegetale, bogate în AG nesaturaţ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AG saturaţi/AG nesaturaţi: 1/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Ca/P: 1,5/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Suplimentare cu vitamine şi oligoe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EF6F-9D71-4FF1-A056-6B159657F3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0752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00"/>
                </a:solidFill>
                <a:latin typeface="Times New Roman"/>
              </a:rPr>
              <a:t>Eficienţa formulelor de lapte – criterii de aprecier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efectele fiziologice: creştere şi dezvolt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biochimice: valori plasmati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funcţionale: răspunsul imu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4F75-7DB8-440D-8AC5-97AA962486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Times New Roman"/>
              </a:rPr>
              <a:t>Prepararea, păstrarea şi manevrarea formulelor de lap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formulele de lapte adaptat (sub formă de pulberi) - nu sunt sterile, pot conţine bacterii patogene (Enterobacter sakazakii), ce 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 determina 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sepsis (mai ales în primele două lun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se prepară inst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dacă nu este posibil, se va prepara în ziua respectivă, va fi păstrat la </a:t>
            </a:r>
            <a:r>
              <a:rPr b="1" lang="ro-RO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 4 grade Celsius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 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30 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se încurajează utilizarea formulelor lichide sterile în maternităț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5285-29EB-4C7F-8B96-72365564BE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Times New Roman"/>
              </a:rPr>
              <a:t>Ingrediente adăugate la formulele de lapte</a:t>
            </a:r>
            <a:br>
              <a:rPr sz="3200"/>
            </a:br>
            <a:r>
              <a:rPr b="1" lang="ro-RO" sz="3200" spc="-1" strike="noStrike">
                <a:solidFill>
                  <a:srgbClr val="ffff00"/>
                </a:solidFill>
                <a:latin typeface="Times New Roman"/>
              </a:rPr>
              <a:t>(1) Agenţi de îngroşare</a:t>
            </a:r>
            <a:r>
              <a:rPr b="0" lang="ro-RO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adăugarea de amidon- reduce regurgitarea şi pierderile nutriţionale (în cazul unei dezvoltări necorespunzătoa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nu ar trebui utilizate în mod abuziv la copii sănătoşi, care se dezvoltă normal, dar care prezintă regurgit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220F-59E5-4912-AFE4-F8CCC1A543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Times New Roman"/>
              </a:rPr>
              <a:t>(2) Acizi graşi polinesaturaţi cu lanţ lu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deşi suplimentarea cu acid arahidonic şi docosahexaenoic are efecte benefice asupra dezvoltării sănătoase, nu există o părere unanimă privind aportul lor exogen, cel puţin nu după primele luni de viaţ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adăugarea celor 2 acizi este permisă în formulele de lap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AF68-6508-4A4B-A5BC-5295BEE37E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Times New Roman"/>
              </a:rPr>
              <a:t>(3) Modulatori ai microflorei intestina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00"/>
                </a:solidFill>
                <a:latin typeface="Times New Roman"/>
              </a:rPr>
              <a:t>Prebioticele</a:t>
            </a: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(în special fructo-oligozaharidele şi galacto-oligozaharidele) – componente nedigerabile, ce stimulează creşterea şi/sau activitatea uneia sau mai multor bacterii din colon, îmbunătăţind starea de sănăt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00"/>
                </a:solidFill>
                <a:latin typeface="Times New Roman"/>
              </a:rPr>
              <a:t>Probioticele</a:t>
            </a:r>
            <a:r>
              <a:rPr b="1" lang="ro-RO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(Bifidobacterium bifidum şi Lactobacillus rhamnosus) – microorganisme vii, cu efecte benefice asupra sănătăţ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0112-F493-437B-8C64-67E3CE2729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3534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Laptele uma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,,standardul de aur” pentru nou-născut şi sugar în primele 6 luni de viaţ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Relaţie optimă copil-mam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În populaţia cu prevalenţă crescută a bolilor infecţioase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l pu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în primii 2 ani de viaţă, alimentaţia la sân reduce semnificativ morbiditatea şi mortalitat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Există preocupăr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științific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ntru depistarea 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mecanisme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 ce stau la baza beneficiilor alimentaţiei la sâ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58A4-5F7A-4961-8F22-0AAA95D721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49536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Times New Roman"/>
              </a:rPr>
              <a:t>Formulele pe bază de so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imes New Roman"/>
              </a:rPr>
              <a:t>soia – sursă proteică, inferioară laptelui de vac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imes New Roman"/>
              </a:rPr>
              <a:t>biodisponibilitate şi digerabilitate mai sla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imes New Roman"/>
              </a:rPr>
              <a:t>utilizate doar în condiţii speciale (datorită valorii nutritive mai mic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imes New Roman"/>
              </a:rPr>
              <a:t>concentraţii crescute de fitat, aluminiu şi fitoestrogeni (isoflavone) – efecte necunoscute pe termen lu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1C2C-2DC4-4150-B796-90E99F4A5C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9536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Times New Roman"/>
              </a:rPr>
              <a:t>Formulele pe bază de so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imes New Roman"/>
              </a:rPr>
              <a:t>indicaţii: intoleranţa la lactoză, galactozemia, alergii, concepţii vegetarie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imes New Roman"/>
              </a:rPr>
              <a:t>NU previn bolile alerg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imes New Roman"/>
              </a:rPr>
              <a:t>NU au indicaţii pentru prevenirea sau managementul colicilor, regurgitărilor şi plânsului prelung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imes New Roman"/>
              </a:rPr>
              <a:t>NU se utilizează la prematu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7292-C0A5-4359-8185-3205963347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Times New Roman"/>
              </a:rPr>
              <a:t>Concluzi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507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Alimentaţia la sâ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nificativ 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frecvenţa infecţiilor, bolilor imune (astm bronşic, DZ tip 1, bolilor inflamatorii intestinale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avantaje asupra dezvoltării cognitive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moria şi abilitatea de a însuşi noi informaţii, precum şi vorbirea şi înţelegere unui text la prima citire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Alimentația la sân – protecţie împotriva obezităţ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Alimentația la sân – avantaje pentru mamă: alăptarea frecventă şi exclusivă la săn întârzie revenirea ovulaţiei (a fertilităţii) 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→ protecţie împotriva unei noi sarcini + scăderea riscului de neoplasm de ovar și sân + reducerea riscului de fracturi post-menopauz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DC5E-6D15-43DB-9B1A-9D295ECE93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Times New Roman"/>
              </a:rPr>
              <a:t>Concluzi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362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cc"/>
                </a:solidFill>
                <a:latin typeface="Times New Roman"/>
              </a:rPr>
              <a:t>Formulele de lapt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substituenţi ai laptelui matern ce satisfac cerinţele nutriţionale ale copiilor de la naştere până la vârsta de 1 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produse pe bază de lapte de vacă, sau alte componente alimentare (peşte) sau de origine vegetal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nu sunt sterile (lapte pra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nu există recomandări generale referitor la adăugarea de prebiotice, probiotice şi agenţi de îngroşare pentru copiii sănătoşi, cu dezvoltare normală (la term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9AF0-CCEF-4C36-86D5-9B690C3A24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ahoma"/>
              </a:rPr>
              <a:t>Alimenta</a:t>
            </a:r>
            <a:r>
              <a:rPr b="1" lang="ro-RO" sz="5400" spc="-1" strike="noStrike">
                <a:solidFill>
                  <a:srgbClr val="ffcc00"/>
                </a:solidFill>
                <a:latin typeface="Tahoma"/>
              </a:rPr>
              <a:t>ţia copilului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Aspecte particulare pentru diverse perio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limenta</a:t>
            </a:r>
            <a:r>
              <a:rPr b="1" lang="ro-RO" sz="3600" spc="-1" strike="noStrike">
                <a:solidFill>
                  <a:srgbClr val="ffff00"/>
                </a:solidFill>
                <a:latin typeface="Times New Roman"/>
              </a:rPr>
              <a:t>ţ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ro-RO" sz="3600" spc="-1" strike="noStrike">
                <a:solidFill>
                  <a:srgbClr val="ffff00"/>
                </a:solidFill>
                <a:latin typeface="Times New Roman"/>
              </a:rPr>
              <a:t>a diversificată (complementară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43588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Definiţie: orice aliment (solid sau lichid), în afara laptelui matern sau a formulelor de lap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Nu trebuie introdusă înainte de 17 săptămân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obezitate, afecţiuni respiratorii, eczeme – mai târziu în copilărie), dar este imperios necesară după săptămâna 2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Mini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m</a:t>
            </a: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 25% grăsimi (asigurarea valorii energetice adecv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Să asigure nevoile zilnice de proteine, fier, zin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7C19-42BB-4652-9B42-74F8C89243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3628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Practica curentă: diversificarea alimetaţiei se începe de la 3-4 lu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Funcţiile gastrointestinale şi renale- suficient de mature în jurul vârstei de 4 lu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De asemenea, aptitudinile motorii permit introducerea diversificării în perioada 4-6 lu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D95F-0576-47B0-A991-517E42283C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496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Cele mai recente ghiduri pentru introducerea treptată a alimentelor în timpul diversificării se bazează p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obiceiuri socio-cultur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disponibili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mai puţin, pe dovezi ştiinţi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Practic după 6 luni de viaţă, laptele matern nu mai asigură necesarul nutriţional zilnic (aportul de proteine, macro- şi micronutrienţ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8CA2-DA44-4064-88AD-BCDE2B72BB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3628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la copilul alăptat - alimentaţia diversificată ar trebui să asigure peste 90% din necesarul de f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laptele de vacă - sursă foarte săracă în fier (nu ar trebui utilizat ca aliment lichid principal, înainte de 12 lun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sarea - nu ar trebui adăugată în perioda diversificăr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consumul crescut de sare </a:t>
            </a:r>
            <a:r>
              <a:rPr b="1" lang="ro-RO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→ HTA (mai târziu), obişnuinţa cu gustul săr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zahărul →  carii dent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introducerea a glutenului înainte de 3 luni şi mai târziu de 7 luni →  boală celiacă, DZ tip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ste necesară o cantitate de minim 500 ml lapte/z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18DE-573B-41ED-9E84-978AE01CA4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Reguli privind diversificare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ffff"/>
                </a:solidFill>
                <a:latin typeface="Times New Roman"/>
              </a:rPr>
              <a:t>1. Diversificarea alimentaţiei începe cu copilul în perfectă stare de sănă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ffff"/>
                </a:solidFill>
                <a:latin typeface="Times New Roman"/>
              </a:rPr>
              <a:t>2. Introducerea noului aliment se va face progresiv, prin testarea toleranţei diges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ffff"/>
                </a:solidFill>
                <a:latin typeface="Times New Roman"/>
              </a:rPr>
              <a:t>3. Alimentul nou introdus se administrează pe tot timpul cât durează creşterea cantitativă progresiv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ffff"/>
                </a:solidFill>
                <a:latin typeface="Times New Roman"/>
              </a:rPr>
              <a:t>4. Alimentul nou introdus va fi administrat cu linguriţ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E1D3-4584-46E8-A010-8FCAC84BE6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Iniţierea şi durata alăptării sunt influenţate d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cesul de </a:t>
            </a: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urbaniz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concepţii socio-cul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rale ale mam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emanciparea socio-profesională a mam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percepţia mam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anturajul (familie şi prieten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EC7F-CF3A-4CB6-A61D-D100A5E460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456840" y="1699920"/>
            <a:ext cx="843588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ffff"/>
                </a:solidFill>
                <a:latin typeface="Times New Roman"/>
              </a:rPr>
              <a:t>5. Nu se vor introduce simultan 2 alimente no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ffff"/>
                </a:solidFill>
                <a:latin typeface="Times New Roman"/>
              </a:rPr>
              <a:t>6. Dacă apar semne de intoleranţă (diaree, vărsături) se va întrerupe 1-2 săptămâni, apoi se va reintroduce cu prudenţ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ffff"/>
                </a:solidFill>
                <a:latin typeface="Times New Roman"/>
              </a:rPr>
              <a:t>7. În caz de refuz, nu se insistă </a:t>
            </a:r>
            <a:r>
              <a:rPr b="1" lang="ro-RO" sz="28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→ anorexia psihogenă la sug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Reguli privind diversificare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F17B-6EE1-456E-B48B-0A37A77662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Arial"/>
              </a:rPr>
              <a:t>Cereale și deriv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6 (4) luni: orez (preparate pentru sugar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fortificate cu fi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7 luni: biscuiț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9 luni: cereale mixte, tăiței, pâ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168D-73F9-451B-860F-0C4A3EB779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Arial"/>
              </a:rPr>
              <a:t>Legu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6 (4) luni: 1 legumă centrifugat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9 luni: legume fierte, tocate sau tăiate măr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11 luni: legume fierte, tăi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A596-F83E-4879-940A-3D7454A999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Arial"/>
              </a:rPr>
              <a:t>Fructe și sucur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6 (4) luni: 1 fruct centrifug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7 luni: sucuri de fructe, neîndulc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9 luni: fructe proaspete sau conservate, pasirate sau tăiate măr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11 luni: fructe feli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6A0D-3741-46D5-B3A0-AEDF68EABD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Arial"/>
              </a:rPr>
              <a:t>Carne și alimente</a:t>
            </a:r>
            <a:br>
              <a:rPr sz="4400"/>
            </a:br>
            <a:r>
              <a:rPr b="0" lang="ro-RO" sz="4400" spc="-1" strike="noStrike">
                <a:solidFill>
                  <a:srgbClr val="ffffff"/>
                </a:solidFill>
                <a:latin typeface="Arial"/>
              </a:rPr>
              <a:t>ce conțin prote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6 (4) luni: 1 fel de carne mixată, pireu de mazăre, iau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9 luni: aceleași alimente, dar tocate; brânză proaspăt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11 luni: aceleași alimente, dar tăiate; unt de arahide; peș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733C-A858-494D-91A2-ECF6B58DC5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Arial"/>
              </a:rPr>
              <a:t>Ou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9 luni: gălbenu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11 luni: albu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1937-637E-46DF-8977-DF850FBB0B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362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imes New Roman"/>
              </a:rPr>
              <a:t>Alimente potenţial alergen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peş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nu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fructe de m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căpşu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imes New Roman"/>
              </a:rPr>
              <a:t>Momentul introducerii lor (controvers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imes New Roman"/>
              </a:rPr>
              <a:t>Peştele şi oul - surse bogate de acizi omega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E07E-F7FB-422E-BED7-B49F12B6A5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722160" y="235728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Alimenta</a:t>
            </a:r>
            <a:r>
              <a:rPr b="1" lang="ro-RO" sz="6000" spc="-1" strike="noStrike">
                <a:solidFill>
                  <a:srgbClr val="ffff00"/>
                </a:solidFill>
                <a:latin typeface="Times New Roman"/>
              </a:rPr>
              <a:t>ţi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ff00"/>
                </a:solidFill>
                <a:latin typeface="Times New Roman"/>
              </a:rPr>
              <a:t>copilului 1-18 an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16D1-C4CC-425B-9D7D-3363166DE4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cc00"/>
                </a:solidFill>
                <a:latin typeface="Tahoma"/>
              </a:rPr>
              <a:t>Necesarul energeti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metabolismul baz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energia pentru termoregl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acțiunea dinamică specific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activitatea fizic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nevoile energetice pentru creşt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Text Box 4"/>
          <p:cNvSpPr/>
          <p:nvPr/>
        </p:nvSpPr>
        <p:spPr>
          <a:xfrm>
            <a:off x="380880" y="1143000"/>
            <a:ext cx="8534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Diferă în funcţie de vârstă, sex, activitate fizic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Component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Text Box 5"/>
          <p:cNvSpPr/>
          <p:nvPr/>
        </p:nvSpPr>
        <p:spPr>
          <a:xfrm>
            <a:off x="304920" y="51814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Trebuie să asigure dezvoltarea optimă şi meţinerea stării de sănătate pe termen lu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0C0B-1FA0-46BC-A154-0C246543AB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NECESARUL ENERGETIC BĂIEŢI 1-18 AN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87B3-07A4-46C1-B9D0-96698AC10F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7" name="Picture 6" descr=""/>
          <p:cNvPicPr/>
          <p:nvPr/>
        </p:nvPicPr>
        <p:blipFill>
          <a:blip r:embed="rId1"/>
          <a:stretch/>
        </p:blipFill>
        <p:spPr>
          <a:xfrm>
            <a:off x="3025800" y="1295280"/>
            <a:ext cx="436572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PREVALENŢA ALĂPTĂRII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LUSIVE 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LA SÂ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4 luni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566280" y="2037960"/>
            <a:ext cx="8001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Asia de Est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57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Asia de Sud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49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Orientul Mijlociu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4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America Latină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38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Africa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33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SUA (caucazieni)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2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Europa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17%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8392-CEDF-46AA-BC38-C303AB9529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NECESARUL ENERGETIC FETE 1-18 AN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2D46-DB25-48B9-BC21-EE2408F52A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0" name="Picture 6" descr=""/>
          <p:cNvPicPr/>
          <p:nvPr/>
        </p:nvPicPr>
        <p:blipFill>
          <a:blip r:embed="rId1"/>
          <a:stretch/>
        </p:blipFill>
        <p:spPr>
          <a:xfrm>
            <a:off x="3097080" y="1371600"/>
            <a:ext cx="43704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44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cc00"/>
                </a:solidFill>
                <a:latin typeface="Tahoma"/>
              </a:rPr>
              <a:t>Necesarul energeti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Text Box 57"/>
          <p:cNvSpPr/>
          <p:nvPr/>
        </p:nvSpPr>
        <p:spPr>
          <a:xfrm>
            <a:off x="0" y="2590920"/>
            <a:ext cx="90676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 (kcal/zi) = 1000 + 100 x v</a:t>
            </a: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â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sta (an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(subestimează necesarul energe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la copiii mar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D757-8E3C-4A90-AF2F-805D542CD9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cc00"/>
                </a:solidFill>
                <a:latin typeface="Tahoma"/>
              </a:rPr>
              <a:t>Necesarul hidri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Cantitatea de apă din organism este invers proporţională cu vârs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embrion: peste 90% din 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copil: 70-75% din 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adult: 60-65% din 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Surse de apă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Apa exogenă (90%): apa băută şi alimentele inger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Apa endogenă (10%): provine din catabol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cc00"/>
                </a:solidFill>
                <a:latin typeface="Tahoma"/>
              </a:rPr>
              <a:t>Necesarul hidric </a:t>
            </a:r>
            <a:r>
              <a:rPr b="0" lang="ro-RO" sz="2800" spc="-1" strike="noStrike">
                <a:solidFill>
                  <a:srgbClr val="ffcc00"/>
                </a:solidFill>
                <a:latin typeface="Symbol"/>
                <a:ea typeface="Symbol"/>
              </a:rPr>
              <a:t></a:t>
            </a:r>
            <a:r>
              <a:rPr b="0" lang="ro-RO" sz="2800" spc="-1" strike="noStrike">
                <a:solidFill>
                  <a:srgbClr val="ffcc00"/>
                </a:solidFill>
                <a:latin typeface="Tahoma"/>
              </a:rPr>
              <a:t>1 ml/k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4C09-1300-44CF-87C0-6A6499D008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cc00"/>
                </a:solidFill>
                <a:latin typeface="Tahoma"/>
              </a:rPr>
              <a:t>Necesarul hidri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48" name=""/>
          <p:cNvGraphicFramePr/>
          <p:nvPr/>
        </p:nvGraphicFramePr>
        <p:xfrm>
          <a:off x="304920" y="1957320"/>
          <a:ext cx="8534160" cy="4138560"/>
        </p:xfrm>
        <a:graphic>
          <a:graphicData uri="http://schemas.openxmlformats.org/drawingml/2006/table">
            <a:tbl>
              <a:tblPr/>
              <a:tblGrid>
                <a:gridCol w="1690560"/>
                <a:gridCol w="1738440"/>
                <a:gridCol w="2209680"/>
                <a:gridCol w="2895480"/>
              </a:tblGrid>
              <a:tr h="1460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ârs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eutate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</a:t>
                      </a: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cesar ap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l/24 or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cesar apa (ml/kgc/24 ore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50-1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0-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an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50-1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5-1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an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00-1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-1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 an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00-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0-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 an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-2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0-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 an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00-27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-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DB9A-3E0A-4779-8F55-51D60ED67F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cc00"/>
                </a:solidFill>
                <a:latin typeface="Tahoma"/>
              </a:rPr>
              <a:t>Necesarul de gluc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51" name=""/>
          <p:cNvGraphicFramePr/>
          <p:nvPr/>
        </p:nvGraphicFramePr>
        <p:xfrm>
          <a:off x="457200" y="2971800"/>
          <a:ext cx="8229600" cy="2590920"/>
        </p:xfrm>
        <a:graphic>
          <a:graphicData uri="http://schemas.openxmlformats.org/drawingml/2006/table">
            <a:tbl>
              <a:tblPr/>
              <a:tblGrid>
                <a:gridCol w="3125880"/>
                <a:gridCol w="5103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ârs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cesarul de gluc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pil mic 1-3 an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 g/kgc/24 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şcolar 4-6 an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 g/kgc/24 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Şcolar 7-14 an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 g/kgc/24 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oles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 g/kgc/24 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2" name="Text Box 20"/>
          <p:cNvSpPr/>
          <p:nvPr/>
        </p:nvSpPr>
        <p:spPr>
          <a:xfrm>
            <a:off x="457200" y="20574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Glucidele: 5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60% din aportul caloric to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FEAA-0DAF-475B-9B7C-2C14194D1A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cc00"/>
                </a:solidFill>
                <a:latin typeface="Tahoma"/>
              </a:rPr>
              <a:t>Glucidele alimenta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Monozahar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glucoză (fructe, rădăcinoase, miere) – absorbită în enterocit prin transport activ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fructoză (fructe şi miere) – absorbită pasiv în enteroci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galactoză (din hidroliza lactozei) – absorbită în enterocit prin transport acti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6C80-CD71-45ED-9C14-45305BF463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cc00"/>
                </a:solidFill>
                <a:latin typeface="Tahoma"/>
              </a:rPr>
              <a:t>Glucidele alimenta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ahoma"/>
              </a:rPr>
              <a:t>Dizaharide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– înainte de absorbţie necesită intervenţia dizaharidazel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zaharoza - glucoză şi fructoză (fructe, sfeclă de zahă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maltoza - 2 molecule de glucoză (seminţe încolţite, din hidroliza amidonulu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actoz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- 1 moleculă de glucoză şi 1 de galactoză (lap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ahoma"/>
              </a:rPr>
              <a:t>Polizaharide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(amidon, glicogen, fibre alimenta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86BD-6374-4EE3-9D6E-47A667B593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Fibrele alimentare</a:t>
            </a: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 (celuloza, hemiceluloza, lignina, pectina, gum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-3 ani – 20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/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-8 ani – 25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/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-18 ani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– 30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/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Deficitul de fibre alimentare: constipație, diverticuloză, neoplasm de colon, dislipidemii, ateroscleroză, obezita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cc00"/>
                </a:solidFill>
                <a:latin typeface="Tahoma"/>
              </a:rPr>
              <a:t>Glucidele alimenta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6CD1-9CDB-48B7-AE2E-4C871225E8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Scăderea aportului de gluci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denutriți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Aport excesiv de gluci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obezita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steatoză hepatic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cc00"/>
                </a:solidFill>
                <a:latin typeface="Tahoma"/>
              </a:rPr>
              <a:t>Glucidele alimenta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3CFE-8DCA-4019-BF31-712AA95EC8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3520" y="1393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cc00"/>
                </a:solidFill>
                <a:latin typeface="Tahoma"/>
              </a:rPr>
              <a:t>Rolul proteinelor în organis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constituienţi ai tuturor celulel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asigură creşterea celulelor şi ţesuturil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asigură forţa fizică a organismulu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intră în compoziţia hormonilor şi enzimel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rol în procesele de apăr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menţinerea presiunii coloidosmot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rol de transpor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sursă energetică (cu randament scăzut – acțiune dinamică specifică ma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C1B3-4719-44D0-A93C-F1D728F123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93200"/>
            <a:ext cx="8229600" cy="5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Times New Roman"/>
              </a:rPr>
              <a:t>Tipuri de alimentaţ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44576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Times New Roman"/>
              </a:rPr>
              <a:t>1. Alimentaţie naturală: 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exclusiv lapte matern în primele 4-6 luni de viaţ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ffff00"/>
                </a:solidFill>
                <a:latin typeface="Times New Roman"/>
              </a:rPr>
              <a:t>2. Alimetaţie artificială: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 laptele altei specii (preparat de lapte adaptat, având ca sursă laptele de vac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ffff00"/>
                </a:solidFill>
                <a:latin typeface="Times New Roman"/>
              </a:rPr>
              <a:t>3. Alimentaţie mixtă: 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în primele 4 luni (când secreţia lactată a mame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e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 insuficientă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= lapte de mam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+ preparat de lapte adapt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Times New Roman"/>
              </a:rPr>
              <a:t>4.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ro-RO" sz="2400" spc="-1" strike="noStrike">
                <a:solidFill>
                  <a:srgbClr val="ffff00"/>
                </a:solidFill>
                <a:latin typeface="Times New Roman"/>
              </a:rPr>
              <a:t>limetaţie diversificată: 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trecerea treptată la o alimentaţie variată, inclusiv alimente nelactate, de consistenţă semisolid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E3EB-BE42-4795-8C29-4204BFBABA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NECESARUL PROTEI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76FD-B136-40BB-BCA3-ACCDBB5F12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1" name="Picture 6" descr=""/>
          <p:cNvPicPr/>
          <p:nvPr/>
        </p:nvPicPr>
        <p:blipFill>
          <a:blip r:embed="rId1"/>
          <a:stretch/>
        </p:blipFill>
        <p:spPr>
          <a:xfrm>
            <a:off x="1065240" y="1668600"/>
            <a:ext cx="693576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cc00"/>
                </a:solidFill>
                <a:latin typeface="Tahoma"/>
              </a:rPr>
              <a:t>Necesarul protei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este necesar aport zilnic de proteine (proteinele nu sunt stocate în ţesuturi precum G, L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-75%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din proteine de origine animal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de obicei se consumă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1,5-2 g/kg/24 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C5A9-4BFE-400B-83DC-F18D1C6238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Deficitul proteic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ahoma"/>
              </a:rPr>
              <a:t>încetinirea creşter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ahoma"/>
              </a:rPr>
              <a:t>scăderea sintezei enzimelor, hormonilor, imunoglobulinel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ahoma"/>
              </a:rPr>
              <a:t>edeme hipoprote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ahoma"/>
              </a:rPr>
              <a:t>denutriţ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75FE-2748-44C1-8C79-C7186AD16E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Aportul proteic excesiv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ahoma"/>
              </a:rPr>
              <a:t>tulburări digestive (diareea de putrefacţi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ahoma"/>
              </a:rPr>
              <a:t>suprasolicitarea funcţiei renale de eliminare a cataboliţilor proteinelor, cu creşterea sarcinii osmotice ren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ahoma"/>
              </a:rPr>
              <a:t>hiperamoniemie cu efect neurotox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ahoma"/>
              </a:rPr>
              <a:t>favorizarea obezităţi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E5CB-AB74-4AEF-9CDB-6EA447B9FC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cc00"/>
                </a:solidFill>
                <a:latin typeface="Tahoma"/>
              </a:rPr>
              <a:t>Rolul lipidelor în organis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Energe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Plastic - participă la formarea celulelor (membrana celulară) şi a unor ţesuturi (nerv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Intră în structura unor hormo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Menţinerea integrităţii tegumentelor şi fanerel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AG polinesaturaţi sunt precursorii PG, LT, T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Acidul linolenic- transportul taurinei (indispensabilă intergrităţii fotoreceptorilo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Vehiculează şi favorizează absorbţia vit. liposolub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959C-312B-409F-94DE-5EF4462038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APORTUL DE LIPIDE LA COPII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1 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581F-6756-48AB-99B4-554CE26800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4" name="Picture 4" descr=""/>
          <p:cNvPicPr/>
          <p:nvPr/>
        </p:nvPicPr>
        <p:blipFill>
          <a:blip r:embed="rId1"/>
          <a:stretch/>
        </p:blipFill>
        <p:spPr>
          <a:xfrm>
            <a:off x="533520" y="1957320"/>
            <a:ext cx="802800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Carenţa de lipid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Oprirea creşteri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Leziuni trofice ale tegumentelor, mucoaselor şi fanerelo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Xeroftalmi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Neuropatie periferic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Creşterea adezivităţii trombocitelo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DB8B-D89C-4B8D-8A1C-AD28EBF50A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Excesul de lipid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Obezi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Steatoză hepatic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Diar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Cetogeneză (în condiţiile unei diete hipoglucidi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EA8E-EED1-4826-9450-ED1B3498B6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Necesarul de vitam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cc00"/>
                </a:solidFill>
                <a:latin typeface="Tahoma"/>
              </a:rPr>
              <a:t>Vitamina A</a:t>
            </a:r>
            <a:r>
              <a:rPr b="1" lang="ro-RO" sz="32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1-3 ani: 300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4-8 ani: 400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9-13 ani: 600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14-18 ani: 900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g/zi (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700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g/zi (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Surse: lapte, peşte, ficat, gălbenuş, morcov, spanac, varză, arde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5CBF-6E6C-4576-BE8F-35B97E25AF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Necesarul de vitam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cc00"/>
                </a:solidFill>
                <a:latin typeface="Tahoma"/>
              </a:rPr>
              <a:t>Vitamina 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necesar î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onele temperate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: 15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Surs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exogene: gălbenuş, peşte, lapte, unt, ficat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sinteză endogenă sub acţiunea UV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Rol: în metabolismul fosfocalcic, factor antirahi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0A60-DB42-4772-B6C4-3E9E987A88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Times New Roman"/>
              </a:rPr>
              <a:t>Compoziţia laptelui de mam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00"/>
                </a:solidFill>
                <a:latin typeface="Times New Roman"/>
              </a:rPr>
              <a:t>3 variante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Times New Roman"/>
              </a:rPr>
              <a:t>colostru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Times New Roman"/>
              </a:rPr>
              <a:t>lapte de tranziţi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Times New Roman"/>
              </a:rPr>
              <a:t>lapte matu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00"/>
                </a:solidFill>
                <a:latin typeface="Times New Roman"/>
              </a:rPr>
              <a:t>Colostrul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Times New Roman"/>
              </a:rPr>
              <a:t>secretat în ultimul trimestru de sarcină şi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2-3 </a:t>
            </a:r>
            <a:r>
              <a:rPr b="1" lang="ro-RO" sz="2200" spc="-1" strike="noStrike">
                <a:solidFill>
                  <a:srgbClr val="ffffff"/>
                </a:solidFill>
                <a:latin typeface="Times New Roman"/>
              </a:rPr>
              <a:t>zile după naşter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Times New Roman"/>
              </a:rPr>
              <a:t>lichid gălbui, bogat în proteine, vitamine liposolubile, I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00"/>
                </a:solidFill>
                <a:latin typeface="Times New Roman"/>
              </a:rPr>
              <a:t>Lapte de tranziţi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Times New Roman"/>
              </a:rPr>
              <a:t>din ziua 4-6 până în ziua 10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 </a:t>
            </a:r>
            <a:r>
              <a:rPr b="1" lang="ro-RO" sz="2200" spc="-1" strike="noStrike">
                <a:solidFill>
                  <a:srgbClr val="ffffff"/>
                </a:solidFill>
                <a:latin typeface="Times New Roman"/>
              </a:rPr>
              <a:t>conc. de lactoză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ro-RO" sz="2200" spc="-1" strike="noStrike">
                <a:solidFill>
                  <a:srgbClr val="ffffff"/>
                </a:solidFill>
                <a:latin typeface="Times New Roman"/>
              </a:rPr>
              <a:t> vitamine B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ro-R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. de proteine, săruri mineral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pte matu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v: ziua 10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7-95% apă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-13% substanţă uscată (proteine, lipide, glucide, săruri minerale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83F7-663D-4767-9D3B-6194AF6AF1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Necesarul de vitam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cc00"/>
                </a:solidFill>
                <a:latin typeface="Tahoma"/>
              </a:rPr>
              <a:t>Vitamina 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 1-3 ani: 6 mg/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 4-8 ani: 7 mg/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9-13 ani: 11 mg/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14-18 ani: 15 mg/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Surse: plante verzi, orez, grâu, drojdi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6EA0-DCF2-4A53-A9FB-B2E36E125D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Necesarul de vitam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cc00"/>
                </a:solidFill>
                <a:latin typeface="Tahoma"/>
              </a:rPr>
              <a:t>Vitamin</a:t>
            </a: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1" lang="ro-RO" sz="3600" spc="-1" strike="noStrike">
                <a:solidFill>
                  <a:srgbClr val="ffcc00"/>
                </a:solidFill>
                <a:latin typeface="Tahoma"/>
              </a:rPr>
              <a:t> K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 1-3 ani: 30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g/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 4-8 ani: 55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g/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 9-13 ani: 60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g/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 14-18 ani: 75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g/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Surse: ficat, spanac, varz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E426-D1BB-4B52-9DE6-646F271E0E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Necesarul de vitam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cc00"/>
                </a:solidFill>
                <a:latin typeface="Tahoma"/>
              </a:rPr>
              <a:t>Vitamina B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1-3 ani: 0,5 m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4-8 ani: 0,6 m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9-13 ani: 0,9 m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14-18 ani: 1,2 mg/zi (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1 mg/zi (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Surse: cereale, carne, ficat, peşte, ou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C9EA-4D63-46E1-837B-EB56BEBBD1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Necesarul de vitam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cc00"/>
                </a:solidFill>
                <a:latin typeface="Tahoma"/>
              </a:rPr>
              <a:t>Vitamina B2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1-3 ani: 0,5 m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4-8 ani: 0,6 m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9-13 ani: 0,9 m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14-18 ani: 1,3 mg/zi (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1 mg/zi (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Surse: lapte, ouă, viscere, crustacee, fasole, mazăre, spanac, roş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B9BA-BAA7-4AC1-A751-0543333A68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Necesarul de vitam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cc00"/>
                </a:solidFill>
                <a:latin typeface="Tahoma"/>
              </a:rPr>
              <a:t>Vitamina B6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1-3 ani: 0,5 m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4-8 ani: 0,6 m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9-13 ani: 1 m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14-18 ani: 1,3 mg/zi (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1,2 mg/zi (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Surse: cereale, legume verzi, carne, peşte, gălbenuş de 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E292-828F-4852-B250-4C36DF4C14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Necesarul de vitam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cc00"/>
                </a:solidFill>
                <a:latin typeface="Tahoma"/>
              </a:rPr>
              <a:t>Vitamina B12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1-3 ani: 0,9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4-8 ani: 1,2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9-13 ani: 1,8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14-18 ani: 2,4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Surse: ficat, splină, creier, muşchi, crustac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43AC-2987-448B-B068-BE162C6D4E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Necesarul de vitam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cc00"/>
                </a:solidFill>
                <a:latin typeface="Tahoma"/>
              </a:rPr>
              <a:t>Vitamina 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1-3 ani: 15 m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4-8 ani: 25 m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9-13 ani: 45 m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14-18 ani: 75 mg/zi (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65 mg/zi (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Surse: spanac, crucifere, cartofi, fructe, legume, organe, stridii, lap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Deficitul – scorbut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Excesul - oxalur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D919-9534-492B-A61D-29441D104F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Necesarul de substanţe minera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cc00"/>
                </a:solidFill>
                <a:latin typeface="Tahoma"/>
              </a:rPr>
              <a:t>Sodiu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1-3 ani: 1000 m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4-8 ani: 1200 m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9-18 ani: 1500 m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Surse: lapte (cel de vacă are de 3 ori mai mult decât cel matern), legume, fructe, carne, peş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8DD6-4CB4-469A-B749-1249A72F6F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Necesarul de substanţe minera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cc00"/>
                </a:solidFill>
                <a:latin typeface="Tahoma"/>
              </a:rPr>
              <a:t>Potasiul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1-3 ani: 800 m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4-6 ani: 1100 m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7-10 ani: 2000 m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11-14 ani: 3100 m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15-18 ani: 3500 m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Surse: banane, citrice, legume, carne, peşte, lapte, ou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EAD5-6D4A-4223-8058-33084868DC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Necesarul de substanţe minera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cc00"/>
                </a:solidFill>
                <a:latin typeface="Tahoma"/>
              </a:rPr>
              <a:t>Calciul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- 1-3 ani: 500 mg/z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- 4-6 ani: 800 mg/z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- 7-10 ani: 800 mg/z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- 11-14 ani: 1300 mg/z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- 15-18 ani: 1300 mg/z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96A1-5860-4D2D-96CE-17F34E7291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COMPOZIŢIA LAPTELUI DE MAM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566640" y="1752480"/>
          <a:ext cx="8001000" cy="4303800"/>
        </p:xfrm>
        <a:graphic>
          <a:graphicData uri="http://schemas.openxmlformats.org/drawingml/2006/table">
            <a:tbl>
              <a:tblPr/>
              <a:tblGrid>
                <a:gridCol w="3791160"/>
                <a:gridCol w="2104920"/>
                <a:gridCol w="210492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nstituent (/litru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lostr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Lapte matur (ziua 1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ergie (kca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3-7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bohidraţ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ctoză (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ucoză (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ligozaharide (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-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-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-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zot total (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zot non-proteic (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zot proteic (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pide totale (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igliceride (% din lipid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esterol (% din lipid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sfolipide (% din lipid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-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7-1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-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-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6-0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7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2AB1-5FC5-4E7C-8B16-B86DA54FC565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Necesarul de substanţe minera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cc00"/>
                </a:solidFill>
                <a:latin typeface="Tahoma"/>
              </a:rPr>
              <a:t>Calciu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Ro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necesar unui os de calitate bun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reglează excitabilitatea neuromuscular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rol în procesele de coagul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activează tripsina şi lipaza pancreatic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intervine în transmiterea influxului nervos, contractilitatea miocardului, permeabilitatea membranelor capilare şi celul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Deficitul - rahitism, tetanie, mineralizarea deficitară a dinţil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E61C-5C9B-4B5F-B0CE-8761765213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Necesarul de substanţe minera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cc00"/>
                </a:solidFill>
                <a:latin typeface="Tahoma"/>
              </a:rPr>
              <a:t>Fosfor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1-3 ani: 460 m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4-8 ani: 500 m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9-13 ani: 1250 m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14-18 ani: 1250 m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Surse: lapte, carne, viscere, peşte, gălbenuş de 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Rol în formarea oaselor, metabolismul calciul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0D23-24D5-4D5D-BE4D-15B958C65E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Necesarul de substanţe minera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cc00"/>
                </a:solidFill>
                <a:latin typeface="Tahoma"/>
              </a:rPr>
              <a:t>Fier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1-3 ani: 7 m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4-8 ani: 10 m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9-13 ani: 8 m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14-18 ani: 11 mg/zi (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15 mg/zi (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Surse: ficat, carne, gălbenuş, lapte, legume ver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0C4C-49AF-4A1A-A701-59F0D729B2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Necesarul de substanţe minera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cc00"/>
                </a:solidFill>
                <a:latin typeface="Tahoma"/>
              </a:rPr>
              <a:t>Magneziu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- 1-3 ani: 80 mg/z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- 4-8 ani: 130 mg/z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- 9-13 ani: 240 mg/z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- 14-18 ani: 410 mg/zi (B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360 mg/zi (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Surse: ficat, carne, gălbenuş, lapte, legume ver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Roluri: în metabolismul Ca, scade excitabilitatea neuromusculară, favorizează pătrunderea vit. B6 în cel. nervoase, coenzimă în procesele de fosforila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30BF-5761-4497-A025-273A69C89C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Necesarul de substanţe minera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cc00"/>
                </a:solidFill>
                <a:latin typeface="Tahoma"/>
              </a:rPr>
              <a:t>Cupru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1-3 ani: 340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4-8 ani: 440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9-13 ani: 700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14-18 ani: 890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Surse: ficat, carne, peşte, nuci, legu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B868-B734-4ECC-AB49-3446BD74E6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Necesarul de substanţe minera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2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cc00"/>
                </a:solidFill>
                <a:latin typeface="Tahoma"/>
              </a:rPr>
              <a:t>Fluoru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- 1-3 ani: 0,7 mg/z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- 4-8 ani: 1 mg/z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- 9-13 ani: 2 mg/z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- 14-18 ani: 3 mg/z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2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Surse: vegetale, ap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6856-7D1D-48A1-998D-18E8702793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Necesarul de substanţe minera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cc00"/>
                </a:solidFill>
                <a:latin typeface="Tahoma"/>
              </a:rPr>
              <a:t>Clorul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1-3 ani: 800 m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4-8 ani: 1100 m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9-13 ani: 1100 m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14-18 ani: 1100 m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Rol: principalul anion extracelu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0533-3AE4-4F98-BD5B-C98EB7EE74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Necesarul de substanţe minera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cc00"/>
                </a:solidFill>
                <a:latin typeface="Tahoma"/>
              </a:rPr>
              <a:t>Iod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1-3 ani: 90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4-8 ani: 90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9-13 ani: 120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14-18 ani: 150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g/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Rol: în sinteza hormonilor tiroidie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Surse: sarea iodată, peşte ocea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5BCF-A234-4616-90E9-E34A56A951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Alimenta</a:t>
            </a:r>
            <a:r>
              <a:rPr b="1" lang="ro-RO" sz="4400" spc="-1" strike="noStrike">
                <a:solidFill>
                  <a:srgbClr val="ffcc00"/>
                </a:solidFill>
                <a:latin typeface="Tahoma"/>
              </a:rPr>
              <a:t>ț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ia copilului mic</a:t>
            </a:r>
            <a:br>
              <a:rPr sz="4400"/>
            </a:br>
            <a:r>
              <a:rPr b="1" lang="ro-RO" sz="4400" spc="-1" strike="noStrike">
                <a:solidFill>
                  <a:srgbClr val="ffcc00"/>
                </a:solidFill>
                <a:latin typeface="Tahoma"/>
              </a:rPr>
              <a:t>(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1-3 ani</a:t>
            </a:r>
            <a:r>
              <a:rPr b="1" lang="ro-RO" sz="4400" spc="-1" strike="noStrike">
                <a:solidFill>
                  <a:srgbClr val="ffcc00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cesar energetic: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80-8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kcal/kg/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cesarul de lichide: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11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1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35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l/kg/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ucide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: 12 g/kg/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ine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: 1,05 g/kg/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pide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: restul (4-5 g/kg/z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3 mese principale, 2 gustă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614D-B071-4C6A-91B0-F6783486B3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Alimenta</a:t>
            </a:r>
            <a:r>
              <a:rPr b="1" lang="ro-RO" sz="4400" spc="-1" strike="noStrike">
                <a:solidFill>
                  <a:srgbClr val="ffcc00"/>
                </a:solidFill>
                <a:latin typeface="Tahoma"/>
              </a:rPr>
              <a:t>ț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ia copilului mic</a:t>
            </a:r>
            <a:br>
              <a:rPr sz="4400"/>
            </a:br>
            <a:r>
              <a:rPr b="1" lang="ro-RO" sz="4400" spc="-1" strike="noStrike">
                <a:solidFill>
                  <a:srgbClr val="ffcc00"/>
                </a:solidFill>
                <a:latin typeface="Tahoma"/>
              </a:rPr>
              <a:t>(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1-3 ani</a:t>
            </a:r>
            <a:r>
              <a:rPr b="1" lang="ro-RO" sz="4400" spc="-1" strike="noStrike">
                <a:solidFill>
                  <a:srgbClr val="ffcc00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Gluci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Cereale integrale, paste făinoase, gris,  orez, mămăliguță, pâine, biscuiț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Legume recomandate: cartofi, morcovi, fasole verde, dovlecei, mazăre, rădăcinoase, spanac, conopidă, roş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ntre 1-2 ani legumele: supe-cre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după 2 ani: so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până la 2 ani nu se dă varză şi fasole uscat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Fructele: suc de fructe, piure, compot, fructe crude întreg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6395-5198-41BF-BB63-49C4E47F38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COMPOZIŢIA LAPTELUI  DE MAM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566640" y="1752480"/>
          <a:ext cx="8001000" cy="4319640"/>
        </p:xfrm>
        <a:graphic>
          <a:graphicData uri="http://schemas.openxmlformats.org/drawingml/2006/table">
            <a:tbl>
              <a:tblPr/>
              <a:tblGrid>
                <a:gridCol w="3791160"/>
                <a:gridCol w="2104920"/>
                <a:gridCol w="210492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nstituent (/litru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lostr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Lapte matur (ziua 1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79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teine totale (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zeină (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β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cazeină (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κ-cazeină (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α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lactalbumină (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ctoferină (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bumine serice (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A serică (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M (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G (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9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7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B6B7-DEDE-4ED8-8369-54E5E6025299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Alimenta</a:t>
            </a:r>
            <a:r>
              <a:rPr b="1" lang="ro-RO" sz="4000" spc="-1" strike="noStrike">
                <a:solidFill>
                  <a:srgbClr val="ffcc00"/>
                </a:solidFill>
                <a:latin typeface="Tahoma"/>
              </a:rPr>
              <a:t>ț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ia copilului mic </a:t>
            </a:r>
            <a:br>
              <a:rPr sz="4000"/>
            </a:br>
            <a:r>
              <a:rPr b="1" lang="ro-RO" sz="4000" spc="-1" strike="noStrike">
                <a:solidFill>
                  <a:srgbClr val="ffcc00"/>
                </a:solidFill>
                <a:latin typeface="Tahoma"/>
              </a:rPr>
              <a:t>(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1-3 ani</a:t>
            </a:r>
            <a:r>
              <a:rPr b="1" lang="ro-RO" sz="4000" spc="-1" strike="noStrike">
                <a:solidFill>
                  <a:srgbClr val="ffcc00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rotein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pte 50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0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l/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0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 carne pas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, pe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ş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, vit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ficat de 3 ori/s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t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â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ă- sub formă de bucăţe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1 ou la 2-3 z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006A-5967-49A6-BC84-25BB6F2755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Alimenta</a:t>
            </a:r>
            <a:r>
              <a:rPr b="1" lang="ro-RO" sz="4400" spc="-1" strike="noStrike">
                <a:solidFill>
                  <a:srgbClr val="ffcc00"/>
                </a:solidFill>
                <a:latin typeface="Tahoma"/>
              </a:rPr>
              <a:t>ț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ia copilului mic</a:t>
            </a:r>
            <a:br>
              <a:rPr sz="4400"/>
            </a:br>
            <a:r>
              <a:rPr b="1" lang="ro-RO" sz="4400" spc="-1" strike="noStrike">
                <a:solidFill>
                  <a:srgbClr val="ffcc00"/>
                </a:solidFill>
                <a:latin typeface="Tahoma"/>
              </a:rPr>
              <a:t>(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1-3 ani</a:t>
            </a:r>
            <a:r>
              <a:rPr b="1" lang="ro-RO" sz="4400" spc="-1" strike="noStrike">
                <a:solidFill>
                  <a:srgbClr val="ffcc00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Lipi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Ulei, unt, smântân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22FD-79ED-4CA4-88BD-DDA8D1B6A7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ahoma"/>
              </a:rPr>
              <a:t>Alimenta</a:t>
            </a:r>
            <a:r>
              <a:rPr b="1" lang="ro-RO" sz="4000" spc="-1" strike="noStrike">
                <a:solidFill>
                  <a:srgbClr val="ccff66"/>
                </a:solidFill>
                <a:latin typeface="Tahoma"/>
              </a:rPr>
              <a:t>ţ</a:t>
            </a:r>
            <a:r>
              <a:rPr b="1" lang="en-US" sz="4000" spc="-1" strike="noStrike">
                <a:solidFill>
                  <a:srgbClr val="ccff66"/>
                </a:solidFill>
                <a:latin typeface="Tahoma"/>
              </a:rPr>
              <a:t>ia copilului </a:t>
            </a:r>
            <a:r>
              <a:rPr b="1" lang="ro-RO" sz="4000" spc="-1" strike="noStrike">
                <a:solidFill>
                  <a:srgbClr val="ccff66"/>
                </a:solidFill>
                <a:latin typeface="Tahoma"/>
              </a:rPr>
              <a:t>preşcolar</a:t>
            </a:r>
            <a:r>
              <a:rPr b="1" lang="en-US" sz="4000" spc="-1" strike="noStrike">
                <a:solidFill>
                  <a:srgbClr val="ccff66"/>
                </a:solidFill>
                <a:latin typeface="Tahoma"/>
              </a:rPr>
              <a:t> </a:t>
            </a:r>
            <a:br>
              <a:rPr sz="4000"/>
            </a:br>
            <a:r>
              <a:rPr b="1" lang="ro-RO" sz="4000" spc="-1" strike="noStrike">
                <a:solidFill>
                  <a:srgbClr val="ccff66"/>
                </a:solidFill>
                <a:latin typeface="Tahoma"/>
              </a:rPr>
              <a:t>(4-6</a:t>
            </a:r>
            <a:r>
              <a:rPr b="1" lang="en-US" sz="4000" spc="-1" strike="noStrike">
                <a:solidFill>
                  <a:srgbClr val="ccff66"/>
                </a:solidFill>
                <a:latin typeface="Tahoma"/>
              </a:rPr>
              <a:t> ani</a:t>
            </a:r>
            <a:r>
              <a:rPr b="1" lang="ro-RO" sz="4000" spc="-1" strike="noStrike">
                <a:solidFill>
                  <a:srgbClr val="ccff66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cesar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energet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69-77 kc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/kg/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Necesar hidric: 90-110 ml/kg/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Glucidele: 10 g/kg/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roteinele: 0,95 g/kg/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Lipidele: restul (2-3 g/kg/z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3 mese şi 2 gustă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F2C8-AF80-46B8-B857-F7671F2955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ahoma"/>
              </a:rPr>
              <a:t>Alimenta</a:t>
            </a:r>
            <a:r>
              <a:rPr b="1" lang="ro-RO" sz="4000" spc="-1" strike="noStrike">
                <a:solidFill>
                  <a:srgbClr val="ccff66"/>
                </a:solidFill>
                <a:latin typeface="Tahoma"/>
              </a:rPr>
              <a:t>ţ</a:t>
            </a:r>
            <a:r>
              <a:rPr b="1" lang="en-US" sz="4000" spc="-1" strike="noStrike">
                <a:solidFill>
                  <a:srgbClr val="ccff66"/>
                </a:solidFill>
                <a:latin typeface="Tahoma"/>
              </a:rPr>
              <a:t>ia copilului </a:t>
            </a:r>
            <a:r>
              <a:rPr b="1" lang="ro-RO" sz="4000" spc="-1" strike="noStrike">
                <a:solidFill>
                  <a:srgbClr val="ccff66"/>
                </a:solidFill>
                <a:latin typeface="Tahoma"/>
              </a:rPr>
              <a:t>preşcolar</a:t>
            </a:r>
            <a:r>
              <a:rPr b="1" lang="en-US" sz="4000" spc="-1" strike="noStrike">
                <a:solidFill>
                  <a:srgbClr val="ccff66"/>
                </a:solidFill>
                <a:latin typeface="Tahoma"/>
              </a:rPr>
              <a:t> </a:t>
            </a:r>
            <a:br>
              <a:rPr sz="4000"/>
            </a:br>
            <a:r>
              <a:rPr b="1" lang="ro-RO" sz="4000" spc="-1" strike="noStrike">
                <a:solidFill>
                  <a:srgbClr val="ccff66"/>
                </a:solidFill>
                <a:latin typeface="Tahoma"/>
              </a:rPr>
              <a:t>(4-6</a:t>
            </a:r>
            <a:r>
              <a:rPr b="1" lang="en-US" sz="4000" spc="-1" strike="noStrike">
                <a:solidFill>
                  <a:srgbClr val="ccff66"/>
                </a:solidFill>
                <a:latin typeface="Tahoma"/>
              </a:rPr>
              <a:t> ani</a:t>
            </a:r>
            <a:r>
              <a:rPr b="1" lang="ro-RO" sz="4000" spc="-1" strike="noStrike">
                <a:solidFill>
                  <a:srgbClr val="ccff66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Gluci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âine intermediară şi prodse de panificaţie 150 g/z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Cereale integrale, paste făinoase, gris,  orez, mămăliguță, biscuiț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Legume recomandate: cartofi, morcovi, fasole verde, dovlecei, mazăre, rădăcinoase, spanac, conopidă, roş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Fructele: suc de fructe, piure, compot, fructe crude întreg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1247-D57D-4949-824D-C5CEBDD8EB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ahoma"/>
              </a:rPr>
              <a:t>Alimenta</a:t>
            </a:r>
            <a:r>
              <a:rPr b="1" lang="ro-RO" sz="4000" spc="-1" strike="noStrike">
                <a:solidFill>
                  <a:srgbClr val="ccff66"/>
                </a:solidFill>
                <a:latin typeface="Tahoma"/>
              </a:rPr>
              <a:t>ț</a:t>
            </a:r>
            <a:r>
              <a:rPr b="1" lang="en-US" sz="4000" spc="-1" strike="noStrike">
                <a:solidFill>
                  <a:srgbClr val="ccff66"/>
                </a:solidFill>
                <a:latin typeface="Tahoma"/>
              </a:rPr>
              <a:t>ia copilului </a:t>
            </a:r>
            <a:r>
              <a:rPr b="1" lang="ro-RO" sz="4000" spc="-1" strike="noStrike">
                <a:solidFill>
                  <a:srgbClr val="ccff66"/>
                </a:solidFill>
                <a:latin typeface="Tahoma"/>
              </a:rPr>
              <a:t>preşcolar</a:t>
            </a:r>
            <a:r>
              <a:rPr b="1" lang="en-US" sz="4000" spc="-1" strike="noStrike">
                <a:solidFill>
                  <a:srgbClr val="ccff66"/>
                </a:solidFill>
                <a:latin typeface="Tahoma"/>
              </a:rPr>
              <a:t> </a:t>
            </a:r>
            <a:br>
              <a:rPr sz="4000"/>
            </a:br>
            <a:r>
              <a:rPr b="1" lang="ro-RO" sz="4000" spc="-1" strike="noStrike">
                <a:solidFill>
                  <a:srgbClr val="ccff66"/>
                </a:solidFill>
                <a:latin typeface="Tahoma"/>
              </a:rPr>
              <a:t>(4-6</a:t>
            </a:r>
            <a:r>
              <a:rPr b="1" lang="en-US" sz="4000" spc="-1" strike="noStrike">
                <a:solidFill>
                  <a:srgbClr val="ccff66"/>
                </a:solidFill>
                <a:latin typeface="Tahoma"/>
              </a:rPr>
              <a:t> ani</a:t>
            </a:r>
            <a:r>
              <a:rPr b="1" lang="ro-RO" sz="4000" spc="-1" strike="noStrike">
                <a:solidFill>
                  <a:srgbClr val="ccff66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cesar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roteic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2/3 proteine anim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1/3 proteine veget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pte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, iaur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50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0-600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l/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0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 carne pas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, pe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ş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, vit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ficat de 3 ori/s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t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â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ă- sub formă de bucăţe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75 g branză proaspătă de vaci, telemea, caşcaval, brânză topit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1 ou la 2 zile (fiert/ochiur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7114-64A7-484A-9BBE-E09764C4CB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ahoma"/>
              </a:rPr>
              <a:t>Alimenta</a:t>
            </a:r>
            <a:r>
              <a:rPr b="1" lang="ro-RO" sz="4000" spc="-1" strike="noStrike">
                <a:solidFill>
                  <a:srgbClr val="ccff66"/>
                </a:solidFill>
                <a:latin typeface="Tahoma"/>
              </a:rPr>
              <a:t>ţ</a:t>
            </a:r>
            <a:r>
              <a:rPr b="1" lang="en-US" sz="4000" spc="-1" strike="noStrike">
                <a:solidFill>
                  <a:srgbClr val="ccff66"/>
                </a:solidFill>
                <a:latin typeface="Tahoma"/>
              </a:rPr>
              <a:t>ia copilului </a:t>
            </a:r>
            <a:r>
              <a:rPr b="1" lang="ro-RO" sz="4000" spc="-1" strike="noStrike">
                <a:solidFill>
                  <a:srgbClr val="ccff66"/>
                </a:solidFill>
                <a:latin typeface="Tahoma"/>
              </a:rPr>
              <a:t>preşcolar</a:t>
            </a:r>
            <a:r>
              <a:rPr b="1" lang="en-US" sz="4000" spc="-1" strike="noStrike">
                <a:solidFill>
                  <a:srgbClr val="ccff66"/>
                </a:solidFill>
                <a:latin typeface="Tahoma"/>
              </a:rPr>
              <a:t> </a:t>
            </a:r>
            <a:br>
              <a:rPr sz="4000"/>
            </a:br>
            <a:r>
              <a:rPr b="1" lang="ro-RO" sz="4000" spc="-1" strike="noStrike">
                <a:solidFill>
                  <a:srgbClr val="ccff66"/>
                </a:solidFill>
                <a:latin typeface="Tahoma"/>
              </a:rPr>
              <a:t>(4-6</a:t>
            </a:r>
            <a:r>
              <a:rPr b="1" lang="en-US" sz="4000" spc="-1" strike="noStrike">
                <a:solidFill>
                  <a:srgbClr val="ccff66"/>
                </a:solidFill>
                <a:latin typeface="Tahoma"/>
              </a:rPr>
              <a:t> ani</a:t>
            </a:r>
            <a:r>
              <a:rPr b="1" lang="ro-RO" sz="4000" spc="-1" strike="noStrike">
                <a:solidFill>
                  <a:srgbClr val="ccff66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Lipi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Unt, smântână, ule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C07F-3500-437F-BC25-15DF598EA3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534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Tahoma"/>
              </a:rPr>
              <a:t>Alimenta</a:t>
            </a:r>
            <a:r>
              <a:rPr b="1" lang="ro-RO" sz="4000" spc="-1" strike="noStrike">
                <a:solidFill>
                  <a:srgbClr val="ffc000"/>
                </a:solidFill>
                <a:latin typeface="Tahoma"/>
              </a:rPr>
              <a:t>ț</a:t>
            </a:r>
            <a:r>
              <a:rPr b="1" lang="en-US" sz="4000" spc="-1" strike="noStrike">
                <a:solidFill>
                  <a:srgbClr val="ffc000"/>
                </a:solidFill>
                <a:latin typeface="Tahoma"/>
              </a:rPr>
              <a:t>ia copilului </a:t>
            </a:r>
            <a:r>
              <a:rPr b="1" lang="ro-RO" sz="4000" spc="-1" strike="noStrike">
                <a:solidFill>
                  <a:srgbClr val="ffc000"/>
                </a:solidFill>
                <a:latin typeface="Tahoma"/>
              </a:rPr>
              <a:t>şcolar </a:t>
            </a:r>
            <a:br>
              <a:rPr sz="4000"/>
            </a:br>
            <a:r>
              <a:rPr b="1" lang="ro-RO" sz="4000" spc="-1" strike="noStrike">
                <a:solidFill>
                  <a:srgbClr val="ffc000"/>
                </a:solidFill>
                <a:latin typeface="Tahoma"/>
              </a:rPr>
              <a:t>(7-14</a:t>
            </a:r>
            <a:r>
              <a:rPr b="1" lang="en-US" sz="4000" spc="-1" strike="noStrike">
                <a:solidFill>
                  <a:srgbClr val="ffc000"/>
                </a:solidFill>
                <a:latin typeface="Tahoma"/>
              </a:rPr>
              <a:t> ani</a:t>
            </a:r>
            <a:r>
              <a:rPr b="1" lang="ro-RO" sz="4000" spc="-1" strike="noStrike">
                <a:solidFill>
                  <a:srgbClr val="ffc000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cesar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energetic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47-71 kc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/k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g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Necesar hidric: 60-85 ml/kg/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Glucidele: 8 g/kg/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roteinele: 0,95 g/kg/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Lipidele: restul (2 g/kg/z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3 mese şi 1-2 gustă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EB4A-5E43-4D46-BAD2-E4B0DF225E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Tahoma"/>
              </a:rPr>
              <a:t>Alimenta</a:t>
            </a:r>
            <a:r>
              <a:rPr b="1" lang="ro-RO" sz="4000" spc="-1" strike="noStrike">
                <a:solidFill>
                  <a:srgbClr val="ffc000"/>
                </a:solidFill>
                <a:latin typeface="Tahoma"/>
              </a:rPr>
              <a:t>ț</a:t>
            </a:r>
            <a:r>
              <a:rPr b="1" lang="en-US" sz="4000" spc="-1" strike="noStrike">
                <a:solidFill>
                  <a:srgbClr val="ffc000"/>
                </a:solidFill>
                <a:latin typeface="Tahoma"/>
              </a:rPr>
              <a:t>ia copilului </a:t>
            </a:r>
            <a:r>
              <a:rPr b="1" lang="ro-RO" sz="4000" spc="-1" strike="noStrike">
                <a:solidFill>
                  <a:srgbClr val="ffc000"/>
                </a:solidFill>
                <a:latin typeface="Tahoma"/>
              </a:rPr>
              <a:t>şcolar </a:t>
            </a:r>
            <a:br>
              <a:rPr sz="4000"/>
            </a:br>
            <a:r>
              <a:rPr b="1" lang="ro-RO" sz="4000" spc="-1" strike="noStrike">
                <a:solidFill>
                  <a:srgbClr val="ffc000"/>
                </a:solidFill>
                <a:latin typeface="Tahoma"/>
              </a:rPr>
              <a:t>(7-14</a:t>
            </a:r>
            <a:r>
              <a:rPr b="1" lang="en-US" sz="4000" spc="-1" strike="noStrike">
                <a:solidFill>
                  <a:srgbClr val="ffc000"/>
                </a:solidFill>
                <a:latin typeface="Tahoma"/>
              </a:rPr>
              <a:t> ani</a:t>
            </a:r>
            <a:r>
              <a:rPr b="1" lang="ro-RO" sz="4000" spc="-1" strike="noStrike">
                <a:solidFill>
                  <a:srgbClr val="ffc000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Gluci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âine intermediară, produse de panificaţ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Cartofi, orez, legume, fructe, produse zaharo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6D5D-1567-4D7E-885A-887012AF40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Tahoma"/>
              </a:rPr>
              <a:t>Alimenta</a:t>
            </a:r>
            <a:r>
              <a:rPr b="1" lang="ro-RO" sz="4000" spc="-1" strike="noStrike">
                <a:solidFill>
                  <a:srgbClr val="ffc000"/>
                </a:solidFill>
                <a:latin typeface="Tahoma"/>
              </a:rPr>
              <a:t>ț</a:t>
            </a:r>
            <a:r>
              <a:rPr b="1" lang="en-US" sz="4000" spc="-1" strike="noStrike">
                <a:solidFill>
                  <a:srgbClr val="ffc000"/>
                </a:solidFill>
                <a:latin typeface="Tahoma"/>
              </a:rPr>
              <a:t>ia copilului </a:t>
            </a:r>
            <a:r>
              <a:rPr b="1" lang="ro-RO" sz="4000" spc="-1" strike="noStrike">
                <a:solidFill>
                  <a:srgbClr val="ffc000"/>
                </a:solidFill>
                <a:latin typeface="Tahoma"/>
              </a:rPr>
              <a:t>şcolar </a:t>
            </a:r>
            <a:br>
              <a:rPr sz="4000"/>
            </a:br>
            <a:r>
              <a:rPr b="1" lang="ro-RO" sz="4000" spc="-1" strike="noStrike">
                <a:solidFill>
                  <a:srgbClr val="ffc000"/>
                </a:solidFill>
                <a:latin typeface="Tahoma"/>
              </a:rPr>
              <a:t>(7-14</a:t>
            </a:r>
            <a:r>
              <a:rPr b="1" lang="en-US" sz="4000" spc="-1" strike="noStrike">
                <a:solidFill>
                  <a:srgbClr val="ffc000"/>
                </a:solidFill>
                <a:latin typeface="Tahoma"/>
              </a:rPr>
              <a:t> ani</a:t>
            </a:r>
            <a:r>
              <a:rPr b="1" lang="ro-RO" sz="4000" spc="-1" strike="noStrike">
                <a:solidFill>
                  <a:srgbClr val="ffc000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rotein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roteine de origine animală 50-60% din 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400 ml lap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100-150 g car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30-50 g brânz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1 ou la 2 z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73FD-3CFC-436E-BA42-D2E15F4CEE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Tahoma"/>
              </a:rPr>
              <a:t>Alimenta</a:t>
            </a:r>
            <a:r>
              <a:rPr b="1" lang="ro-RO" sz="4000" spc="-1" strike="noStrike">
                <a:solidFill>
                  <a:srgbClr val="ffc000"/>
                </a:solidFill>
                <a:latin typeface="Tahoma"/>
              </a:rPr>
              <a:t>ț</a:t>
            </a:r>
            <a:r>
              <a:rPr b="1" lang="en-US" sz="4000" spc="-1" strike="noStrike">
                <a:solidFill>
                  <a:srgbClr val="ffc000"/>
                </a:solidFill>
                <a:latin typeface="Tahoma"/>
              </a:rPr>
              <a:t>ia copilului </a:t>
            </a:r>
            <a:r>
              <a:rPr b="1" lang="ro-RO" sz="4000" spc="-1" strike="noStrike">
                <a:solidFill>
                  <a:srgbClr val="ffc000"/>
                </a:solidFill>
                <a:latin typeface="Tahoma"/>
              </a:rPr>
              <a:t>şcolar </a:t>
            </a:r>
            <a:br>
              <a:rPr sz="4000"/>
            </a:br>
            <a:r>
              <a:rPr b="1" lang="ro-RO" sz="4000" spc="-1" strike="noStrike">
                <a:solidFill>
                  <a:srgbClr val="ffc000"/>
                </a:solidFill>
                <a:latin typeface="Tahoma"/>
              </a:rPr>
              <a:t>(7-14</a:t>
            </a:r>
            <a:r>
              <a:rPr b="1" lang="en-US" sz="4000" spc="-1" strike="noStrike">
                <a:solidFill>
                  <a:srgbClr val="ffc000"/>
                </a:solidFill>
                <a:latin typeface="Tahoma"/>
              </a:rPr>
              <a:t> ani</a:t>
            </a:r>
            <a:r>
              <a:rPr b="1" lang="ro-RO" sz="4000" spc="-1" strike="noStrike">
                <a:solidFill>
                  <a:srgbClr val="ffc000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Lipi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1/3 acizi grasi polinesaturaț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1/3 acizi grasi mononesaturaț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1/3 acizi grasi saturaț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Ulei, unt, smântână, lapte, carne, gălbenuș de o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1EB7-13F0-419C-8E12-B55C93F9E4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9:50:32Z</dcterms:created>
  <dc:creator>fujitsu</dc:creator>
  <dc:description/>
  <dc:language>en-US</dc:language>
  <cp:lastModifiedBy>User</cp:lastModifiedBy>
  <dcterms:modified xsi:type="dcterms:W3CDTF">2016-11-16T15:29:30Z</dcterms:modified>
  <cp:revision>153</cp:revision>
  <dc:subject/>
  <dc:title>Alimentaţia copilului</dc:title>
</cp:coreProperties>
</file>