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16A-D161-4763-9D6B-83BE4812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E21-DC1A-493B-8E16-B20E8C7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461-FAC8-4B9A-90AB-554400AA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FE-60DF-434B-9F68-B999F630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7C1-6767-429E-8080-4986288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008-2D1D-431A-A018-B633A73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6BE-8B2B-4557-AFAF-83AEDB17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94E-9BDC-40E5-B324-0C251C7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207-B56E-4C6F-A245-0651958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FAF-6F26-462B-8C3E-D8A304B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2B1-DF6C-46F0-BC77-1B502A0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A05-3D1B-44D2-910C-E109131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2FA7-1AF0-4C60-8CD6-BD5B02FB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Fibres alimentair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utres catégo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ig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midon ré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nu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ynthé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oly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pides à température de fusion éle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ubstituts lipid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Sources naturelles d'amidon ré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Aliment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s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dans la matière sè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Légumineuse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3,5-5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ommes de t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bouillies et réfrigérées)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1-3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= amylose modif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éréale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0,4-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ananes ver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Inu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ligosaccharide natu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bre fermentes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âce à la production d'AG à chaîne courte, augmente l'absorption intestinale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ugmente la quantité et la qualité des bactéries intestin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ctobacil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ifidobacte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d'inu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Oig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66"/>
                </a:solidFill>
                <a:latin typeface="Arial"/>
              </a:rPr>
              <a:t>Les effets des fibres alimentai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ractus gastro-intestinal supérie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bres visqueuses (sol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ractus gastro-intestinal inférie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bres fermentescibles (insolu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Tractus gastro-intestinal supérie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96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effets se produisent en raiso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capacité de se lier à l'eau et ainsi d'augmenter son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ugmentation du temps de mas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 conséquence, la sensation de satiété aug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ction dépend de la viscos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Tractus gastro-intestinal supérie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timule la mastication et le flux saliv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timule la sécrétion de suc gas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détermine le remplissage de l'estomac et la sensation de sati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tarde la vidange gas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etarde le taux de digestion et d'absorption des nutriments (lipides, cholestérol, glucides, protéin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9966"/>
                </a:solidFill>
                <a:latin typeface="Arial"/>
              </a:rPr>
              <a:t>Conséquence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tion du cholestérol sérique (en particulier LD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minution de l'excursion glycémique postpra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minution de l'index glycé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minution de l'énergie métaboli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Tractus gastro-intestinal supérie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 incert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minution du risque d'ulcère duodé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ibres de fruits et lég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as de fibres de céré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Définition (groupe de travail)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I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66"/>
                </a:solidFill>
                <a:latin typeface="Arial"/>
              </a:rPr>
              <a:t>Fibres alimentaire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= glucides non digestibles et lignine qui existent naturellement et intacts en al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66"/>
                </a:solidFill>
                <a:latin typeface="Arial"/>
              </a:rPr>
              <a:t>Fibres fonctionnelles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glucides non digestibles  isolés qui ont des effets physiologiques bénéfiques chez l'ho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66"/>
                </a:solidFill>
                <a:latin typeface="Arial"/>
              </a:rPr>
              <a:t>Fibre totale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= fibre alimentaire + fibre fonc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s encore adopté par la F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gmentation du volume du bol fécal, suivie d'une diminution de la pression intraluminale dans le cô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"Normalisation" du temps de transit intestinal (dimin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urnir le substrat pour la fermentation c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iaison aux acides biliaires et augmentation de l'excrétion du cholestérol et des acides bil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gmentation de l'excrétion fécale de l'az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ractus gastro-intestinal inférie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Gros intest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ction dépend de la fermentesci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oins fermentescib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s interviennent dans la formation du bol fé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mb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lus fermentescib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duction de gaz (méthane, CO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duit AG avec chaîne cou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tection contre le cancer du côlon (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s bénéfiq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mb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iarrh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iverticu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ncer colorec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ez une personne en bonne santé, 80 à 90% des glucides non absorbables sont fermentés dans le côlon par des bactéries, ce qui entraîne AG à chaîne cou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s sont absorbés par la muqueuse du petit et du gros intest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G avec chaîne cour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gmente l'absorption d'eau et de 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gmente la proliferation des colonocy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incipale source d'énergie pour les colonocytes (buty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gmenter le flux sanguin en le cô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timule le système nerveux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gmentation de la production d'hormones gastro-intestin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tabilise la glycémi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ction sur la libération d'insuline par le pancré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ntrôle de la glycogénolyse hép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gule l'absorption intestinale du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ibe la synthèse du cholestérol et abaisse le LDLc sérique et les triglycé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minue le pH intesti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tection contre les polypes co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ugmentation de l'absorption miné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timule l'immun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méliore les propriétés de barrière de la muqueuse col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ffet bénéfique s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lore intest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tection contre le cancer du côl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Classification selon la fermentesci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rmen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êta-gluc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Moins fermentesc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Robot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Roboto"/>
              </a:rPr>
              <a:t>Son de b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éré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Énergie fournie par les fib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n dé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égligeable (diminue l'absorption d'autres macronutriments de sorte que l'énergie fournie par les fibres n'est pas signific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5 à 2,5 kcal /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États-Un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0 kcal / g (fermentescible, insolu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 kcal / g (visqueux, solu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ibres alimentaires et mala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omposé 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onosaccharide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c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rabi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ib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Dérivés de monosacchar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30320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éduit la faim (visque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minuez le risque de développer certaines mala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bé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ab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aladie coronar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ncer colorectal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ncer du sein (?) - en diminuant les taux sériques d'œstrogènes (les fibres diminuent la réabsorption des œstrogènes dans l'intes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ncer de l'ovaire (?), Cancer de l'endomètre (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ff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La diminution du risque de maladie coronarienne se produit p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cholestérol sériqu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LDLc (en particulier ceux des céré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triglycéride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de la pression artérielle chez les personnes hyperten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Normalisation de l'excursion glycémique postprand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66"/>
                </a:solidFill>
                <a:latin typeface="Arial"/>
              </a:rPr>
              <a:t>N'affecte pas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bsorption intestinal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lci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agné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Q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Jusqu'en 20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4 g / 1000 kcal (réduirait l'apport énergétique de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20-35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epuis 2012 (Guide de prévention cardiovascula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20 g/1.00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30-45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rapport entre les fibres insolubles et solubles doit être de 3/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xcè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 de 50 à 60 g de fibres / j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66"/>
                </a:solidFill>
                <a:latin typeface="Arial"/>
              </a:rPr>
              <a:t>Peut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terférer avec l'absorptio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tam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inéra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ffets de l'excès de fib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nconfort gastro-intest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latulence (se produit par production de gaz, par fermentation), l'effet disparaît après une période d'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iarrh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ensation de satiété gastrique (ballonnem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Céréales et produits céréalier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ain blanc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ain noi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,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ain complet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on d'avoin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6,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z bl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iz bru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locons de maï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0,9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â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 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aghetti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,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aghetti à la farine complèt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8,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ines de tournesol (frites, sans sel)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raines de sésam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3,5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raines de li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1,7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ines de citrouille (frites, non salées)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3,9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Gra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Oléagineux (noix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           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nd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,7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jo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,2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iset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,5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i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5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achi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6,7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stach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,2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Noyau de noix de coco sec non sucré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6,2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âtaignes mû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9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tructure chim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la dépend de la dé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Poly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êta-gluc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émicellulose (A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structur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ect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cil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igosacchar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u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uctoolig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actooligosaccharid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  <a:ea typeface="Arial"/>
              </a:rPr>
              <a:t>± Amidon ré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9966"/>
                </a:solidFill>
                <a:latin typeface="Arial"/>
              </a:rPr>
              <a:t>Lign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Fr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mme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anane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aisins sec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oir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3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égu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100 g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)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Fibre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hou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,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rotte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,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ommes de terr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,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lassifica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Ancien terme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9966"/>
                </a:solidFill>
                <a:latin typeface="Arial"/>
              </a:rPr>
              <a:t>Nouveau te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oluble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isqu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nsolub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ermentesci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Fibres visqueuses (solubles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présent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ect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ucil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rtaines hémicellulo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de fibres solu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éréales (so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i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vo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ruits et jus de fru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u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a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ana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ommes (noy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ires (noyau)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égumine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is 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égu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roc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ar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mmes de t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tates dou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ig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La peau de ces légumes est une source de fibres insolub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Fibres fermentescibles (insolubl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présent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a plupart des hémicellu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les retrouve dans pratiquement en tous les produits végé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 source la plus importante: le son de céré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de fibres insolu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iments à grains e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n de blé et de maï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ix et autres graines oléagin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a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raines de 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égu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aricots 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ouf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itrou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él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lure de fruits (y compris les tom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47:45Z</dcterms:created>
  <dc:creator>Home</dc:creator>
  <dc:description/>
  <dc:language>en-US</dc:language>
  <cp:lastModifiedBy>ada</cp:lastModifiedBy>
  <dcterms:modified xsi:type="dcterms:W3CDTF">2021-05-08T17:46:31Z</dcterms:modified>
  <cp:revision>175</cp:revision>
  <dc:subject/>
  <dc:title>Fibrele alimentare</dc:title>
</cp:coreProperties>
</file>