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CC93-70F5-4AB0-8E5C-4F1A3E525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BC50-41EA-47FA-AAF0-84775660CE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HLP= hormon lactogen placen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51D8-82A5-4744-8367-8AE648AA1D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13FD-94BB-44D3-9E14-773C8AE985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ing Growth Factor Beta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C772-534D-4D08-B98D-2B01F039DB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51A-9E82-4DEC-8A2C-4CC2524D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30E3-C776-485D-A6F8-0039C50F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A7733-E2E0-446C-ABE7-CB00BBFE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3AF9B-2CE3-4AAD-8557-B84945C9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8B49B-95E0-4640-83C3-67049986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33156-8060-4EFD-B128-947A6DA6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0BA62-ED55-4A46-B78F-7FB3AEF9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A0347-0B2F-4A90-8F94-E9AA7B9C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919E4-088B-4DF7-B201-F1BF645F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03A53-42EC-488A-9DEA-8F9363AD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45B54-8FDD-428C-A34B-A5C4850A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33BB6-1718-4491-9276-A962D592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B6D3-D353-4ABA-AFAB-F5AD6E9C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409E5-1669-4D87-8710-8D406D75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9C1D4-0561-4257-8D40-418F79F1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3C769-7026-47FB-B392-E6FBFEA1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49085-A705-4C49-B1A4-6F5B7492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49415-6774-4483-9CC3-CE4A64CC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6ABDA-A4F0-49F7-B5E8-43EBE641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2FF5F-32EF-4F0E-B530-27F2E0F6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9E993-1C02-49C0-9C89-C6D0348E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AAC44-FEB3-4FE2-A413-D0276990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FB3EC-D2DF-4838-9080-809D0B12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2F0-EEBB-4CE4-9A00-8C217FC8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2FAD8-375B-402D-A26B-8D68189D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9B059-E28A-4C7D-A710-FDD57927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5FCFE-74DF-4894-94AA-9F79B90C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876FA-1D2E-4E02-A66B-8E7A3061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DD108-16AD-414A-8654-0523D151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40CAF-3DED-4C2D-B98D-567F8D46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3811B-7F7D-4E39-8495-7447D2C8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B35DB-C9BC-45DF-9503-52B0201D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65322-5AE1-4BEA-BE29-681CF4AA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9002D-5B3D-49BD-A865-BD4DD112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DDE7-4B60-4D5E-B124-6B73A2FF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3EF2F-028D-4F95-8DA5-B9B309E4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56B02-9C5F-4042-9CB2-C0D136B6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774E1-D110-4722-888E-6DB1A2D6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50C49-EE17-446A-88CB-8E8F8BCC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33304-5865-422E-80A5-65513515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976FC-A1D7-4DA8-B53B-24092A19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ECC1B-427C-4D9B-85AB-D32F3FAC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EB499-0F9F-4C0E-8AC2-48A45C03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90D11-34CD-4DC2-A3E9-7FDDE633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C4500-5EA6-4CEE-AD84-A17D44F3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6CB8-DE98-42CF-BC48-D6C88820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EFEDF-4C01-4F87-9501-3F0104D2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C041D-2D78-4878-9135-61035DD9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DF823-09B3-4BB2-B6A0-C1A7D507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4AFDF-6850-4F3E-B446-257DD0E4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D28A4-66B1-4064-9317-385B030F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E68794-E463-4C13-9169-A5BEEA3C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3F4FB-182A-41A1-A7D8-3E15CB93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E143F-9238-4BE1-94A9-09809367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54CCC1-26CA-4B1D-AF1B-A62886C4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71C4C2-A4D8-4DB5-9DDF-732CE786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2CB3-E20B-4682-861E-7F56CAB7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D80F9-991D-48D0-B9A3-A9F04892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F102A-5BA2-460C-ABD2-4A45E7FD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B7975A-DAFA-4AD6-B2FE-785345AE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D81F9F-60B7-4079-985A-008AEBDD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0357E-0E31-479A-9ACC-4C5EEF5C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74B19B-3F45-48E7-AA62-BD4938CF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1C2F69-7208-45BE-858A-CF4E9CBB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086D-F85A-424E-863C-D0400B93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B62A-0941-4A29-B587-330C2C93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9C68-4775-4A42-9698-16BF7B01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0DDB-5C84-44C1-8D05-9F8901A5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9BF3-10DA-49E5-9B2B-A98E277A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85D3-C9C5-45F2-974A-EEFB9C20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1AEB-7549-4A04-8420-8CB3DB85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62EE-EB95-4076-BD36-7C028D06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24E4-A3D1-4D0D-B14F-D028EDAD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3350-D502-44D0-A4C6-24D5DC5F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C0EC7-943B-4744-886C-FAA24B27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38062-6193-488F-9AC6-78F9143D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122DD-2BE8-4E22-884B-5C34DD84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DFE0D-7DF0-48E2-9AF7-FECAEA01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BE3DA-710F-4BF3-B3D2-A776B9ED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280-139E-4EFD-80A2-FE37F670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D22D7-0704-4201-A851-569CB70B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9A829-BF53-48FF-A4B1-B843617D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AB2B9-A0C0-4297-8EE9-49BB76D3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EB9B8-1FBD-48DE-B91E-254B8D3C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BEC8F-DE7A-4741-8733-2C770EE4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11BA-4BAC-43B3-B272-6C4CBCAD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3B493-335A-46C7-BAD0-1C8079AD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B775B-D22A-4AFB-8369-49AF5413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19CAA-5916-4C3D-BFD8-E36EABAD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259FC-F47A-4FA2-B3BE-D3409E77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460C-64A4-4BC0-AB22-0546CFD2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D6AA0-65C6-41D3-8138-19C4417D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69BC5-8637-4C8B-881E-455DE1C4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7887C-EB88-4FE8-A577-99904522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CD7C2-D393-4118-8DE4-2257814F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DC01F-B8D6-4123-8C64-04D60259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19C7F-29F6-4E2A-88FE-308AEA9B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6E409-1692-4E47-9FFB-8DB38C14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8DE04-E114-467D-A064-B5A5F0CE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20C23-F896-4F74-A854-9C9D6C32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96C39-7268-4D9B-98F7-3791E5BD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064C-FE58-4C89-AD07-851C3E34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D8B87-9ACF-433A-BA49-6C7755B5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3AC60-30C5-4D3B-946C-3395DA4D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14EF9-BB92-4AD6-A378-7420C2C1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46236-5DF4-44EE-AD6B-31628168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3D8D1-05E7-4048-881C-E41D0A23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A1626-043A-4420-8D42-E08772B9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87AEF-389C-4D28-803D-E0120BCB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615A8-0092-4ADC-B6B9-EAA69C0B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F74F6-663A-4AF8-8A22-D418CB8B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3E769-2620-403E-9EC0-2A49E069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00F7-BD05-4572-B2A8-A81DA703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9AA95-0BC4-48FE-AD70-8A579114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2555F-DA0B-4D92-B974-31AE4CFA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E4680-01F5-4EC3-AC69-9DC15BA7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62760-C131-470B-B2EA-7328A85E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4F6F1-827E-4F0C-A805-3B64307B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6CBA1-A729-42DE-AEE8-F8098FBC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59C24-3CC9-4542-9C3D-CAEABE5C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E6870-644D-4176-A9F7-6BEA4F92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A7ED2-6F63-4B6C-85B0-A3F4469C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99692-37C3-4C01-8B03-57FFDA43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12C-895E-4210-BC4A-A01D2BF1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DD456-45B3-421D-92FE-8C8169A8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83BF1-C150-46C3-9C2A-B2D4E954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FF17C-84DD-42FB-BA90-865E3EC3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B19AF-5EAB-4CB2-B36A-FA8CB15E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8A346-273A-4DEA-A065-E5E6756B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75120-DC65-4215-B2CE-29C5EAF9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6314C-CA56-4290-978D-1CC4E458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1A12E-146C-4464-8F13-AF735D7A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9308E-EAE4-4791-8E13-E615247D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5D571-0FCE-4F9D-B748-03A760B7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DE69-7A7B-4CE8-980C-E529FDC9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D9FB3-D324-44AB-BC3A-9E3512F7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5AA56-D82B-4717-8443-DB39ECFF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2A57E-4045-4172-823B-B1E8D758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FCBDB-C76C-49C4-A02A-5B40285C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63869-DD36-4FE4-B72D-B65E18DE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CBD92-8786-4BF4-8808-A944909B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51A86-BD77-441A-B996-73E640F9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829CA-706A-446E-B904-7276F5EE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29839-EA0D-43FA-91CF-E3F341C2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C1256-6AF8-41A5-A157-6CDB12F3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231-0A29-4F06-9FE4-F7440BDB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CA8AC-33E7-418C-AEA5-33D2AE44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D4B9A-2B58-401C-B86F-B54BF48D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681BA-BACD-425B-A88A-333B88C6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FE13B-CA74-42C6-A93A-653A80A2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20D60-855E-4B9D-B1C8-6CE889B0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6B2B3-9C8D-43CE-A6CC-BCB1FD83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9A2B1-384C-449A-9E5C-22906B28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2FC59-A4F8-4D1D-A477-78AE38B8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33F8C-A5DD-42F4-A002-5321B263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78FDD-CE83-48F8-BADB-97B11845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BF1D-1774-4AE4-B41D-403AA0791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190B-A1EC-4C24-92D4-95F96D30A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1D33-EE48-41D5-8883-4C8EF3167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6FED-818F-43BC-85F0-AB45ECD9D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8BBA-648A-4449-AE58-150A86A03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1146-D904-42BE-8F37-713B96BE9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D622-2F59-4096-B574-C1FE512C6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A2D9-E5CF-4D7A-9C63-D8943F692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574F-647D-469C-9565-6FEF09F97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399D-5486-4E13-822E-FE3E30E7F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0994-A80E-4F85-AADF-B13A96B54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E3B7-3012-4C8B-995D-DDC93E922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3713040"/>
            <a:ext cx="8003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NUTRI</a:t>
            </a:r>
            <a:r>
              <a:rPr b="1" lang="ro-RO" sz="6000" spc="-1" strike="noStrike">
                <a:solidFill>
                  <a:srgbClr val="000000"/>
                </a:solidFill>
                <a:latin typeface="Verdana"/>
              </a:rPr>
              <a:t>ŢIA ŞI ALĂPTAREA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Slide Number Placeholder 2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552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Verdana"/>
              </a:rPr>
              <a:t>GLANDA MAMARĂ ŞI REGLAREA SECREŢIEI LACTAT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95280" y="1752480"/>
            <a:ext cx="83916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Sta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iile lactogenezei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000" spc="-1" strike="noStrike">
                <a:solidFill>
                  <a:srgbClr val="000000"/>
                </a:solidFill>
                <a:latin typeface="Verdana"/>
              </a:rPr>
              <a:t>Lactogeneza I (din săpt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i="1" lang="vi-VN" sz="2000" spc="-1" strike="noStrike">
                <a:solidFill>
                  <a:srgbClr val="000000"/>
                </a:solidFill>
                <a:latin typeface="Verdana"/>
              </a:rPr>
              <a:t>16 până la 30 h post-partum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Verdana"/>
              </a:rPr>
              <a:t>începe activitatea celulară secretorie și producerea laptelu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vi-VN" sz="2000" spc="-1" strike="noStrike">
                <a:solidFill>
                  <a:srgbClr val="000000"/>
                </a:solidFill>
                <a:latin typeface="Verdana"/>
              </a:rPr>
              <a:t>e realizează sub influența HLP și a factorilor de creștere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c00000"/>
                </a:solidFill>
                <a:latin typeface="Verdana"/>
              </a:rPr>
              <a:t>c</a:t>
            </a:r>
            <a:r>
              <a:rPr b="0" lang="vi-VN" sz="2000" spc="-1" strike="noStrike">
                <a:solidFill>
                  <a:srgbClr val="c00000"/>
                </a:solidFill>
                <a:latin typeface="Verdana"/>
              </a:rPr>
              <a:t>olostrul </a:t>
            </a:r>
            <a:r>
              <a:rPr b="0" lang="vi-VN" sz="2000" spc="-1" strike="noStrike">
                <a:solidFill>
                  <a:srgbClr val="000000"/>
                </a:solidFill>
                <a:latin typeface="Verdana"/>
              </a:rPr>
              <a:t>ante-part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: </a:t>
            </a:r>
            <a:r>
              <a:rPr b="0" lang="vi-VN" sz="2000" spc="-1" strike="noStrike">
                <a:solidFill>
                  <a:srgbClr val="000000"/>
                </a:solidFill>
                <a:latin typeface="Verdana"/>
              </a:rPr>
              <a:t>lactoz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lang="vi-VN" sz="2000" spc="-1" strike="noStrike">
                <a:solidFill>
                  <a:srgbClr val="000000"/>
                </a:solidFill>
                <a:latin typeface="Verdana"/>
              </a:rPr>
              <a:t>, cazein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lang="vi-VN" sz="2000" spc="-1" strike="noStrike">
                <a:solidFill>
                  <a:srgbClr val="000000"/>
                </a:solidFill>
                <a:latin typeface="Verdana"/>
              </a:rPr>
              <a:t> și alfa-lactalbumi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nă;</a:t>
            </a:r>
            <a:r>
              <a:rPr b="0" lang="vi-VN" sz="2000" spc="-1" strike="noStrike">
                <a:solidFill>
                  <a:srgbClr val="000000"/>
                </a:solidFill>
                <a:latin typeface="Verdana"/>
              </a:rPr>
              <a:t> Colostrul este prezent la naștere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000" spc="-1" strike="noStrike">
                <a:solidFill>
                  <a:srgbClr val="000000"/>
                </a:solidFill>
                <a:latin typeface="Verdana"/>
              </a:rPr>
              <a:t>Lactogeneza II (de la 30-72 h post-partum până în Z9) – </a:t>
            </a:r>
            <a:r>
              <a:rPr b="1" i="1" lang="vi-VN" sz="2000" spc="-1" strike="noStrike">
                <a:solidFill>
                  <a:srgbClr val="c00000"/>
                </a:solidFill>
                <a:latin typeface="Verdana"/>
              </a:rPr>
              <a:t>instalarea secreției lactat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vi-VN" sz="2000" spc="-1" strike="noStrike">
                <a:solidFill>
                  <a:srgbClr val="000000"/>
                </a:solidFill>
                <a:latin typeface="Verdana"/>
              </a:rPr>
              <a:t>ste declanșată de eliminarea placentei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crește </a:t>
            </a:r>
            <a:r>
              <a:rPr b="0" lang="ro-RO" sz="2000" spc="-1" strike="noStrike">
                <a:solidFill>
                  <a:srgbClr val="c00000"/>
                </a:solidFill>
                <a:latin typeface="Verdana"/>
              </a:rPr>
              <a:t>prolactin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000" spc="-1" strike="noStrike">
                <a:solidFill>
                  <a:srgbClr val="000000"/>
                </a:solidFill>
                <a:latin typeface="Verdana"/>
              </a:rPr>
              <a:t>Lactogeneza III (din Z9 până la involuție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vi-VN" sz="2000" spc="-1" strike="noStrike">
                <a:solidFill>
                  <a:srgbClr val="000000"/>
                </a:solidFill>
                <a:latin typeface="Verdana"/>
              </a:rPr>
              <a:t>ste faza de menținere a lactație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0922-519B-44FE-A7DA-A48E6A139E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4265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Verdana"/>
              </a:rPr>
              <a:t>GLANDA MAMARĂ ŞI REGLAREA SECREŢIEI LACTAT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Volumul secreţiei lactate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Ziua 1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0,5 m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Ziua 5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500 m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Luna 1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650 m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Luna 3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750 m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Luna 6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600 m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!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Fără stimulare, secreţia lactată încetează în 1-2 zil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BBCE-70BB-46C5-B088-21D537560F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566280" y="17334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Noţiuni introductiv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Glanda mamară şi reglarea secreţiei lactat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ompoziţia laptelui de mam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Particularităţi nutriţionale ale femeii care alăpteaz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Impactul alăptării asupra sănătăţii copilulu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Impactul alăptării asupra sănătăţii femei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E1BF-96CB-4F37-BEE0-BBA3AB2E77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COMPOZIŢIA LAPTELUI MATER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66640" y="173340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Foarte complex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Fază apoasă cu solviţi (87%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rotein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Emulsii lipidic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Globule lipidice cu membran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Celule vii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etc.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Compoziţie adecvată chiar în caz de aport alimentar matern inadecvat (excepţie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caren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ţele alimentare persistente)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!!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6451-A319-46DE-9C5B-F3F2C74E57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COMPOZIŢIA LAPTELUI MATER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Protein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-lactalbumină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-lactoglobulină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Cazein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Citokin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Enzim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Factori de creşte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Hormon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Lactoferină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Lizozim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IgA secretorie/alte Ig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C898-DDE0-486C-A10A-AFC71F127B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COMPOZIŢIA LAPTELUI MATER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Compuşi azotaţi non-proteic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Creatină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Creatinină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Glucozamină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Acizi nucleic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Nucleot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Poliamin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Ure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Acid uric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5E5B-3CFD-40E5-899D-0DF71DD580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COMPOZIŢIA LAPTELUI MATER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Carbohidraţ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Lactoză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Oligozahar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Glicopept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lu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coză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Lipid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Triglicer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Vitamine liposolubil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Carotenoiz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Fosfolip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Prostaglandin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Sterol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3A0C-E105-400B-B3DD-97ECDE7B08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COMPOZIŢIA LAPTELUI MATER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566280" y="1825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7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Vitamine hidrosolubil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7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Biotină (B7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7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Folat (B9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7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Niacină (B3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7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Acid pantotenic (B5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7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Riboflavină (B2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7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Tiamină (B1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7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Cobalamină (B12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7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Piridoxină (B6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7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Ac. ascorbic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7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Colină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7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Inozitol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114A-E2C1-4E0C-B1C0-7FBB12449B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COMPOZIŢIA LAPTELUI MATER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Minerale şi ion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Bicarbon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Calciu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Cloru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Citr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Magneziu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Fosf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Potasiu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Sodiu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Sulfaţ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0652-7EE3-41FA-84C7-03D41B29AD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COMPOZIŢIA LAPTELUI MATER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566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Oligoelement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Crom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Cobal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Cupru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Fluor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Io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Fier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Mangan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Molibden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Nichel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Seleniu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Zinc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51B5-7413-4F3D-93F6-0FB90BF554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566280" y="17334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Noţiuni introductiv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Glanda mamară şi reglarea secreţiei lactat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ompoziţia laptelui de mam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Particularităţi nutriţionale ale femeii care alăpteaz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Impactul alăptării asupra sănătăţii copilulu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Impactul alăptării asupra sănătăţii femei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FE1E-ECF4-4A39-94DE-E222326609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COMPOZIŢIA LAPTELUI MATER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7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Celule vi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Epitelial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Limfocit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Macrofag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Neutrofil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0426-082F-4173-BD21-568E81FFAA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COMPOZIŢIA LAPTELUI MATER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566640" y="1752480"/>
          <a:ext cx="8001000" cy="4303800"/>
        </p:xfrm>
        <a:graphic>
          <a:graphicData uri="http://schemas.openxmlformats.org/drawingml/2006/table">
            <a:tbl>
              <a:tblPr/>
              <a:tblGrid>
                <a:gridCol w="3791160"/>
                <a:gridCol w="2104920"/>
                <a:gridCol w="210492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tituent (/litr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ost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pte matur (ziua 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ergie (kc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3-7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bohidraţ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ctoză 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ucoză 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gozaharide 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-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zot total 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zot non-proteic 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zot proteic 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pide totale 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igliceride (% din lipid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esterol (% din lipid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sfolipide (% din lipid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-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7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-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-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-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27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5A21-E469-43FE-A47E-98199F9CE7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Rectangle 1"/>
          <p:cNvSpPr/>
          <p:nvPr/>
        </p:nvSpPr>
        <p:spPr>
          <a:xfrm>
            <a:off x="574560" y="2781360"/>
            <a:ext cx="7959960" cy="1152360"/>
          </a:xfrm>
          <a:prstGeom prst="rect">
            <a:avLst/>
          </a:pr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Rectangle 6"/>
          <p:cNvSpPr/>
          <p:nvPr/>
        </p:nvSpPr>
        <p:spPr>
          <a:xfrm>
            <a:off x="573120" y="4869000"/>
            <a:ext cx="7959600" cy="1152360"/>
          </a:xfrm>
          <a:prstGeom prst="rect">
            <a:avLst/>
          </a:pr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COMPOZIŢIA LAPTELUI MATER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566640" y="1752480"/>
          <a:ext cx="8001000" cy="4319640"/>
        </p:xfrm>
        <a:graphic>
          <a:graphicData uri="http://schemas.openxmlformats.org/drawingml/2006/table">
            <a:tbl>
              <a:tblPr/>
              <a:tblGrid>
                <a:gridCol w="3791160"/>
                <a:gridCol w="2104920"/>
                <a:gridCol w="210492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tituent (/litr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ost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pte matur (ziua 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79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eine totale 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zeină 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β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cazeină 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κ-cazeină 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α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actalbumină 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ctoferină 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umine serice 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 serică 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 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 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63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499C-9959-4A86-A5D4-86E4FB7B59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574560" y="2421000"/>
            <a:ext cx="7959960" cy="431640"/>
          </a:xfrm>
          <a:prstGeom prst="rect">
            <a:avLst/>
          </a:pr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COMPOZIŢIA LAPTELUI MATER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566640" y="1752480"/>
          <a:ext cx="8001000" cy="4353120"/>
        </p:xfrm>
        <a:graphic>
          <a:graphicData uri="http://schemas.openxmlformats.org/drawingml/2006/table">
            <a:tbl>
              <a:tblPr/>
              <a:tblGrid>
                <a:gridCol w="3791160"/>
                <a:gridCol w="2104920"/>
                <a:gridCol w="2104920"/>
              </a:tblGrid>
              <a:tr h="530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titu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ost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pte matur (ziua 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822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izi graşi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saturaţ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12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14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16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18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onesaturaţ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18:1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ω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nesaturaţ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ω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18:3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ω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22:5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ω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22:6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ω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ω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18:2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ω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20:4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ω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22:4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ω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-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-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63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DEE1-CEF9-4FEF-AECA-4A9DADE830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COMPOZIŢIA LAPTELUI MATER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566640" y="1752480"/>
          <a:ext cx="8001000" cy="4334040"/>
        </p:xfrm>
        <a:graphic>
          <a:graphicData uri="http://schemas.openxmlformats.org/drawingml/2006/table">
            <a:tbl>
              <a:tblPr/>
              <a:tblGrid>
                <a:gridCol w="3791160"/>
                <a:gridCol w="2104920"/>
                <a:gridCol w="210492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tituent (/litr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ost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pte matur (ziua 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339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amine hidrosolu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amina C (m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amina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boflavina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acina (m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amina B6 (m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lat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amina B12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id pantotenic (m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tină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-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9-0,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-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462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amine liposolu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amina A (m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otenoizi (m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amina K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amina D (U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amina E (m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3-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-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3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E5D6-F1F4-4A12-BCA2-870843E994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COMPOZIŢIA LAPTELUI MATER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566640" y="1752480"/>
          <a:ext cx="8001000" cy="4238640"/>
        </p:xfrm>
        <a:graphic>
          <a:graphicData uri="http://schemas.openxmlformats.org/drawingml/2006/table">
            <a:tbl>
              <a:tblPr/>
              <a:tblGrid>
                <a:gridCol w="3791160"/>
                <a:gridCol w="2104920"/>
                <a:gridCol w="2104920"/>
              </a:tblGrid>
              <a:tr h="557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tituent (/litr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ost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pte matur (ziua 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763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roele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lciu (m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gneziu (m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sfor (m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diu (m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tasiu (m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r (m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-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-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-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-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-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-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-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-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-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-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-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99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roele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er (m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inc (m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pru (m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gan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leniu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od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uor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-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3-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-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-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4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22D7-B4EF-4A98-9A23-428A7A1063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MACRONUTRIENŢI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79280" y="1700280"/>
            <a:ext cx="8856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 u="sng">
                <a:solidFill>
                  <a:srgbClr val="990000"/>
                </a:solidFill>
                <a:uFillTx/>
                <a:latin typeface="Verdana"/>
              </a:rPr>
              <a:t>Proteine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 (% mic faţă de alte specii)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- uşor digerabile şi asimilabil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Factori de protecţie (Ig,lizozim, lactoferină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Transportori de vitamine (D, B12, folat) şi hormoni (tiroxină, corticosteroizi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Enzime (amilază, lipază stimulată de săruri biliare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lte (insulină, factor de creştere epidermală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AD16-CF9B-4F1E-A939-1087E2A937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MACRONUTRIENŢI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566280" y="1928520"/>
            <a:ext cx="8363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990000"/>
                </a:solidFill>
                <a:latin typeface="Verdana"/>
              </a:rPr>
              <a:t>Azotul non-proteic 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(200 compuşi)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A (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  <a:ea typeface="Arial"/>
              </a:rPr>
              <a:t>± esenţiali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arnitin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Taurin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cizi nucleic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Nucleotid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Poliamine etc.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4BFB-C637-4A8D-BF2B-01796A3AE2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MACRONUTRIENŢI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566280" y="1661760"/>
            <a:ext cx="8363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990000"/>
                </a:solidFill>
                <a:latin typeface="Verdana"/>
              </a:rPr>
              <a:t>Lipidele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Sursa majoră de energie (45-55%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Variabile, în funcţie de lipidele circulante matern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AG esenţiali (linoleic,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-linolenic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PUFA cu lanţ lung (arahidonic, DHA) – prezenţi doar în laptele de mam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Lipaze: linguală, gastrică, pancreatic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(activată de sărurile biliare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4E3B-CA89-47FC-A418-7B90AFFF1A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MACRONUTRIENŢI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990000"/>
                </a:solidFill>
                <a:latin typeface="Verdana"/>
              </a:rPr>
              <a:t>Carbohidraţi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Lactoza –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majoritară, creşte în perioada precoce a lactaţie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Glucoza –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cantităţi mic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Glicolipide, glicoproteine, oligozaharid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Amilaza din lapte ajută la digestia carbohidraţilor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295D-1883-4292-9679-1A189A7C4B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66280" y="17334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Noţiuni introductiv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Glanda mamară şi reglarea secreţiei lactat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Compoziţia laptelui de mam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Particularităţi nutriţionale ale femeii care alăpteaz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Impactul alăptării asupra sănătăţii copilulu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Impactul alăptării asupra sănătăţii femei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DC9D-FBCD-443A-823A-5AC466B236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MICRONUTRIENŢI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990000"/>
                </a:solidFill>
                <a:latin typeface="Verdana"/>
              </a:rPr>
              <a:t>Mineralele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 din lapte NU corelează cu concentraţia mineralelor la mamă (excepţie seleniul, iodul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990000"/>
                </a:solidFill>
                <a:latin typeface="Verdana"/>
              </a:rPr>
              <a:t>Vitaminele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 din lapte corelează cu statusul vitaminic la mam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75E3-3405-4DE1-A6FF-568F8E402C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MICRONUTRIENŢI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990000"/>
                </a:solidFill>
                <a:latin typeface="Verdana"/>
              </a:rPr>
              <a:t>   </a:t>
            </a:r>
            <a:r>
              <a:rPr b="1" lang="ro-RO" sz="3000" spc="-1" strike="noStrike">
                <a:solidFill>
                  <a:srgbClr val="990000"/>
                </a:solidFill>
                <a:latin typeface="Verdana"/>
              </a:rPr>
              <a:t>Vitaminele liposolubile şi carotenoizii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 şi 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-caroten, luteină, criptoxantină, licopen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Vitamina </a:t>
            </a:r>
            <a:r>
              <a:rPr b="1" lang="ro-RO" sz="2600" spc="-1" strike="noStrike">
                <a:solidFill>
                  <a:srgbClr val="990000"/>
                </a:solidFill>
                <a:latin typeface="Verdana"/>
              </a:rPr>
              <a:t>A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 – corelată cu aportu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Vitamina </a:t>
            </a:r>
            <a:r>
              <a:rPr b="1" lang="ro-RO" sz="2600" spc="-1" strike="noStrike">
                <a:solidFill>
                  <a:srgbClr val="990000"/>
                </a:solidFill>
                <a:latin typeface="Verdana"/>
              </a:rPr>
              <a:t>D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 – corelată cu statusul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(laptele are puţină vitamină D - dar conține forma hidrosolubilă a acesteia (sulfat) + prezenţa lactozei îi favorizează absorbţia; </a:t>
            </a:r>
            <a:r>
              <a:rPr b="0" lang="ro-RO" sz="2600" spc="-1" strike="noStrike">
                <a:solidFill>
                  <a:srgbClr val="ff0000"/>
                </a:solidFill>
                <a:latin typeface="Verdana"/>
              </a:rPr>
              <a:t>mai prudent este a se suplimenta cu 200 UI/zi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C02E-D021-428A-B970-A2C9A196EE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MICRONUTRIENŢI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Vitamina</a:t>
            </a:r>
            <a:r>
              <a:rPr b="1" lang="ro-RO" sz="3000" spc="-1" strike="noStrike">
                <a:solidFill>
                  <a:srgbClr val="990000"/>
                </a:solidFill>
                <a:latin typeface="Verdana"/>
              </a:rPr>
              <a:t> K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epozite sărace la nou-născut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 u="sng">
                <a:solidFill>
                  <a:srgbClr val="000000"/>
                </a:solidFill>
                <a:uFillTx/>
                <a:latin typeface="Verdana"/>
              </a:rPr>
              <a:t>nu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corelează cu aportul matern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uplimentarea nou-născutului (mamei?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Vitamina </a:t>
            </a:r>
            <a:r>
              <a:rPr b="1" lang="ro-RO" sz="3000" spc="-1" strike="noStrike">
                <a:solidFill>
                  <a:srgbClr val="990000"/>
                </a:solidFill>
                <a:latin typeface="Verdana"/>
              </a:rPr>
              <a:t>E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-tocoferolul 83%; 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</a:rPr>
              <a:t>γ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 – restul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concentrația crește prin suplimentarea cu doze mar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C0E4-D63D-4AA8-8FB1-67BD33A76F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MICRONUTRIENŢI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566640" y="1752480"/>
            <a:ext cx="8220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990000"/>
                </a:solidFill>
                <a:latin typeface="Verdana"/>
              </a:rPr>
              <a:t>Vitaminele hidrosolubile 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(C, B1, B2, niacina, B6, B12, folat, biotină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Concentraţii dependente de dieta matern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eficite de B12 la copii din mame vegetarien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Folatul este folosit de glanda mamară </a:t>
            </a:r>
            <a:r>
              <a:rPr b="0" lang="ro-RO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depozitele de folat scad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DDDA-73D8-4013-A116-6D32D7FA32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MICRONUTRIENŢI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566280" y="1825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990000"/>
                </a:solidFill>
                <a:latin typeface="Verdana"/>
              </a:rPr>
              <a:t>Macroelemente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(sodiu, potasiu, calciu, fosfor, magneziu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990000"/>
                </a:solidFill>
                <a:latin typeface="Verdana"/>
              </a:rPr>
              <a:t>Microelemente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 (fier, cupru, zinc, mangan, seleniu, iod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Nu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depind de aportul/statusul mater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Verdana"/>
              </a:rPr>
              <a:t>Excepţie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: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seleniul, iodul (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suplimentare cu iod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Fier, zinc și cupru: cantități mici în laptele matern, dar cu biodisponibilitate crescut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960C-5E97-4A93-B333-B0CFE949A8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FACTORII BIOACTIV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990000"/>
                </a:solidFill>
                <a:latin typeface="Verdana"/>
              </a:rPr>
              <a:t>2 categorii de acţiuni</a:t>
            </a:r>
            <a:r>
              <a:rPr b="1" lang="en-US" sz="3000" spc="-1" strike="noStrike">
                <a:solidFill>
                  <a:srgbClr val="990000"/>
                </a:solidFill>
                <a:latin typeface="Verdana"/>
              </a:rPr>
              <a:t>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Protejează împotriva bolilor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cţiune directă pe microorganism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Modulează procesele imune şi inflamaţi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Stimulează şi reglează creşterea, dezvoltarea şi maturarea intestinului, sistemului imun şi sistemelor neuroendocrin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9AD6-190D-490A-AF6A-598CE561C9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FACTORII BIOACTIV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566640" y="1752480"/>
          <a:ext cx="8001000" cy="4486320"/>
        </p:xfrm>
        <a:graphic>
          <a:graphicData uri="http://schemas.openxmlformats.org/drawingml/2006/table">
            <a:tbl>
              <a:tblPr/>
              <a:tblGrid>
                <a:gridCol w="3718080"/>
                <a:gridCol w="4282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Factor bioact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ncţie posibil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eine (non-enzimati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ctofe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zozim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κ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caze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tokine (IL-10, TNF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α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FN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γ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et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ecţie imun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ibacteriană, antivirală, imunomodulatoare, antiinflamato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ibacteriană, imunomodulato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ibacterian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ulează maturarea şi funcţiile sistemului ner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bohidraţ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gozaha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icoconjugaţ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ibacteriană, antiviral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ibacterian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ibacteriană, antivirală, antiprotozo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A305-EFEA-4F65-994A-73E32F3F7F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FACTORII BIOACTIV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566640" y="1752480"/>
          <a:ext cx="8001000" cy="4386240"/>
        </p:xfrm>
        <a:graphic>
          <a:graphicData uri="http://schemas.openxmlformats.org/drawingml/2006/table">
            <a:tbl>
              <a:tblPr/>
              <a:tblGrid>
                <a:gridCol w="3291120"/>
                <a:gridCol w="4709880"/>
              </a:tblGrid>
              <a:tr h="35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Factor bioact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ncţie posibil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iinflamato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iinflamato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iinflamato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cleot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turarea LT, activitatea NK, secreţie de anticorpi ca răspuns la vaccinu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z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paza dependentă 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ărurile bili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tala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utation peroxida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erea de AG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iinflamato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iinflamato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ienz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α</a:t>
                      </a:r>
                      <a:r>
                        <a:rPr b="0" lang="el-GR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antitrips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α</a:t>
                      </a:r>
                      <a:r>
                        <a:rPr b="0" lang="el-GR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antichimotrips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hibarea proteazelor inflamator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hibarea proteazelor inflamator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8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2339-1BC2-4995-8A0A-C85E2E5307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FACTORII BIOACTIV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539640" y="1628640"/>
          <a:ext cx="8001000" cy="4629240"/>
        </p:xfrm>
        <a:graphic>
          <a:graphicData uri="http://schemas.openxmlformats.org/drawingml/2006/table">
            <a:tbl>
              <a:tblPr/>
              <a:tblGrid>
                <a:gridCol w="2862360"/>
                <a:gridCol w="5138640"/>
              </a:tblGrid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Factor bioact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ncţie posibil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stagland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toprotecţie intestinal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mente figurate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f, PMN, L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ibacteriană, producerea de limfokine/citokine, potenţarea altor agenţi protectori, modularea funcţiilor imu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stanţe legate de creştere-dezvolt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itropoetin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ulin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lactin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roizi C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GF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F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mularea eritropoez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fecte glicemice în perioada neonatal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larea dezvoltării neuroendocrine, reproductive şi a sistemului im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mularea maturării organ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larea secreţiei T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larea secreţiei T3, T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mularea creşterii tubului digest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mularea creşterii tubului digestiv şi posibil a creşterii gener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1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24E2-F74C-4C9B-A494-64DAEE050E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566280" y="17334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Noţiuni introductiv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Glanda mamară şi reglarea secreţiei lactat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Compoziţia laptelui de mam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Particularităţi nutriţionale ale femeii care alăpteaz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Impactul alăptării asupra sănătăţii copilulu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Impactul alăptării asupra sănătăţii femei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FC92-8C21-4234-BC33-3CFF436BC6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OŢIUNI INTRODUCTIV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566280" y="15714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Laptele matern 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– aliment complex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Macronutrienţ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Micronutrienţ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lte: agenţi antiinflamatori,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Ig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, agenţi antimicrobieni, antioxidanţi, oligozaharide, citokine, hormoni, factori de creşter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Durata alăptări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Exclusivă: 4-6 lun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+alimente complementare: 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1-2 an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7DD4-D756-422F-A99A-8E3D60301F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ENERGETIC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566280" y="1752480"/>
            <a:ext cx="8363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roduc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a de lapte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randament 80%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(100 ml lapte necesită ≈85 kcal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Producţia de lapte în primele 6 luni: 750 ml/zi (550-1200 ml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Producţia de lapte în următoarele 6 luni: 600 ml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C162-1213-4789-ACDF-7CD0E132DB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ENERGETIC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Surplusul energetic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990000"/>
                </a:solidFill>
                <a:latin typeface="Verdana"/>
              </a:rPr>
              <a:t>+400-600 kcal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Mai puţin la obez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Scădere ponderală: maximum 0,5 kg/ săpt.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De obicei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&gt;1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800 kcal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3079-A767-46E0-B757-9986034BE3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APĂ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2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DA = 3,8 l/z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Mai mult în anotimpul cald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47AA-1F88-4061-B741-41C427A4A2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PROTEIC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DA conform OMS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Primele 6 luni: </a:t>
            </a:r>
            <a:r>
              <a:rPr b="1" lang="ro-RO" sz="2600" spc="-1" strike="noStrike">
                <a:solidFill>
                  <a:srgbClr val="990000"/>
                </a:solidFill>
                <a:latin typeface="Verdana"/>
              </a:rPr>
              <a:t>+19 g/z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i (faţă de necesarul de dinainte de sarcină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După 6 luni: </a:t>
            </a:r>
            <a:r>
              <a:rPr b="1" lang="ro-RO" sz="2600" spc="-1" strike="noStrike">
                <a:solidFill>
                  <a:srgbClr val="990000"/>
                </a:solidFill>
                <a:latin typeface="Verdana"/>
              </a:rPr>
              <a:t>+12 g/zi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(faţă de necesarul de dinainte de sarcină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Randament 80% al utilizării proteinelor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76CD-5387-40FD-B901-8129C82D03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LIPIDIC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990000"/>
                </a:solidFill>
                <a:latin typeface="Verdana"/>
              </a:rPr>
              <a:t>20-35% din aportul calo</a:t>
            </a: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ric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 (nu sunt recomandări ferme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Acid linoleic: 13 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Acid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-linolenic: 1,3 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PUFA importanţi pentru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ezvoltarea retine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ezvoltarea creierulu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B49D-07B9-4DC0-8E5F-D151B0CF09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0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3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6" dur="5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9" dur="5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GLUCIDIC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În funcție de necesarul caloric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Minim 160-220 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6115-810A-4EFB-AB4B-6CF91181B7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566640" y="1752480"/>
          <a:ext cx="8001000" cy="40291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tri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9faebd"/>
                      </a:solidFill>
                    </a:lnL>
                    <a:lnR>
                      <a:noFill/>
                    </a:lnR>
                    <a:lnT w="4320">
                      <a:solidFill>
                        <a:srgbClr val="9faebd"/>
                      </a:solidFill>
                    </a:lnT>
                    <a:lnB w="4320">
                      <a:solidFill>
                        <a:srgbClr val="9faebd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9faebd"/>
                      </a:solidFill>
                    </a:lnR>
                    <a:lnT w="4320">
                      <a:solidFill>
                        <a:srgbClr val="9faebd"/>
                      </a:solidFill>
                    </a:lnT>
                    <a:lnB w="4320">
                      <a:solidFill>
                        <a:srgbClr val="9faebd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amina A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48596a"/>
                          </a:solidFill>
                          <a:latin typeface="Verdana"/>
                        </a:rPr>
                        <a:t>Vitamina D (</a:t>
                      </a:r>
                      <a:r>
                        <a:rPr b="0" lang="el-GR" sz="1800" spc="-1" strike="noStrike">
                          <a:solidFill>
                            <a:srgbClr val="48596a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48596a"/>
                          </a:solidFill>
                          <a:latin typeface="Verdana"/>
                        </a:rPr>
                        <a:t>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amina E (m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48596a"/>
                          </a:solidFill>
                          <a:latin typeface="Verdana"/>
                        </a:rPr>
                        <a:t>Vitamina K (</a:t>
                      </a:r>
                      <a:r>
                        <a:rPr b="0" lang="el-GR" sz="1800" spc="-1" strike="noStrike">
                          <a:solidFill>
                            <a:srgbClr val="48596a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48596a"/>
                          </a:solidFill>
                          <a:latin typeface="Verdana"/>
                        </a:rPr>
                        <a:t>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amina (m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boflavina (m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acina (m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idul pantotenic (m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iridoxina (m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tina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latul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balamina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amina C (m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9faebd"/>
                      </a:solidFill>
                    </a:lnL>
                    <a:lnR>
                      <a:noFill/>
                    </a:lnR>
                    <a:lnT w="4320">
                      <a:solidFill>
                        <a:srgbClr val="9faebd"/>
                      </a:solidFill>
                    </a:lnT>
                    <a:lnB w="4320">
                      <a:solidFill>
                        <a:srgbClr val="9fae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00 (+8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(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 (+2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 (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4 (+2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6 (+4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 (+2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(+4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(+5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 (+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(+2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8 (+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 (+6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9faebd"/>
                      </a:solidFill>
                    </a:lnR>
                    <a:lnT w="4320">
                      <a:solidFill>
                        <a:srgbClr val="9faebd"/>
                      </a:solidFill>
                    </a:lnT>
                    <a:lnB w="4320">
                      <a:solidFill>
                        <a:srgbClr val="9fae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CEFA-6E4C-4E28-9C37-D1123210FD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Box 5"/>
          <p:cNvSpPr/>
          <p:nvPr/>
        </p:nvSpPr>
        <p:spPr>
          <a:xfrm>
            <a:off x="500040" y="5786280"/>
            <a:ext cx="69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*=în paranteze suplimentarea faţă de negravi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INERAL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566640" y="1752480"/>
          <a:ext cx="8001000" cy="347976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tri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9faebd"/>
                      </a:solidFill>
                    </a:lnL>
                    <a:lnR>
                      <a:noFill/>
                    </a:lnR>
                    <a:lnT w="4320">
                      <a:solidFill>
                        <a:srgbClr val="9faebd"/>
                      </a:solidFill>
                    </a:lnT>
                    <a:lnB w="4320">
                      <a:solidFill>
                        <a:srgbClr val="9faebd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A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9faebd"/>
                      </a:solidFill>
                    </a:lnR>
                    <a:lnT w="4320">
                      <a:solidFill>
                        <a:srgbClr val="9faebd"/>
                      </a:solidFill>
                    </a:lnT>
                    <a:lnB w="4320">
                      <a:solidFill>
                        <a:srgbClr val="9faebd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3109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tasiu (m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48596a"/>
                          </a:solidFill>
                          <a:latin typeface="Verdana"/>
                        </a:rPr>
                        <a:t>Calciu (m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er (m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od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inc (m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pru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m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leniu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gan (m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ibden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ă (litri/z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9faebd"/>
                      </a:solidFill>
                    </a:lnL>
                    <a:lnR>
                      <a:noFill/>
                    </a:lnR>
                    <a:lnT w="4320">
                      <a:solidFill>
                        <a:srgbClr val="9faebd"/>
                      </a:solidFill>
                    </a:lnT>
                    <a:lnB w="4320">
                      <a:solidFill>
                        <a:srgbClr val="9fae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00 (+4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 (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(-5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0 (+9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(+5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00 (+4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(+8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 (+2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6 (+4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 (+1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8 (+4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9faebd"/>
                      </a:solidFill>
                    </a:lnR>
                    <a:lnT w="4320">
                      <a:solidFill>
                        <a:srgbClr val="9faebd"/>
                      </a:solidFill>
                    </a:lnT>
                    <a:lnB w="4320">
                      <a:solidFill>
                        <a:srgbClr val="9fae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9DCC-63D6-40E9-A00B-9AB326C978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500040" y="5786280"/>
            <a:ext cx="69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*=în paranteze suplimentarea faţă de negravi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EXERCIŢIUL FIZIC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Nu influenţează evoluţia alăptări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7127-C1A2-4920-880D-E781B3E785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566280" y="17334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Noţiuni introductiv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Glanda mamară şi reglarea secreţiei lactat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Compoziţia laptelui de mam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Particularităţi nutriţionale ale femeii care alăpteaz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Impactul alăptării asupra sănătăţii copilulu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Impactul alăptării asupra sănătăţii femei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F72F-FF0D-4742-9B17-02652DCB5A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PREVALENŢA ALĂPTĂRII 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XCLUSIVE 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LA SÂN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 (4 luni)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566280" y="1844280"/>
            <a:ext cx="8001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sia de Est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57%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sia de Sud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49%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Orientul Mijlociu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45%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merica Latină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38%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frica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33%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SUA (caucazieni)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20%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Europa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17%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E059-4ED8-4BCD-B1B9-48ADAD7127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STATUSUL NUTRIŢIONAL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566280" y="16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Laptele matern – nutrienţi uşor digerabili, în proporţii adecvat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c00000"/>
                </a:solidFill>
                <a:latin typeface="Verdana"/>
              </a:rPr>
              <a:t>Alimentaţie exclusiv la sân: 6 lun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+ vit. 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+ fier la copii cu greutate mică la naştere (depozite insuficiente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Asigură un ritm de creştere adecvat (deşi mai lent decât în caz de lapte artificial)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DC53-344B-4BB2-BBED-D8D8B0AA6F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STATUSUL NUTRIŢIONAL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684360" y="1915920"/>
            <a:ext cx="8362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c00000"/>
                </a:solidFill>
                <a:latin typeface="Verdana"/>
              </a:rPr>
              <a:t>Alimentaţie complementară </a:t>
            </a:r>
            <a:r>
              <a:rPr b="1" lang="en-US" sz="2600" spc="-1" strike="noStrike">
                <a:solidFill>
                  <a:srgbClr val="c00000"/>
                </a:solidFill>
                <a:latin typeface="Verdana"/>
              </a:rPr>
              <a:t>&gt;</a:t>
            </a:r>
            <a:r>
              <a:rPr b="1" lang="ro-RO" sz="2600" spc="-1" strike="noStrike">
                <a:solidFill>
                  <a:srgbClr val="c00000"/>
                </a:solidFill>
                <a:latin typeface="Verdana"/>
              </a:rPr>
              <a:t>6 lun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&gt;6 luni laptele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matern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sigur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doar par</a:t>
            </a:r>
            <a:r>
              <a:rPr b="1" lang="ro-RO" sz="2600" spc="-1" strike="noStrike" u="sng">
                <a:solidFill>
                  <a:srgbClr val="000000"/>
                </a:solidFill>
                <a:uFillTx/>
                <a:latin typeface="Verdana"/>
              </a:rPr>
              <a:t>ţ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ial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nevoile nutriţionale ale copilului – risc de anemie feriprivă (în primul rând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DD5E-4324-47C9-A381-FAF77CD6CE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STATUSUL NUTRIŢIONAL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566280" y="16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c00000"/>
                </a:solidFill>
                <a:latin typeface="Verdana"/>
              </a:rPr>
              <a:t>&gt;</a:t>
            </a:r>
            <a:r>
              <a:rPr b="1" lang="ro-RO" sz="2600" spc="-1" strike="noStrike">
                <a:solidFill>
                  <a:srgbClr val="c00000"/>
                </a:solidFill>
                <a:latin typeface="Verdana"/>
              </a:rPr>
              <a:t>6 luni, laptele de mamă asigură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56-88% nutrienţii esenţial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Parţial necesarul energetic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71% (6-8 luni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45% (9-11 luni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29% (12-23 luni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Vit. A, B12, folat, seleniu: </a:t>
            </a:r>
            <a:r>
              <a:rPr b="1" lang="ro-RO" sz="2600" spc="-1" strike="noStrike">
                <a:solidFill>
                  <a:srgbClr val="000000"/>
                </a:solidFill>
                <a:latin typeface="Calibri"/>
              </a:rPr>
              <a:t>≈100%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2A8F-9826-45A6-B3EF-137D1A04F0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STATUSUL NUTRIŢIONAL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566280" y="16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c00000"/>
                </a:solidFill>
                <a:latin typeface="Verdana"/>
              </a:rPr>
              <a:t>&gt;</a:t>
            </a:r>
            <a:r>
              <a:rPr b="1" lang="ro-RO" sz="2600" spc="-1" strike="noStrike">
                <a:solidFill>
                  <a:srgbClr val="c00000"/>
                </a:solidFill>
                <a:latin typeface="Verdana"/>
              </a:rPr>
              <a:t>6 luni, laptele de mamă asigură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Iod: 97%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Vit. C: 84%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Vit. D: 4%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Fier: 3%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Nutrienţii esenţiali: 12-44%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4A9C-A05E-4193-8444-14FA0789CF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DEZVOLTAREA CREIERULU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566280" y="16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Metaanalize: laptele de mamă stimulează inteligenţa (IQ) – vicii de design al studiilor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Studii recente sugerează un </a:t>
            </a:r>
            <a:r>
              <a:rPr b="1" lang="ro-RO" sz="2600" spc="-1" strike="noStrike">
                <a:solidFill>
                  <a:srgbClr val="c00000"/>
                </a:solidFill>
                <a:latin typeface="Verdana"/>
              </a:rPr>
              <a:t>plus al IQ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pentru alimentaţia exclusivă la sân de ≈5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2D34-E8FF-4EE1-8782-588105BA67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DEZVOLTAREA CREIERULU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66280" y="1753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Explicaţii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3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95959"/>
                </a:solidFill>
                <a:latin typeface="Verdana"/>
              </a:rPr>
              <a:t>AG cu lanţ lung </a:t>
            </a: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(DHA, acidul arahidonic), prezenţi doar în laptele de mamă (se pot sintetiza din precursori, nu și la prematuri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3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95959"/>
                </a:solidFill>
                <a:latin typeface="Verdana"/>
              </a:rPr>
              <a:t>Oligozaharide, factori de creştere, hormon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3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677B-5767-4244-96BE-02117A8C3F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SUPRAPONDEREA ŞI OBEZITATEA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566280" y="2060640"/>
            <a:ext cx="8434440" cy="38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2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isc redu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tivează mecanismele ce reglează aportul energetic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6B8F-A368-4C5E-9BA9-5D64F0CF9C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FECŢIA HIV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566280" y="1661760"/>
            <a:ext cx="843444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HIV prezent în lapte (ca şi virusurile B şi C, CMV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Încărcătura virală în lapte 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în caz de infectare în ultima perioadă a sarcinii sau lactaţi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Contaminarea copilului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12-14% - în caz de preexistenţă a infecţie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29% - în caz de infectare în ultima perioadă a sarcinii sau lactaţi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35ED-9A77-428D-AF21-DC7055AE91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FECŢIA HIV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566640" y="162864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Riscul infecţiei HIV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este maxim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la copii alimentați parțial la sân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Prevenirea infecției HIV la copil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Înlocuirea laptelui de mamă cu formule (unde este posibil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7EE9-6119-42A7-9ADD-163514131D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MORBIDITATE ŞI MORTALITAT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66640" y="1949040"/>
            <a:ext cx="818208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Efecte benefic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 u="sng">
                <a:solidFill>
                  <a:srgbClr val="000000"/>
                </a:solidFill>
                <a:uFillTx/>
                <a:latin typeface="Verdana"/>
              </a:rPr>
              <a:t>Protecţie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 împotriva diverselor boli, infecţii, reacţii alergice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(G-I, respiratorii inferioare, astm, ORL,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± urinare, DZ tip 1, ± botulism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B8A3-F375-4B7D-BCC7-278EC3CEFA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566280" y="17334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Noţiuni introductiv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Glanda mamară şi reglarea secreţiei lactat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Compoziţia laptelui de mam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Particularităţi nutriţionale ale femeii care alăpteaz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Impactul alăptării asupra sănătăţii copilulu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Impactul alăptării asupra sănătăţii femei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61BC-28DC-4025-AB89-21232A346D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MORBIDITATE ŞI MORTALITAT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566280" y="2143080"/>
            <a:ext cx="843444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Efecte protective împotriva infecţiilor digestive şi diaree (componentele bioactive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D172-844B-4AA5-940D-46A92FEBD5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MORBIDITATE ŞI MORTALITAT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66280" y="1733400"/>
            <a:ext cx="8434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Efecte protective împotriva astmului: TGF-1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  <a:ea typeface="Arial"/>
              </a:rPr>
              <a:t>β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Protecţie împotriva unor boli cronice cu patogenie imună: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DZ1, boala celiacă, neoplazii infantile (leucemii, limfoame)?, boli inflamatorii intestinale?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DAD2-A0B7-4F31-A78D-9AFFE3E1E4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566280" y="17334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Noţiuni introductiv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Glanda mamară şi reglarea secreţiei lactat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Compoziţia laptelui de mam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Particularităţi nutriţionale ale femeii care alăpteaz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Impactul alăptării asupra sănătăţii copilulu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Impactul alăptării asupra sănătăţii femei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03F9-A45F-4F54-B5E0-93C17CE003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IMPACTUL LACTAŢIEI ASUPRA MAME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57120" y="1928880"/>
            <a:ext cx="8577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tonusului uterin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hemoragiilor postpartum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incidenţa cancerului de sân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(mai ales premenopauză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incidenţa cancerului de ovar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riscul fracturilor post-menopauză?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41AA-AE3E-4D46-B097-EB9769D8CB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CANCERUL DE SÂ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66280" y="1571400"/>
            <a:ext cx="8363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c00000"/>
                </a:solidFill>
                <a:latin typeface="Verdana"/>
              </a:rPr>
              <a:t>Alăptatul</a:t>
            </a:r>
            <a:r>
              <a:rPr b="1" lang="ro-RO" sz="2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↓</a:t>
            </a:r>
            <a:r>
              <a:rPr b="1" lang="en-US" sz="2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o-RO" sz="2600" spc="-1" strike="noStrike">
                <a:solidFill>
                  <a:srgbClr val="c00000"/>
                </a:solidFill>
                <a:latin typeface="Verdana"/>
              </a:rPr>
              <a:t>riscul cancerului de sân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24% (pre-menopauză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17% (post-menopauză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lăptat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&gt;12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luni vs. 0-6 lun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riscul cancerului de sân cu 28%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Riscul cancerului de sâ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cu 4,3% pt. fiecare an de alăptat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CBEB-3221-41FC-96B1-F8421D95EC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CANCERUL DE SÂ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56628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Mecanisme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Întârzierea ovulaţiei, cu scăderea expunerii la hormoni sexual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Îndepărtarea estrogenilor prin lapt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Modificări ale epiteliului mamar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Producerea de TGF-1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, cu efect de stopare a creşterii în cancerul de sân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CA44-E670-4D99-88F8-F3D9938230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CANCERUL OVARIA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566280" y="17143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c00000"/>
                </a:solidFill>
                <a:latin typeface="Verdana"/>
              </a:rPr>
              <a:t>Alăptatul</a:t>
            </a:r>
            <a:r>
              <a:rPr b="1" lang="ro-RO" sz="2600" spc="-1" strike="noStrike">
                <a:solidFill>
                  <a:srgbClr val="c00000"/>
                </a:solidFill>
                <a:latin typeface="Verdana"/>
              </a:rPr>
              <a:t> versus non-alăptatul </a:t>
            </a:r>
            <a:r>
              <a:rPr b="1" lang="ro-RO" sz="2600" spc="-1" strike="noStrike">
                <a:solidFill>
                  <a:srgbClr val="c00000"/>
                </a:solidFill>
                <a:latin typeface="Arial"/>
                <a:ea typeface="Arial"/>
              </a:rPr>
              <a:t>↓</a:t>
            </a:r>
            <a:r>
              <a:rPr b="1" lang="ro-RO" sz="2600" spc="-1" strike="noStrike">
                <a:solidFill>
                  <a:srgbClr val="c00000"/>
                </a:solidFill>
                <a:latin typeface="Verdana"/>
              </a:rPr>
              <a:t> riscul de cancer ovarian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(aproape toate tipurile histologice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lăptatul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16 luni 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 cu 10-60% riscul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iverselor tipuri histologice de cancer ovarian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xistă şi date ce contrazic cele de mai su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Mecanism posibil: suprimarea ovulaţie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04F9-B33A-4C95-9EFB-40B6167F84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FERTILITATEA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c00000"/>
                </a:solidFill>
                <a:latin typeface="Verdana"/>
              </a:rPr>
              <a:t>Alăptatul </a:t>
            </a:r>
            <a:r>
              <a:rPr b="1" lang="ro-RO" sz="2600" spc="-1" strike="noStrike">
                <a:solidFill>
                  <a:srgbClr val="c00000"/>
                </a:solidFill>
                <a:latin typeface="Arial"/>
                <a:ea typeface="Arial"/>
              </a:rPr>
              <a:t>→</a:t>
            </a:r>
            <a:r>
              <a:rPr b="1" lang="ro-RO" sz="2600" spc="-1" strike="noStrike">
                <a:solidFill>
                  <a:srgbClr val="c00000"/>
                </a:solidFill>
                <a:latin typeface="Verdana"/>
              </a:rPr>
              <a:t> amenoree + infertilitat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Rata sarcinilor prin alăptare exclusivă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1-2% în primele 6 lun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6,5-7,5% în intervalul 6-12 lun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uplimentarea cu lapte artificial sau diversificarea grăbeşte reinstalarea fertilităţi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AA69-1F0D-4C6B-A2F1-08A8EFE878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Glanda mamar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4" name="Content Placeholder 4" descr=""/>
          <p:cNvPicPr/>
          <p:nvPr/>
        </p:nvPicPr>
        <p:blipFill>
          <a:blip r:embed="rId1"/>
          <a:stretch/>
        </p:blipFill>
        <p:spPr>
          <a:xfrm>
            <a:off x="1949400" y="1752480"/>
            <a:ext cx="5235480" cy="4267440"/>
          </a:xfrm>
          <a:prstGeom prst="rect">
            <a:avLst/>
          </a:prstGeom>
          <a:ln w="0">
            <a:noFill/>
          </a:ln>
        </p:spPr>
      </p:pic>
      <p:sp>
        <p:nvSpPr>
          <p:cNvPr id="58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35B4-EC27-4290-8413-9429F0CCD0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552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Verdana"/>
              </a:rPr>
              <a:t>GLANDA MAMARĂ ŞI REGLAREA SECREŢIEI LACTAT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566640" y="1752480"/>
            <a:ext cx="8220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Verdana"/>
              </a:rPr>
              <a:t>La femeia negravid</a:t>
            </a: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anale galactofore ramificat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omplexe alveolare cu epiteliu “dinamic” (ciclu menstrual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În sarcin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Dezvoltarea complexelor alveolare (progesteron, prolactină, lactogeni placentari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A465-BF93-4060-A05B-B29CA6E98C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552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Verdana"/>
              </a:rPr>
              <a:t>GLANDA MAMARĂ ŞI REGLAREA SECREŢIEI LACTAT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BFE3-3E94-4369-B74F-C72C327CF9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1" name="Picture 5" descr=""/>
          <p:cNvPicPr/>
          <p:nvPr/>
        </p:nvPicPr>
        <p:blipFill>
          <a:blip r:embed="rId1"/>
          <a:stretch/>
        </p:blipFill>
        <p:spPr>
          <a:xfrm>
            <a:off x="1476360" y="1701720"/>
            <a:ext cx="6048360" cy="444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00:57Z</dcterms:created>
  <dc:creator>x</dc:creator>
  <dc:description/>
  <dc:language>en-US</dc:language>
  <cp:lastModifiedBy>Teo Sorescu</cp:lastModifiedBy>
  <dcterms:modified xsi:type="dcterms:W3CDTF">2019-12-05T09:13:26Z</dcterms:modified>
  <cp:revision>258</cp:revision>
  <dc:subject/>
  <dc:title>Slide 1</dc:title>
</cp:coreProperties>
</file>