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7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87D7-2105-43FB-A383-999F3768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0948-C53B-4990-859C-3615C77E90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Acestea se gasesc sub forma de precursori: provitamina D2 si D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84F0-461C-4F21-87B1-BDEA5E9428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Limita maxima admisa (U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4A3-7E6A-4817-9429-834C1874D2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Calibri"/>
              </a:rPr>
              <a:t>RAE </a:t>
            </a:r>
            <a:r>
              <a:rPr b="1" lang="it-IT" sz="1200" spc="-1" strike="noStrike">
                <a:solidFill>
                  <a:srgbClr val="ffffff"/>
                </a:solidFill>
                <a:latin typeface="Calibri"/>
              </a:rPr>
              <a:t>(retinol activity equivalent</a:t>
            </a:r>
            <a:r>
              <a:rPr b="1" lang="ro-RO" sz="1200" spc="-1" strike="noStrike">
                <a:solidFill>
                  <a:srgbClr val="ffffff"/>
                </a:solidFill>
                <a:latin typeface="Calibri"/>
              </a:rPr>
              <a:t>= echivalent de activitate de retin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F91A-40CE-4A77-B832-1B1CF51A0B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F413-0868-4F19-AEF3-BDAC75EF10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32E-CB6E-4C0F-8786-C4BDC1D1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5A6-2AB3-4793-97EE-A13322F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998E3-CADD-49FE-90F4-40E400DC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213A0-2402-4125-BBB9-9600F10F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320D0-AC72-4A08-8875-625B4731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5F785-6CAA-4BB7-B1F9-0D47198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E48EB-AF1C-4E06-ADBC-5066840D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B1DD6-4F55-4A07-BB46-F85370D9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11A68-E721-4707-8382-E486182F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3005C-9CA3-49CF-A3A0-AFD17301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1E6A2-5F12-445B-A690-3CC1E22D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35274-EBCF-4478-937C-D2182BE0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497-60FF-4813-AF09-DE94ECAF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269B1-5D8C-4922-9DBC-36E4151D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5F2C3-C275-4741-8CF3-193D82C9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27323-38F3-4EBE-BC1A-DB6EA838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06822-0030-4F71-A5CA-800DDE50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33F87-8BE5-43FA-B95D-971140AC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E679E-FF53-4C44-8F13-A9CB0AF2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901FD-59D1-4310-9DDF-9053A61E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B0ACB-9EB8-47DD-B06D-CA159800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A8A13-5438-4E0C-87FF-8B516E3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7350D-3350-4299-B786-5ACEB989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8F8-99E6-4DA3-AFCF-D9F89B80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72207-ABA5-4138-B519-847BC411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5FD4F-4169-4448-9409-11C9ABCD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26089-7187-4492-BDCE-E3035B64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0A49F-CBAA-4CDE-88B5-03703026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CCFED-6CE4-431C-9AC0-1C99973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0B97B-9270-4CE8-8A29-7FCC2135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35697-FD4C-4598-AD0C-C3CF8DB8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92D48-A781-4AD8-80B7-13F4D9A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EBD41-D899-40AB-A964-B6E18F94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F19AD-84B0-4E87-848A-F7947F2D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5309-51DF-4B6E-9CC9-35DF4102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FDBD6-D254-4B45-B7DE-EC4764E5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F4877-F52C-49D6-92C7-C15E99F9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68C76-8392-49A0-A931-0BF283A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80AC8-E5B5-4083-B595-077A6F21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EE559-8AB4-47C2-AC83-8FD9D4AE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A759B-B775-46AA-9875-169F011C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39C59-49A4-45E9-856F-291DC372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7293C-9C19-4CEF-8CCE-72D2A610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1B944-74E0-4E52-8530-B4F6CE4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A6CBC-E9E3-4A76-9D0C-BBCBE26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7A93-8A2F-4B21-A440-299EDC9C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B1F7C-7ECC-4EB1-9ECD-41AEC901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A892E-85FE-4AAC-83D8-9D30768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5DD90-6F1F-4C6A-8976-58A6BC42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EED0D-AF43-49FC-B53C-EEA5F492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27DAF-B616-4105-A7AC-BE08C427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A50D4-2263-4C8B-95E8-38C22478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8ACA8-A414-4883-BE72-A6DC9502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8DE1F-B2FA-440A-9C6D-BD5DF6EC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18518-66A1-4DD7-92C7-24B5D136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1E291-A6D2-4456-A5FA-843C3420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5179-1534-4960-AF76-78CF0344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24874-BFA8-4B43-B26B-E3E3EBAB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69ACD-65F0-4189-85EA-04F5B588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878A1-5EDE-46D8-A21E-A5D9359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1B9E7-8792-487F-842C-14A21E76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2C07D-3CBE-4F6B-B0F7-93D6845C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23BD1-FA7F-490F-9A4D-EC8C8349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14280-0A36-4519-9CF4-9E87A2B7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1D29-3971-4205-8C0A-D5D1B787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D3E4-DFD5-4990-BBD1-D27ED5FB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B57B-8FC8-44F0-AA1D-9B882E78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D72A-B6AE-4853-A2E5-B83CBD3B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E78-5849-48E9-BB35-E298D243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D8E1-75AC-41ED-87A1-78B08F83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54D1-6FFC-4A25-B387-A6537D2E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F41F-EFCA-4076-81C6-13877D8F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FA5C-01B2-4C2B-9309-B7854ED7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A5C6-8E44-4E12-904E-0E108D1F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B5AE-8EBF-49F7-A83B-B3DE9A17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6816-79C5-4BBF-B19D-730075F5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A8A5-CC87-48A7-8963-2B9D0419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241B-0BA7-441A-B421-A4129472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1716-7377-4FCB-B721-BCB9A62B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FC0-E309-404E-9526-2F3305ED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2E93-D727-47B1-9914-7B4385F7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87BC-464C-4730-8E1B-BB2ED6D0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515A-87BE-42D5-9570-F8FB6F5D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03CB3-3D2A-46E0-BCF1-3C254DB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855E-114D-4F2B-AD90-B988E8D6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9E37-01BC-4653-96CD-B312B3F7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42E8-1183-40FC-8C12-1CCB4D62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25C4-C3E9-4002-AA61-A953CE60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6AA82-7A9E-4155-B1F2-F3743EA0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B85C-A372-450B-B362-FCD1349A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7D6-D9C3-4FC9-9AF2-DE94B128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009C-D354-466C-82A0-324A6F33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9231-77A6-48CB-BACA-ABF6DBF5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5A90-4FC1-4395-910B-D62CAF39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6E5B-ACD1-472C-A10F-E6DE8AD1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ED834-96AD-46D6-8F09-7757493E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017C-315B-473C-AAA0-2D13B0C1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DD1F6-7F5B-471D-86E6-DD5B7CC9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99DA-8D18-47F7-9A56-D7814DA2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712F-2ED0-4D5E-89E7-122DCD70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8ABE9-F9E9-4DE3-B2C4-61B9ADC5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AEE-79F2-4795-8804-B4E8103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932D-245F-4338-8FF9-BE4CA504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F368-13D2-4931-A4EC-5DC44A5F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9CAA-F60B-4850-B2CD-B838D597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C484-C70F-431B-A29E-1BC59FB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41A5-7D69-475B-84BA-EAADA80B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C11B3-26E8-4937-8780-159170B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B94D-EBF5-4C95-9DBF-8FFDBE9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D3E4-E4E1-4528-9C39-540D6E9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30713-8E96-4B16-A823-DE44428D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D3267-F123-48A7-8C1D-F5E3A7EF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6AB-CFC7-4C12-966A-A7B7231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D5AE1-6B86-4AA6-B0A7-0919627F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C997-AEDC-45A2-BB1A-C71E0D0E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4E000-534F-4EFE-A3D2-2286EAEC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4A131-A77B-4ACA-8E4C-E715A223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8B5DF-694B-4029-BF94-4666B90C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A14FC-1F7A-4F75-8DDC-780E122B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17C73-8131-4319-81B0-521B8E8D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1F88A-AF43-4ABA-A2BE-80E5FB4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C994C-F6E6-41BB-93D5-EBB127F7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E8B0-5BF7-45F1-9832-33707C5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C9E-AF6D-40A5-B62F-FC1C7F5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14277-5524-4A80-9FFA-5A512324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C76A2-9391-4B36-9CD3-75F58F1C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F0DE-FE56-45B7-90A8-BB74E9A9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C2853-4A84-459F-8F67-5236691A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2D50E-84CD-4BB5-838C-05C21042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2090A-91C4-4FE9-9988-B0C6A062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366FA-8FCD-4809-BD8E-47653030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02A06-F413-4C9F-A2EC-6F945CD5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FBFC6-4CF3-4B19-B683-D0B4BC05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0CB49-BBA5-4DF4-ACCA-8AF0C52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106-EA49-431F-9D36-468A2DEC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5E68-3435-4F98-9FD3-B0325CA6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5ECE5-912E-4613-9418-1D456B4F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071EA-80B3-4237-BBAD-D4F46940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0E4A1-9D28-48EF-8E9A-71FAB272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C708-E2A7-4057-A8CC-2A0B1BCA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40924-A73C-46B4-8DD6-D72B8819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BBDF-EC4C-4CB2-A555-6DA64B88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B927F-05E6-4B1F-A9AA-0EC4FB46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3441-D15C-4D46-8173-7D49392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C2825-DA29-48CC-B04C-C6C0AAD6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5E3-FC01-478E-85B0-DC3E93F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EDAF1-B0B4-43B3-B858-0394ED03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C4DF-25AB-4ADB-B265-2B30F531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653E0-6B82-4D46-8236-EFD62AE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7035A-AD99-4BBC-B76A-7F9F41D3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41784-3B5D-4FF6-B4A3-4F436FB6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FA710-F149-4A06-99DA-A630B532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6026E-95BB-4C77-A2B8-6047D894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3AE17-D01B-4AA1-B062-C15854B6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2C90E-EE89-408C-8322-9E77BB0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6C0CB-42F8-44F7-9DB9-D0B45F0D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71D3-9532-43F2-93E6-631BF1203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251F-8E6E-4918-BE7B-E5D738A84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11A6-57D2-423C-9A9F-07BB6CD41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54B6-D5B5-40F4-99A9-D48E0B93A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DDFF-1A37-45AE-89DE-41D39C24E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A3DD-CB0E-4DFA-A959-A382BBF8A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8514-6430-44C9-89AA-14C098A11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2A71-7BC4-4634-BAEC-6BB79F6AB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8E54-88B1-4458-82D7-E9DEE088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DB89-E893-4ACD-9F4F-76FAA9BC1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33B-85A1-4AAA-89D2-2044EFD73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3C0C-7F22-4BEB-BA69-C5D0DA730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713040"/>
            <a:ext cx="80038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Verdana"/>
              </a:rPr>
              <a:t>NUTRI</a:t>
            </a:r>
            <a:r>
              <a:rPr b="1" lang="ro-RO" sz="5600" spc="-1" strike="noStrike">
                <a:solidFill>
                  <a:srgbClr val="000000"/>
                </a:solidFill>
                <a:latin typeface="Verdana"/>
              </a:rPr>
              <a:t>ŢIA ÎN SARCINĂ</a:t>
            </a:r>
            <a:endParaRPr b="1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Slide Number Placeholder 2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LIP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85480" y="1571400"/>
            <a:ext cx="8577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Vitamina D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(CALCIFEROL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0918-E3A0-4710-AA0C-C6F41AD63D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nstă dintr-un g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rup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de compu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i liposolubil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Formele relevante p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 organismul uman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vitamina </a:t>
            </a:r>
            <a:r>
              <a:rPr b="1" lang="it-IT" sz="2400" spc="-1" strike="noStrike">
                <a:solidFill>
                  <a:srgbClr val="ff4747"/>
                </a:solidFill>
                <a:latin typeface="Verdana"/>
              </a:rPr>
              <a:t>D2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(ergocalciferolul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Verdana"/>
              </a:rPr>
              <a:t>v</a:t>
            </a:r>
            <a:r>
              <a:rPr b="1" lang="it-IT" sz="2400" spc="-1" strike="noStrike">
                <a:solidFill>
                  <a:srgbClr val="c00000"/>
                </a:solidFill>
                <a:latin typeface="Verdana"/>
              </a:rPr>
              <a:t>itamina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4747"/>
                </a:solidFill>
                <a:latin typeface="Verdana"/>
              </a:rPr>
              <a:t>D3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(colecalciferolul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04920" y="1700280"/>
            <a:ext cx="8686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Verdana"/>
              </a:rPr>
              <a:t>Rata de transformare a precursorilor depinde de: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latitudine, altitudine, sezon, prezen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a norilor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vâ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rs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depozitul 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de vitamin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D scade cu v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â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rsta)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pigmentarea constitu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ional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(pigmentarea pielii are efect de prevenire a intoxica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iei cu vitamina D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c00000"/>
                </a:solidFill>
                <a:uFillTx/>
                <a:latin typeface="Verdana"/>
              </a:rPr>
              <a:t>Expunerea la soare</a:t>
            </a:r>
            <a:r>
              <a:rPr b="1" lang="it-IT" sz="2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o-RO" sz="2200" spc="-1" strike="noStrike">
                <a:solidFill>
                  <a:srgbClr val="ff0000"/>
                </a:solidFill>
                <a:latin typeface="Verdana"/>
              </a:rPr>
              <a:t>î</a:t>
            </a:r>
            <a:r>
              <a:rPr b="1" i="1" lang="it-IT" sz="2200" spc="-1" strike="noStrike">
                <a:solidFill>
                  <a:srgbClr val="ff0000"/>
                </a:solidFill>
                <a:latin typeface="Verdana"/>
              </a:rPr>
              <a:t>n orele dimine</a:t>
            </a:r>
            <a:r>
              <a:rPr b="1" i="1" lang="ro-RO" sz="2200" spc="-1" strike="noStrike">
                <a:solidFill>
                  <a:srgbClr val="ff0000"/>
                </a:solidFill>
                <a:latin typeface="Verdana"/>
              </a:rPr>
              <a:t>ţ</a:t>
            </a:r>
            <a:r>
              <a:rPr b="1" i="1" lang="it-IT" sz="22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 sau </a:t>
            </a:r>
            <a:r>
              <a:rPr b="1" lang="ro-RO" sz="2200" spc="-1" strike="noStrike">
                <a:solidFill>
                  <a:srgbClr val="ff0000"/>
                </a:solidFill>
                <a:latin typeface="Verdana"/>
              </a:rPr>
              <a:t>î</a:t>
            </a: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 cursul </a:t>
            </a:r>
            <a:r>
              <a:rPr b="1" i="1" lang="it-IT" sz="2200" spc="-1" strike="noStrike">
                <a:solidFill>
                  <a:srgbClr val="ff0000"/>
                </a:solidFill>
                <a:latin typeface="Verdana"/>
              </a:rPr>
              <a:t>dup</a:t>
            </a:r>
            <a:r>
              <a:rPr b="1" i="1" lang="ro-RO" sz="2200" spc="-1" strike="noStrike">
                <a:solidFill>
                  <a:srgbClr val="ff0000"/>
                </a:solidFill>
                <a:latin typeface="Verdana"/>
              </a:rPr>
              <a:t>ă</a:t>
            </a:r>
            <a:r>
              <a:rPr b="1" i="1" lang="it-IT" sz="2200" spc="-1" strike="noStrike">
                <a:solidFill>
                  <a:srgbClr val="ff0000"/>
                </a:solidFill>
                <a:latin typeface="Verdana"/>
              </a:rPr>
              <a:t> amiezii t</a:t>
            </a:r>
            <a:r>
              <a:rPr b="1" i="1" lang="ro-RO" sz="2200" spc="-1" strike="noStrike">
                <a:solidFill>
                  <a:srgbClr val="ff0000"/>
                </a:solidFill>
                <a:latin typeface="Verdana"/>
              </a:rPr>
              <a:t>â</a:t>
            </a:r>
            <a:r>
              <a:rPr b="1" i="1" lang="it-IT" sz="2200" spc="-1" strike="noStrike">
                <a:solidFill>
                  <a:srgbClr val="ff0000"/>
                </a:solidFill>
                <a:latin typeface="Verdana"/>
              </a:rPr>
              <a:t>rzii</a:t>
            </a: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ro-RO" sz="2200" spc="-1" strike="noStrike">
                <a:solidFill>
                  <a:srgbClr val="ff0000"/>
                </a:solidFill>
                <a:latin typeface="Verdana"/>
              </a:rPr>
              <a:t>î</a:t>
            </a: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 cursul verii, </a:t>
            </a:r>
            <a:r>
              <a:rPr b="1" lang="it-IT" sz="2200" spc="-1" strike="noStrike">
                <a:solidFill>
                  <a:srgbClr val="c00000"/>
                </a:solidFill>
                <a:latin typeface="Verdana"/>
              </a:rPr>
              <a:t>este o surs</a:t>
            </a:r>
            <a:r>
              <a:rPr b="1" lang="ro-RO" sz="2200" spc="-1" strike="noStrike">
                <a:solidFill>
                  <a:srgbClr val="c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c00000"/>
                </a:solidFill>
                <a:latin typeface="Verdana"/>
              </a:rPr>
              <a:t> important</a:t>
            </a:r>
            <a:r>
              <a:rPr b="1" lang="ro-RO" sz="2200" spc="-1" strike="noStrike">
                <a:solidFill>
                  <a:srgbClr val="c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c00000"/>
                </a:solidFill>
                <a:latin typeface="Verdana"/>
              </a:rPr>
              <a:t> de vitamina D</a:t>
            </a:r>
            <a:r>
              <a:rPr b="1" lang="ro-RO" sz="2200" spc="-1" strike="noStrike">
                <a:solidFill>
                  <a:srgbClr val="ff0000"/>
                </a:solidFill>
                <a:latin typeface="Verdana"/>
              </a:rPr>
              <a:t> (perioade când razele sunt</a:t>
            </a: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 mai pu</a:t>
            </a:r>
            <a:r>
              <a:rPr b="1" lang="ro-RO" sz="2200" spc="-1" strike="noStrike">
                <a:solidFill>
                  <a:srgbClr val="ff0000"/>
                </a:solidFill>
                <a:latin typeface="Verdana"/>
              </a:rPr>
              <a:t>ţ</a:t>
            </a: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in nociv</a:t>
            </a:r>
            <a:r>
              <a:rPr b="1" lang="ro-RO" sz="2200" spc="-1" strike="noStrike">
                <a:solidFill>
                  <a:srgbClr val="ff0000"/>
                </a:solidFill>
                <a:latin typeface="Verdana"/>
              </a:rPr>
              <a:t>e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6597720" y="25560"/>
            <a:ext cx="2520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Î</a:t>
            </a: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n metabolismul Ca 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ş</a:t>
            </a: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i P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Men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ne concentra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a intracelular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 extracelular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de C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În </a:t>
            </a: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intestin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timuleaz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absorb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a Ca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şi de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fosf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În rinich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cade excr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a renal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a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e fosf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6800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În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 o</a:t>
            </a: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n cantitate mic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: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stimuleaz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mineralizarea osoas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n cantitate mare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determin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resorb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ie osoas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 (prin mobilizarea Ca din oas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În muşch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cre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te formarea de ATP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me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nţ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ine tonusul muscula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La nivel endocri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controleaz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sinteza de PTH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itle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, 2011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19-70 de ani: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15 μg/zi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este 70 de ani:  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20 μg/zi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I, 1999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19 – 50 ani: 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5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μ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0 – 70 ani: 10 μ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este 70 ani: 15 μ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539280" y="1699920"/>
            <a:ext cx="8001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Necesarul </a:t>
            </a:r>
            <a:r>
              <a:rPr b="1" lang="ro-RO" sz="2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nu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 crește în sarcin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  <a:ea typeface="Arial"/>
              </a:rPr>
              <a:t>AI: 5 </a:t>
            </a:r>
            <a:r>
              <a:rPr b="1" lang="el-GR" sz="2600" spc="-1" strike="noStrike">
                <a:solidFill>
                  <a:srgbClr val="ff000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  <a:ea typeface="Arial"/>
              </a:rPr>
              <a:t>g/zi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(1999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Necesar sporit în caz de lipsă de expunere la soar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  <a:ea typeface="Arial"/>
              </a:rPr>
              <a:t>UL (gravide şi negravide): 100 </a:t>
            </a:r>
            <a:r>
              <a:rPr b="1" lang="el-GR" sz="2600" spc="-1" strike="noStrike">
                <a:solidFill>
                  <a:srgbClr val="ff000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7333-EA4A-4CE2-BB21-0B519A9C1E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în sarcin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6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urse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vitamina D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39280" y="1628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4747"/>
                </a:solidFill>
                <a:latin typeface="Verdana"/>
              </a:rPr>
              <a:t>Endogen</a:t>
            </a:r>
            <a:r>
              <a:rPr b="1" lang="ro-RO" sz="2800" spc="-1" strike="noStrike">
                <a:solidFill>
                  <a:srgbClr val="ff4747"/>
                </a:solidFill>
                <a:latin typeface="Verdana"/>
              </a:rPr>
              <a:t>ă</a:t>
            </a:r>
            <a:r>
              <a:rPr b="1" lang="it-IT" sz="2800" spc="-1" strike="noStrike">
                <a:solidFill>
                  <a:srgbClr val="ff4747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inteza vit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aminei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D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 piele, sub ac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unea razelor UV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747"/>
                </a:solidFill>
                <a:latin typeface="Verdana"/>
              </a:rPr>
              <a:t>Exoge</a:t>
            </a:r>
            <a:r>
              <a:rPr b="1" lang="ro-RO" sz="2800" spc="-1" strike="noStrike">
                <a:solidFill>
                  <a:srgbClr val="ff4747"/>
                </a:solidFill>
                <a:latin typeface="Verdana"/>
              </a:rPr>
              <a:t>nă</a:t>
            </a:r>
            <a:r>
              <a:rPr b="1" lang="en-US" sz="2800" spc="-1" strike="noStrike">
                <a:solidFill>
                  <a:srgbClr val="ff4747"/>
                </a:solidFill>
                <a:latin typeface="Verdana"/>
              </a:rPr>
              <a:t>:</a:t>
            </a:r>
            <a:r>
              <a:rPr b="1" lang="ro-RO" sz="2800" spc="-1" strike="noStrike">
                <a:solidFill>
                  <a:srgbClr val="ff474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aproape exclusiv din </a:t>
            </a:r>
            <a:r>
              <a:rPr b="1" lang="ro-RO" sz="2000" spc="-1" strike="noStrike" u="sng">
                <a:solidFill>
                  <a:srgbClr val="000000"/>
                </a:solidFill>
                <a:uFillTx/>
                <a:latin typeface="Verdana"/>
              </a:rPr>
              <a:t>alimente de origine animal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lei din ficat de pe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 gras (somon, t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benu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de 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ptele este,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 mod obi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u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bog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ţ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t cu vitamina D2 sau D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6058080" y="4221000"/>
            <a:ext cx="3085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LIP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Vitamina 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0C6F-7AA7-40CD-8169-65C1AE9AC6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Definiţie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rmenul de vitamina E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opt compuşi naturali liposolubil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ocoferol</a:t>
            </a:r>
            <a:r>
              <a:rPr b="1" lang="ro-RO" sz="2000" spc="-1" strike="noStrike">
                <a:solidFill>
                  <a:srgbClr val="ff0000"/>
                </a:solidFill>
                <a:latin typeface="Verdana"/>
              </a:rPr>
              <a:t>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γ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ocotrienoli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γ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Verdana"/>
              </a:rPr>
              <a:t>α</a:t>
            </a:r>
            <a:r>
              <a:rPr b="1" i="1" lang="it-IT" sz="2400" spc="-1" strike="noStrike">
                <a:solidFill>
                  <a:srgbClr val="92d050"/>
                </a:solidFill>
                <a:latin typeface="Verdana"/>
              </a:rPr>
              <a:t>-tocoferolul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(sau RRR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-tocoferol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ompusul natural cu cea mai mare biodisponibilita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8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LIP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8000" y="2060280"/>
            <a:ext cx="80010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Vitamina 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159D-DD57-4CC3-BFCC-6D0D790D0F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Verdana"/>
              </a:rPr>
              <a:t>Antioxidant</a:t>
            </a: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mpiedic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oxidarea AG nesatura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nhib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ac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ţi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unea oxidativ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a perhidrolului asupra hematiil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mpiedică oxidarea vitaminei A şi 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Verdana"/>
              </a:rPr>
              <a:t>Efect protector în anumite boli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Unele tipuri de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Artrit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Boală coronarian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Verdana"/>
              </a:rPr>
              <a:t>transport al H 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î</a:t>
            </a:r>
            <a:r>
              <a:rPr b="1" lang="pt-BR" sz="2600" spc="-1" strike="noStrike">
                <a:solidFill>
                  <a:srgbClr val="c00000"/>
                </a:solidFill>
                <a:latin typeface="Verdana"/>
              </a:rPr>
              <a:t>n procesele redox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Verdana"/>
              </a:rPr>
              <a:t>trofic neuronal 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ş</a:t>
            </a:r>
            <a:r>
              <a:rPr b="1" lang="pt-BR" sz="2600" spc="-1" strike="noStrike">
                <a:solidFill>
                  <a:srgbClr val="c00000"/>
                </a:solidFill>
                <a:latin typeface="Verdana"/>
              </a:rPr>
              <a:t>i vascula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Verdana"/>
              </a:rPr>
              <a:t>asigur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ă</a:t>
            </a:r>
            <a:r>
              <a:rPr b="1" lang="pt-BR" sz="2600" spc="-1" strike="noStrike">
                <a:solidFill>
                  <a:srgbClr val="c00000"/>
                </a:solidFill>
                <a:latin typeface="Verdana"/>
              </a:rPr>
              <a:t> func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ţ</a:t>
            </a:r>
            <a:r>
              <a:rPr b="1" lang="pt-BR" sz="2600" spc="-1" strike="noStrike">
                <a:solidFill>
                  <a:srgbClr val="c00000"/>
                </a:solidFill>
                <a:latin typeface="Verdana"/>
              </a:rPr>
              <a:t>ionarea normal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ă</a:t>
            </a:r>
            <a:r>
              <a:rPr b="1" lang="pt-BR" sz="2600" spc="-1" strike="noStrike">
                <a:solidFill>
                  <a:srgbClr val="c00000"/>
                </a:solidFill>
                <a:latin typeface="Verdana"/>
              </a:rPr>
              <a:t> a organelor genita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previn sterilitatea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 (?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Verdana"/>
              </a:rPr>
              <a:t>antitrombotic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Legat de conţinutul dietei în AG polinesaturaţ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= 0,4 mg vitamina E/1 g AG polinesatur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, 2000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la adult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</a:rPr>
              <a:t>15 </a:t>
            </a:r>
            <a:r>
              <a:rPr b="1" lang="it-IT" sz="2600" spc="-1" strike="noStrike">
                <a:solidFill>
                  <a:srgbClr val="c00000"/>
                </a:solidFill>
                <a:latin typeface="Verdana"/>
              </a:rPr>
              <a:t>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nformaţii insuficiente în sarcin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Există transfer transplacenta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RDA: ca la negravide (15 mg/z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UL: ca la negravide (1000 mg/z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15A7-4255-450E-A3B3-6ABA1F1CB4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în sarcină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4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urse vitamina 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4747"/>
                </a:solidFill>
                <a:latin typeface="Verdana"/>
              </a:rPr>
              <a:t>Doar plantele sintetizeaz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ă</a:t>
            </a:r>
            <a:r>
              <a:rPr b="1" lang="it-IT" sz="2400" spc="-1" strike="noStrike">
                <a:solidFill>
                  <a:srgbClr val="ff4747"/>
                </a:solidFill>
                <a:latin typeface="Verdana"/>
              </a:rPr>
              <a:t> vitamina 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ursele cele mai bogat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uleiurile vegetale comestibi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urse sărac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arne şi alte produse de origine animal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Alimente bogat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paranghe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vocad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Oleaginoase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eminţ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Spanac şi alte vegetale cu frunze ver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Germeni de grâu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itle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urse vitamina 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7875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LIP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990000"/>
                </a:solidFill>
                <a:latin typeface="Verdana"/>
              </a:rPr>
              <a:t>Vitamina K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1CD7-B41B-4FFA-A2B2-35CF77B425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57200" y="18446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4747"/>
                </a:solidFill>
                <a:latin typeface="Verdana"/>
              </a:rPr>
              <a:t>2 compu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ş</a:t>
            </a:r>
            <a:r>
              <a:rPr b="1" lang="it-IT" sz="2400" spc="-1" strike="noStrike">
                <a:solidFill>
                  <a:srgbClr val="ff4747"/>
                </a:solidFill>
                <a:latin typeface="Verdana"/>
              </a:rPr>
              <a:t>i naturali liposolubili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:</a:t>
            </a:r>
            <a:r>
              <a:rPr b="1" lang="it-IT" sz="2400" spc="-1" strike="noStrike">
                <a:solidFill>
                  <a:srgbClr val="ff4747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K1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- filloquinona sau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fitomenadio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În plante verz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K2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menaquinona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sau menatetro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e formeaz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 intestinul gros, sub ac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unea unor bacterii anaerob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4747"/>
                </a:solidFill>
                <a:latin typeface="Verdana"/>
              </a:rPr>
              <a:t>3 forme sintetice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400" spc="-1" strike="noStrike">
                <a:solidFill>
                  <a:srgbClr val="00b050"/>
                </a:solidFill>
                <a:latin typeface="Verdana"/>
              </a:rPr>
              <a:t>K3, K4, K5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) utilizate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n industria animal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, ca antifungi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Title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Cuprind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999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tervine 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n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4747"/>
                </a:solidFill>
                <a:latin typeface="Verdana"/>
              </a:rPr>
              <a:t>coagul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rin sinteza hepatic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unor factori de coagula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metabolismul os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4747"/>
                </a:solidFill>
                <a:latin typeface="Verdana"/>
              </a:rPr>
              <a:t>posibil: protec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ţ</a:t>
            </a:r>
            <a:r>
              <a:rPr b="1" lang="pt-BR" sz="2400" spc="-1" strike="noStrike">
                <a:solidFill>
                  <a:srgbClr val="ff4747"/>
                </a:solidFill>
                <a:latin typeface="Verdana"/>
              </a:rPr>
              <a:t>ie cardiovascular</a:t>
            </a: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 de vitamina K = </a:t>
            </a: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1 </a:t>
            </a:r>
            <a:r>
              <a:rPr b="1" lang="en-US" sz="3000" spc="-1" strike="noStrike">
                <a:solidFill>
                  <a:srgbClr val="ff4747"/>
                </a:solidFill>
                <a:latin typeface="Verdana"/>
                <a:ea typeface="Arial"/>
              </a:rPr>
              <a:t>µ</a:t>
            </a: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g/kg corp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 adecvat (AI) la adulţ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b90000"/>
                </a:solidFill>
                <a:latin typeface="Verdana"/>
              </a:rPr>
              <a:t>Femei: 90 </a:t>
            </a:r>
            <a:r>
              <a:rPr b="1" lang="el-GR" sz="2600" spc="-1" strike="noStrike">
                <a:solidFill>
                  <a:srgbClr val="b9000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b90000"/>
                </a:solidFill>
                <a:latin typeface="Verdana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Bărbaţi: 120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rm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 alimentele de origin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vegetal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sub form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 de precursori </a:t>
            </a:r>
            <a:r>
              <a:rPr b="1" lang="it-IT" sz="2200" spc="-1" strike="noStrike">
                <a:solidFill>
                  <a:srgbClr val="ff4747"/>
                </a:solidFill>
                <a:latin typeface="Verdana"/>
              </a:rPr>
              <a:t>(provitamina A - carotenoizi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arotenoizii = pigmen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i organici 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in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cloroplastele plantelor (&gt; 60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Informaţii insuficiente în sarc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4747"/>
                </a:solidFill>
                <a:latin typeface="Verdana"/>
              </a:rPr>
              <a:t>Necesarul de vitamină K </a:t>
            </a:r>
            <a:r>
              <a:rPr b="1" i="1" lang="ro-RO" sz="3000" spc="-1" strike="noStrike" u="sng">
                <a:solidFill>
                  <a:srgbClr val="ff4747"/>
                </a:solidFill>
                <a:uFillTx/>
                <a:latin typeface="Verdana"/>
              </a:rPr>
              <a:t>nu</a:t>
            </a:r>
            <a:r>
              <a:rPr b="1" i="1" lang="ro-RO" sz="3000" spc="-1" strike="noStrike">
                <a:solidFill>
                  <a:srgbClr val="ff4747"/>
                </a:solidFill>
                <a:latin typeface="Verdana"/>
              </a:rPr>
              <a:t> creşte în timpul sarcin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b90000"/>
                </a:solidFill>
                <a:latin typeface="Verdana"/>
              </a:rPr>
              <a:t>AI: ca la negravide (90 </a:t>
            </a:r>
            <a:r>
              <a:rPr b="1" lang="el-GR" sz="3000" spc="-1" strike="noStrike">
                <a:solidFill>
                  <a:srgbClr val="b90000"/>
                </a:solidFill>
                <a:latin typeface="Verdana"/>
              </a:rPr>
              <a:t>μ</a:t>
            </a:r>
            <a:r>
              <a:rPr b="1" lang="ro-RO" sz="3000" spc="-1" strike="noStrike">
                <a:solidFill>
                  <a:srgbClr val="b90000"/>
                </a:solidFill>
                <a:latin typeface="Verdana"/>
              </a:rPr>
              <a:t>g/z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BD5F-E4AB-45D0-96E9-7B4E73D21C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611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în sarcină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Surse</a:t>
            </a:r>
            <a:r>
              <a:rPr b="1" lang="it-IT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39280" y="1628280"/>
            <a:ext cx="8001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b050"/>
                </a:solidFill>
                <a:latin typeface="Verdana"/>
              </a:rPr>
              <a:t>K1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e g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şt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n canti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ţ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 mai mari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it-IT" sz="2400" spc="-1" strike="noStrike">
                <a:solidFill>
                  <a:srgbClr val="990000"/>
                </a:solidFill>
                <a:latin typeface="Verdana"/>
              </a:rPr>
              <a:t>plante</a:t>
            </a:r>
            <a:r>
              <a:rPr b="1" lang="ro-RO" sz="2400" spc="-1" strike="noStrike">
                <a:solidFill>
                  <a:srgbClr val="990000"/>
                </a:solidFill>
                <a:latin typeface="Verdana"/>
              </a:rPr>
              <a:t>le</a:t>
            </a:r>
            <a:r>
              <a:rPr b="1" lang="it-IT" sz="2400" spc="-1" strike="noStrike">
                <a:solidFill>
                  <a:srgbClr val="990000"/>
                </a:solidFill>
                <a:latin typeface="Verdana"/>
              </a:rPr>
              <a:t> verzi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, dar biodisponibilitatea ei este mic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(absorb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e de 15-20%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pana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arz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, conopid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, broccoli, varz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 de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Bruxel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vocado, kiw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runj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o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b050"/>
                </a:solidFill>
                <a:latin typeface="Verdana"/>
              </a:rPr>
              <a:t>K2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Verdana"/>
              </a:rPr>
              <a:t>lactate (br</a:t>
            </a:r>
            <a:r>
              <a:rPr b="1" lang="ro-RO" sz="2400" spc="-1" strike="noStrike">
                <a:solidFill>
                  <a:srgbClr val="990000"/>
                </a:solidFill>
                <a:latin typeface="Verdana"/>
              </a:rPr>
              <a:t>â</a:t>
            </a:r>
            <a:r>
              <a:rPr b="1" lang="it-IT" sz="2400" spc="-1" strike="noStrike">
                <a:solidFill>
                  <a:srgbClr val="990000"/>
                </a:solidFill>
                <a:latin typeface="Verdana"/>
              </a:rPr>
              <a:t>nza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Verdana"/>
              </a:rPr>
              <a:t>car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Verdana"/>
              </a:rPr>
              <a:t>ou</a:t>
            </a:r>
            <a:r>
              <a:rPr b="1" lang="ro-RO" sz="2400" spc="-1" strike="noStrike">
                <a:solidFill>
                  <a:srgbClr val="990000"/>
                </a:solidFill>
                <a:latin typeface="Verdana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HIDR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1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TIAMIN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C62B-7014-4649-BBB1-F5F9D7B331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Coenzim</a:t>
            </a:r>
            <a:r>
              <a:rPr b="1" lang="ro-RO" sz="2800" spc="-1" strike="noStrike">
                <a:solidFill>
                  <a:srgbClr val="990000"/>
                </a:solidFill>
                <a:latin typeface="Verdana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intervine 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 metabolismul glucidic şi protidi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Transmiterea influxului ner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00"/>
                </a:solidFill>
                <a:latin typeface="Verdana"/>
              </a:rPr>
              <a:t>Rol antioxidan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 consider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ă că necesarul est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,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g tiamin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fiecare 1000 kcal consumat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DA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 adulţ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Bărbaţi: 1,2 mg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Femei: 1,1 mg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b050"/>
                </a:solidFill>
                <a:latin typeface="Verdana"/>
              </a:rPr>
              <a:t>Crește în sarcină: 1,4 mg/z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te sintetizat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de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cteri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tozo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n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g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ea mai mare cantitate de tiamin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ă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teaca gr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or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(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departa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procesul de rafinar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n drojdi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5051520" y="2276640"/>
            <a:ext cx="354960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urs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nimale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c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r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g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benu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ş d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u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getal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reale integr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rtof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gume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Sparangh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opid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rz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rtoc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pte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ez bru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făină de ovă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seminţe de floarea-soarelu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secar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2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RIBOFLAVIN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C669-DCFA-48E2-B4AA-24E73EF5DC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HIDR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Generalităţ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3" name="Rectangle 3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1154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539280" y="162864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Coenzim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ă – numeroase procese celul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Transportor de hidrogen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diferite sisteme oxidative ale mitocondriil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Metabolism energeti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Metabol</a:t>
            </a:r>
            <a:r>
              <a:rPr b="1" lang="en-US" sz="2400" spc="-1" strike="noStrike">
                <a:solidFill>
                  <a:srgbClr val="ff4747"/>
                </a:solidFill>
                <a:latin typeface="Arial"/>
              </a:rPr>
              <a:t>i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smul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ipidelor, corpilor cetonici, glucidelor, proteinel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6836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 alimentele de origin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animal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ă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747"/>
                </a:solidFill>
                <a:latin typeface="Verdana"/>
              </a:rPr>
              <a:t>Retino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formă de trans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4747"/>
                </a:solidFill>
                <a:latin typeface="Verdana"/>
              </a:rPr>
              <a:t>Form</a:t>
            </a:r>
            <a:r>
              <a:rPr b="1" lang="ro-RO" sz="2000" spc="-1" strike="noStrike">
                <a:solidFill>
                  <a:srgbClr val="ff4747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ff4747"/>
                </a:solidFill>
                <a:latin typeface="Verdana"/>
              </a:rPr>
              <a:t> esterificat</a:t>
            </a:r>
            <a:r>
              <a:rPr b="1" lang="ro-RO" sz="2000" spc="-1" strike="noStrike">
                <a:solidFill>
                  <a:srgbClr val="ff4747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ff4747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retinil palmitat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forma de depoz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4747"/>
                </a:solidFill>
                <a:latin typeface="Verdana"/>
              </a:rPr>
              <a:t>Form</a:t>
            </a:r>
            <a:r>
              <a:rPr b="1" lang="ro-RO" sz="2000" spc="-1" strike="noStrike">
                <a:solidFill>
                  <a:srgbClr val="ff4747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ff4747"/>
                </a:solidFill>
                <a:latin typeface="Verdana"/>
              </a:rPr>
              <a:t> de aldehid</a:t>
            </a:r>
            <a:r>
              <a:rPr b="1" lang="ro-RO" sz="2000" spc="-1" strike="noStrike">
                <a:solidFill>
                  <a:srgbClr val="ff4747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ff4747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retinal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rol important pentru ve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747"/>
                </a:solidFill>
                <a:latin typeface="Verdana"/>
              </a:rPr>
              <a:t>F</a:t>
            </a:r>
            <a:r>
              <a:rPr b="1" lang="it-IT" sz="2000" spc="-1" strike="noStrike">
                <a:solidFill>
                  <a:srgbClr val="ff4747"/>
                </a:solidFill>
                <a:latin typeface="Verdana"/>
              </a:rPr>
              <a:t>orm</a:t>
            </a:r>
            <a:r>
              <a:rPr b="1" lang="ro-RO" sz="2000" spc="-1" strike="noStrike">
                <a:solidFill>
                  <a:srgbClr val="ff4747"/>
                </a:solidFill>
                <a:latin typeface="Verdana"/>
              </a:rPr>
              <a:t>ă de</a:t>
            </a:r>
            <a:r>
              <a:rPr b="1" lang="it-IT" sz="2000" spc="-1" strike="noStrike">
                <a:solidFill>
                  <a:srgbClr val="ff4747"/>
                </a:solidFill>
                <a:latin typeface="Verdana"/>
              </a:rPr>
              <a:t> acid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acidul retinoic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ctivitate vitaminic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par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al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u are efecte asupra retin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Arial"/>
              </a:rPr>
              <a:t>Necesar</a:t>
            </a:r>
            <a:r>
              <a:rPr b="1" lang="ro-RO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RDA de vitamina B2, adulţ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Bărbaţi: 1,3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Arial"/>
              </a:rPr>
              <a:t>Femei: 1,1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b050"/>
                </a:solidFill>
                <a:latin typeface="Arial"/>
              </a:rPr>
              <a:t>Crește în sarcină: 1,4 mg/z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8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Arial"/>
              </a:rPr>
              <a:t>Surse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Se găseşte în numeroase alimente de origine </a:t>
            </a:r>
            <a:r>
              <a:rPr b="1" lang="ro-RO" sz="3000" spc="-1" strike="noStrike">
                <a:solidFill>
                  <a:srgbClr val="ff4747"/>
                </a:solidFill>
                <a:latin typeface="Arial"/>
              </a:rPr>
              <a:t>animală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3000" spc="-1" strike="noStrike">
                <a:solidFill>
                  <a:srgbClr val="ff4747"/>
                </a:solidFill>
                <a:latin typeface="Arial"/>
              </a:rPr>
              <a:t>veget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Lapte uman: 0,35 mg/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urs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urse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nimal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t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duse lactat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Brânzetur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Iaur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cat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ch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arne slabă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eşt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urse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vegetal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jdie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Bere:  cantitate mic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getale cu frunze verzi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eguminoas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oşi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iuperci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igdal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anan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reale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âine îmbogăţită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3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NIACIN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8449-DC80-4D43-A726-A4A5A8B3CF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HIDR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Generalităţ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grup de compu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 cu activitate simila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care pot fi converti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tre ei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cid nicotinic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(NA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icotinamid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 (N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 mai numesc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vitamina PP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ellagra preventiv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Vitamină puţin hidrosolubil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68360" y="1700280"/>
            <a:ext cx="8362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Coenzima a diverselor dehidrogenaz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, cu rol de transportor de H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c00000"/>
                </a:solidFill>
                <a:latin typeface="Verdana"/>
              </a:rPr>
              <a:t>Metabolismul glucidelor, lipidelor, proteinelo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c00000"/>
                </a:solidFill>
                <a:latin typeface="Verdana"/>
              </a:rPr>
              <a:t>Repararea AD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c00000"/>
                </a:solidFill>
                <a:latin typeface="Verdana"/>
              </a:rPr>
              <a:t>Producerea de hormoni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teroiz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Ai medulosuprarenalei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RDA, adulţ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Bărbaţi: 16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Arial"/>
              </a:rPr>
              <a:t>Femei: 14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b050"/>
                </a:solidFill>
                <a:latin typeface="Arial"/>
              </a:rPr>
              <a:t>Crește în sarcină: 18 mg/z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ecesar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,6 mg niacină/1000 Kc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3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Produse anima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gane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c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im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nichi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arne 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r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t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i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eş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ap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uă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Produse vegeta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rcov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vocad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parangh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occol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tofi dulc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min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u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reale integr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ojdi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iuperci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1"/>
          <a:stretch/>
        </p:blipFill>
        <p:spPr>
          <a:xfrm>
            <a:off x="5148360" y="3807000"/>
            <a:ext cx="33019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5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ACIDUL PANTOTENIC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1D25-3877-4C2E-9734-F28AA06DE4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HIDR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Componentă a </a:t>
            </a:r>
            <a:r>
              <a:rPr b="1" lang="en-US" sz="3000" spc="-1" strike="noStrike">
                <a:solidFill>
                  <a:srgbClr val="c00000"/>
                </a:solidFill>
                <a:latin typeface="Verdana"/>
              </a:rPr>
              <a:t>coenzimei </a:t>
            </a: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ntervine în numeroase procese metabolice intracelular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Participă la metabol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Verdana"/>
              </a:rPr>
              <a:t>ul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Lipide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Glucide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roteinel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R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90000"/>
                </a:solidFill>
                <a:latin typeface="Verdana"/>
              </a:rPr>
              <a:t>Vede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retin</a:t>
            </a: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lu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articip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la sinteza pigmen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lor retinieni (rodopsina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 iodops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ol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 vederea nocturn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 crepuscular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acidul retinoi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en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ne morfologia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 func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a normal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 corneei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 conjunctiv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6156360" y="4619520"/>
            <a:ext cx="23162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</a:t>
            </a:r>
            <a:r>
              <a:rPr b="1" lang="ro-RO" sz="3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Carn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Vit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Pu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Fic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Ouă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Broccol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Cartof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Roşi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Cereale integral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port adevat (AI), adulţ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emei, bărbaţi: 5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b050"/>
                </a:solidFill>
                <a:latin typeface="Verdana"/>
              </a:rPr>
              <a:t>Sarcină: 6 mg/zi</a:t>
            </a:r>
            <a:r>
              <a:rPr b="1" lang="ro-RO" sz="2300" spc="-1" strike="noStrike">
                <a:solidFill>
                  <a:srgbClr val="00b05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u se cunoaște limita maximă admis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8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6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PIRIDOXIN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EAC1-0351-41FB-9687-7E657BC3C7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HIDR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468360" y="475920"/>
            <a:ext cx="82296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Forme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 natural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iridox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ă (pirido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iridoxa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iridoxamin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 fosforilat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iridoxal 5-fosfat (forma activ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iridoxin 5-fosf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iridoxamin 5-fosf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c00000"/>
                </a:solidFill>
                <a:latin typeface="Arial"/>
              </a:rPr>
              <a:t>Î</a:t>
            </a: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n organism, toate sunt convertite </a:t>
            </a:r>
            <a:r>
              <a:rPr b="1" lang="ro-RO" sz="2200" spc="-1" strike="noStrike">
                <a:solidFill>
                  <a:srgbClr val="c00000"/>
                </a:solidFill>
                <a:latin typeface="Arial"/>
              </a:rPr>
              <a:t>î</a:t>
            </a: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n forma biologic activ</a:t>
            </a:r>
            <a:r>
              <a:rPr b="1" lang="ro-RO" sz="2200" spc="-1" strike="noStrike">
                <a:solidFill>
                  <a:srgbClr val="c00000"/>
                </a:solidFill>
                <a:latin typeface="Arial"/>
              </a:rPr>
              <a:t>ă</a:t>
            </a: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: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piridoxal 5-fosfat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7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39640" y="16282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eza neurotransm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oril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eza histamine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z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hemoglobinei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hemului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 legare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xigenului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de Hb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uncţia imun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gleaz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fun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expresia genel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enzim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mplicat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 metabolism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l glucidic, lipidic, protei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ste necesară pentru metabolismu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Vitaminei B3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latulu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arnitinei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7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</a:t>
            </a:r>
            <a:r>
              <a:rPr b="1" lang="ro-RO" sz="3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RDA, adulţi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Bărbaţi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19-50 ani: 1,3 mg/z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este 50 ani: 1,7 mg/z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emei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Verdana"/>
              </a:rPr>
              <a:t>19-50 ani: 1,3 mg/z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este 50 ani: 1,5 mg/z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b050"/>
                </a:solidFill>
                <a:latin typeface="Verdana"/>
              </a:rPr>
              <a:t>Sarcină: 1,9 mg/z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15-20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µ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  <a:ea typeface="Arial"/>
              </a:rPr>
              <a:t>g vitamina B6 / 1 g proteină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68360" y="170028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n alimente se g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se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te sub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Verdana"/>
              </a:rPr>
              <a:t>3 forme</a:t>
            </a:r>
            <a:r>
              <a:rPr b="1" lang="ro-RO" sz="2400" spc="-1" strike="noStrike">
                <a:solidFill>
                  <a:srgbClr val="c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Verdana"/>
              </a:rPr>
              <a:t>Piridoxin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forma cea mai stabil</a:t>
            </a:r>
            <a:r>
              <a:rPr b="1" lang="ro-RO" sz="23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, se degradeaz</a:t>
            </a:r>
            <a:r>
              <a:rPr b="1" lang="ro-RO" sz="23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 mai pu</a:t>
            </a:r>
            <a:r>
              <a:rPr b="1" lang="ro-RO" sz="23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in prin prepara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n legum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Verdana"/>
              </a:rPr>
              <a:t>Piridoxal</a:t>
            </a:r>
            <a:r>
              <a:rPr b="1" lang="ro-RO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i="1" lang="ro-RO" sz="2400" spc="-1" strike="noStrike">
                <a:solidFill>
                  <a:srgbClr val="00b050"/>
                </a:solidFill>
                <a:latin typeface="Verdana"/>
              </a:rPr>
              <a:t>p</a:t>
            </a:r>
            <a:r>
              <a:rPr b="1" i="1" lang="en-US" sz="2400" spc="-1" strike="noStrike">
                <a:solidFill>
                  <a:srgbClr val="00b050"/>
                </a:solidFill>
                <a:latin typeface="Verdana"/>
              </a:rPr>
              <a:t>iridoxamin</a:t>
            </a:r>
            <a:r>
              <a:rPr b="1" i="1" lang="ro-RO" sz="2400" spc="-1" strike="noStrike">
                <a:solidFill>
                  <a:srgbClr val="00b050"/>
                </a:solidFill>
                <a:latin typeface="Verdana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nsibile la caldur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 lumin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 degradeaz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rin prepar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n alimentele de origine animal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ar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lap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468360" y="1731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 g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 cantitate mare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4747"/>
                </a:solidFill>
                <a:latin typeface="Arial"/>
              </a:rPr>
              <a:t>Alimentele care conţin şi celelalte vitamine din grupul B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arn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Arial"/>
              </a:rPr>
              <a:t>Lapt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ereale integr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legum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Arial"/>
              </a:rPr>
              <a:t>cartof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u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4778280" y="3213000"/>
            <a:ext cx="3897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7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BIOTINA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5E60-EC56-4C98-9F28-C3AC233BD2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HIDR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Arial"/>
              </a:rPr>
              <a:t>Generalităţ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fost numit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vitamina 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ma activ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D-biotin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natu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 g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 sub 2 form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Liber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Legat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 de protei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alimentele de origine animal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010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836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Verdana"/>
              </a:rPr>
              <a:t>Diferentierea celular</a:t>
            </a: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ă</a:t>
            </a:r>
            <a:r>
              <a:rPr b="1" lang="it-IT" sz="3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ş</a:t>
            </a:r>
            <a:r>
              <a:rPr b="1" lang="it-IT" sz="3000" spc="-1" strike="noStrike">
                <a:solidFill>
                  <a:srgbClr val="c00000"/>
                </a:solidFill>
                <a:latin typeface="Verdana"/>
              </a:rPr>
              <a:t>i transcrip</a:t>
            </a: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ţ</a:t>
            </a:r>
            <a:r>
              <a:rPr b="1" lang="it-IT" sz="3000" spc="-1" strike="noStrike">
                <a:solidFill>
                  <a:srgbClr val="c00000"/>
                </a:solidFill>
                <a:latin typeface="Verdana"/>
              </a:rPr>
              <a:t>ia genelo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cidul retinoi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Verdana"/>
              </a:rPr>
              <a:t>Imunitate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tiinflamat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unomodulat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Verdana"/>
              </a:rPr>
              <a:t>Antioxidant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beta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rotenul: inactiveaz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radicalii liberi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O2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D753-E530-4606-B5CE-75593620C9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Verdana"/>
              </a:rPr>
              <a:t>Ro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360" y="1699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Coenzim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metabolismu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izilor gra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ucine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noacizil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glucidelor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l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gluconeogenez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Rol în 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re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terea 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i diferen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ierea celular</a:t>
            </a:r>
            <a:r>
              <a:rPr b="1" lang="ro-RO" sz="2400" spc="-1" strike="noStrike">
                <a:solidFill>
                  <a:srgbClr val="ff4747"/>
                </a:solidFill>
                <a:latin typeface="Arial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enzim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 unor carboxilaze cu rol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transportul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ro-RO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Verdana"/>
              </a:rPr>
              <a:t>Surse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68360" y="1557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</a:rPr>
              <a:t>Exogen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imente bogate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vi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min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B7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c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inich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benu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de 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se lac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gu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reale integ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Bana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Endog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iotina 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t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sintetizat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de flor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n intestinul gro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1" name="Picture 5" descr=""/>
          <p:cNvPicPr/>
          <p:nvPr/>
        </p:nvPicPr>
        <p:blipFill>
          <a:blip r:embed="rId1"/>
          <a:stretch/>
        </p:blipFill>
        <p:spPr>
          <a:xfrm>
            <a:off x="4583160" y="2708280"/>
            <a:ext cx="41227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</a:t>
            </a:r>
            <a:r>
              <a:rPr b="1" lang="ro-RO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port adecv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dulţi: 30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g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NU</a:t>
            </a:r>
            <a:r>
              <a:rPr b="1" lang="ro-RO" sz="2400" spc="-1" strike="noStrike">
                <a:solidFill>
                  <a:srgbClr val="00b050"/>
                </a:solidFill>
                <a:latin typeface="Arial"/>
                <a:ea typeface="Arial"/>
              </a:rPr>
              <a:t> crește în sarcină: 30 </a:t>
            </a:r>
            <a:r>
              <a:rPr b="1" lang="el-GR" sz="2400" spc="-1" strike="noStrike">
                <a:solidFill>
                  <a:srgbClr val="00b050"/>
                </a:solidFill>
                <a:latin typeface="Arial"/>
                <a:ea typeface="Arial"/>
              </a:rPr>
              <a:t>μ</a:t>
            </a:r>
            <a:r>
              <a:rPr b="1" lang="ro-RO" sz="2400" spc="-1" strike="noStrike">
                <a:solidFill>
                  <a:srgbClr val="00b050"/>
                </a:solidFill>
                <a:latin typeface="Arial"/>
                <a:ea typeface="Arial"/>
              </a:rPr>
              <a:t>g/z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u exis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limita maximă admisă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L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O diet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echilibrat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asigur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50-100 µg/zi, nu poate ap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ă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re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deficit nutri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ion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9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FOLAT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2763-2995-40D2-BFF9-73F29F3E0D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HIDR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c3c"/>
                </a:solidFill>
                <a:latin typeface="Verdana"/>
              </a:rPr>
              <a:t>formele naturale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folatu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din alime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just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c3c"/>
                </a:solidFill>
                <a:latin typeface="Verdana"/>
              </a:rPr>
              <a:t>forma monoglutamat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, care se foloseşte în fortificarea alimentelor şi în suplimente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acid foli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itle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Title 1"/>
          <p:cNvSpPr/>
          <p:nvPr/>
        </p:nvSpPr>
        <p:spPr>
          <a:xfrm>
            <a:off x="57456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rmenul de folat inclu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1700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enzim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ansferul grup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ilor cu 1 atom de carbo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ti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rmil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za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urinelor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 – ARN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imidinei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 – AD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TextBox 1"/>
          <p:cNvSpPr/>
          <p:nvPr/>
        </p:nvSpPr>
        <p:spPr>
          <a:xfrm>
            <a:off x="611280" y="98100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olul folatulu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oarte important pentru eritroci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mportant în perioade de creşter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inteza metioninei din homocistein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TextBox 6"/>
          <p:cNvSpPr/>
          <p:nvPr/>
        </p:nvSpPr>
        <p:spPr>
          <a:xfrm>
            <a:off x="611280" y="98100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olul folatulu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rse de fol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68360" y="1628640"/>
            <a:ext cx="403848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unze verz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747"/>
                </a:solidFill>
                <a:latin typeface="Verdana"/>
              </a:rPr>
              <a:t>Spanac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lat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gu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z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 ver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sole ver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Sparangh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4747"/>
                </a:solidFill>
                <a:latin typeface="Verdana"/>
              </a:rPr>
              <a:t>Broccol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747"/>
                </a:solidFill>
                <a:latin typeface="Verdana"/>
              </a:rPr>
              <a:t>Drojdi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rmen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abe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reale integr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Nuts (</a:t>
            </a:r>
            <a:r>
              <a:rPr b="1" lang="ro-RO" sz="2000" spc="-1" strike="noStrike">
                <a:solidFill>
                  <a:srgbClr val="ff4747"/>
                </a:solidFill>
                <a:latin typeface="Verdana"/>
              </a:rPr>
              <a:t>arahide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4747"/>
                </a:solidFill>
                <a:latin typeface="Verdana"/>
              </a:rPr>
              <a:t>Fasole</a:t>
            </a:r>
            <a:r>
              <a:rPr b="1" lang="en-US" sz="2000" spc="-1" strike="noStrike">
                <a:solidFill>
                  <a:srgbClr val="ff4747"/>
                </a:solidFill>
                <a:latin typeface="Verdana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artof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642920" y="1773000"/>
            <a:ext cx="40388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Fic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lte 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ga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Lact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r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ructe de m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uct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şi sucuri de fruc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rtoc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</a:t>
            </a:r>
            <a:r>
              <a:rPr b="1" lang="ro-RO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RDA, B9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Adulți: 400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Arial"/>
                <a:ea typeface="Arial"/>
              </a:rPr>
              <a:t>Crește în sarcină: 600 </a:t>
            </a:r>
            <a:r>
              <a:rPr b="1" lang="el-GR" sz="2600" spc="-1" strike="noStrike">
                <a:solidFill>
                  <a:srgbClr val="00b050"/>
                </a:solidFill>
                <a:latin typeface="Arial"/>
                <a:ea typeface="Arial"/>
              </a:rPr>
              <a:t>μ</a:t>
            </a:r>
            <a:r>
              <a:rPr b="1" lang="ro-RO" sz="2600" spc="-1" strike="noStrike">
                <a:solidFill>
                  <a:srgbClr val="00b050"/>
                </a:solidFill>
                <a:latin typeface="Arial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U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Adulţi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 m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0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12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COBALAMINA)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B981-7ECA-4213-B196-8622E2AABA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HIDR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ecesar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94920" y="169992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ntitatea recomandată: (RDA, 2001), </a:t>
            </a:r>
            <a:r>
              <a:rPr b="1" i="1" lang="ro-RO" sz="2400" spc="-1" strike="noStrike">
                <a:solidFill>
                  <a:srgbClr val="000000"/>
                </a:solidFill>
                <a:latin typeface="Verdana"/>
              </a:rPr>
              <a:t>adulţ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Bărbaţi: 900 μg RA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8b0000"/>
                </a:solidFill>
                <a:latin typeface="Verdana"/>
              </a:rPr>
              <a:t>Femei: 700 μg RA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c00000"/>
                </a:solidFill>
                <a:latin typeface="Verdana"/>
              </a:rPr>
              <a:t>1 UI retinol= 0,3 μg RA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c00000"/>
                </a:solidFill>
                <a:latin typeface="Verdana"/>
              </a:rPr>
              <a:t>1 UI beta-caroten= 0,05 μg RA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3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RAE </a:t>
            </a: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(retinol activity equivalent</a:t>
            </a:r>
            <a:r>
              <a:rPr b="1" i="1" lang="ro-RO" sz="1400" spc="-1" strike="noStrike">
                <a:solidFill>
                  <a:srgbClr val="000000"/>
                </a:solidFill>
                <a:latin typeface="Verdana"/>
              </a:rPr>
              <a:t>= echivalent de activitate de retinol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RAE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(retinol activity equivalent</a:t>
            </a:r>
            <a:r>
              <a:rPr b="1" i="1" lang="ro-RO" sz="1600" spc="-1" strike="noStrike">
                <a:solidFill>
                  <a:srgbClr val="000000"/>
                </a:solidFill>
                <a:latin typeface="Verdana"/>
              </a:rPr>
              <a:t>= echivalent de activitate de retinol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92320"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n producerea acizilor nucleic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Intervine în diviziunea celular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oarte important în formarea eritrocitelor, împreună cu Fe şi acid foli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Intervine în formarea tecii de mielin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D77-45D7-4FEC-8E96-FBAB915D52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Adulţi: 2,4 </a:t>
            </a:r>
            <a:r>
              <a:rPr b="1" lang="el-GR" sz="2600" spc="-1" strike="noStrike">
                <a:solidFill>
                  <a:srgbClr val="ff000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b050"/>
                </a:solidFill>
                <a:latin typeface="Verdana"/>
              </a:rPr>
              <a:t>Crește în sarcină: 2,8 </a:t>
            </a:r>
            <a:r>
              <a:rPr b="1" lang="el-GR" sz="2600" spc="-1" strike="noStrike">
                <a:solidFill>
                  <a:srgbClr val="00b05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00b050"/>
                </a:solidFill>
                <a:latin typeface="Verdana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9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urs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68360" y="1831680"/>
            <a:ext cx="84247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12 e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t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sintetiza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de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croorganism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lora intestinal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 rumeg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arelo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c3c"/>
                </a:solidFill>
                <a:latin typeface="Verdana"/>
              </a:rPr>
              <a:t>Se g</a:t>
            </a: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ff3c3c"/>
                </a:solidFill>
                <a:latin typeface="Verdana"/>
              </a:rPr>
              <a:t>se</a:t>
            </a: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ş</a:t>
            </a:r>
            <a:r>
              <a:rPr b="1" lang="en-US" sz="2200" spc="-1" strike="noStrike">
                <a:solidFill>
                  <a:srgbClr val="ff3c3c"/>
                </a:solidFill>
                <a:latin typeface="Verdana"/>
              </a:rPr>
              <a:t>te </a:t>
            </a: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î</a:t>
            </a:r>
            <a:r>
              <a:rPr b="1" lang="en-US" sz="2200" spc="-1" strike="noStrike">
                <a:solidFill>
                  <a:srgbClr val="ff3c3c"/>
                </a:solidFill>
                <a:latin typeface="Verdana"/>
              </a:rPr>
              <a:t>n produsele de origine animal</a:t>
            </a: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Lipseşte din produsele de origine vegetal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olactovegetarienii au un aport corespunz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r de vi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amin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B12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egetarienii necesi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dministrarea s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â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l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 suplimentelor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C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(ACID ASCORBIC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5FD8-480B-46B7-B697-93F572E4FC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UL DE VITAMINE HIDROSOLUBIL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Generalităţi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Vitamină hidrosolubilă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Unul dintre nutrienţii cei mai instabil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57697e"/>
                </a:solidFill>
                <a:latin typeface="Arial"/>
              </a:rPr>
              <a:t>Sintetizată de plante şi majoritatea animalelo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Verdana"/>
              </a:rPr>
              <a:t>Compusul natural activ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Verdana"/>
              </a:rPr>
              <a:t>acidul L-ascorbi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4747"/>
                </a:solidFill>
                <a:latin typeface="Verdana"/>
              </a:rPr>
              <a:t>Intervine în s</a:t>
            </a: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inteza d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urotransmiţători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nversia dopaminei în norepinefrin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nversia triptofanului în serotonin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rnitin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hormoni steroizi (din colesterol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ostaglandi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izi biliar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itocrom P45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cid tetrahidrofoli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lag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n hidroxilarea prolinei şi lizin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te componente ale ţesutului conjunctiv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7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7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7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7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7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7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7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7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4747"/>
                </a:solidFill>
                <a:latin typeface="Verdana"/>
              </a:rPr>
              <a:t>Inhib</a:t>
            </a: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ormarea nitrozaminelor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 cursul digestie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licozilarea proteinelo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c3c"/>
                </a:solidFill>
                <a:latin typeface="Verdana"/>
              </a:rPr>
              <a:t>Antioxidan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Inactivează radicalii liberi de oxige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Protejează alte substanţe de oxidare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Beta-carot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Vitamina 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imuleaz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bsorb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a F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gradarea Ty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istem redox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Intervine în sinteza oaselor şi smalţului denta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l imunomodulato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Rol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Efecte benefice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</a:rPr>
              <a:t>Scade riscul d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Boală coronarian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cident vascular cerebr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mplicaţii ale diabetulu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Hipertensiune arterial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Mortalitat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ancer d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sof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avitate bucal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toma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ămâ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RDA, adulţ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Bărbaţi: 90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Arial"/>
              </a:rPr>
              <a:t>Femei: 75 m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b050"/>
                </a:solidFill>
                <a:latin typeface="Arial"/>
              </a:rPr>
              <a:t>Crește în sarcină: 85 mg/z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La fumători, se consideră că necesarul est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 35 mg/zi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mai ma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7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ecesar î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 sarcin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68360" y="1752120"/>
            <a:ext cx="8207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Necesarul </a:t>
            </a:r>
            <a:r>
              <a:rPr b="1" lang="ro-RO" sz="2400" spc="-1" strike="noStrike">
                <a:solidFill>
                  <a:srgbClr val="ff0000"/>
                </a:solidFill>
                <a:latin typeface="Verdana"/>
                <a:ea typeface="Arial"/>
              </a:rPr>
              <a:t>↑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 cu 50-70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  <a:ea typeface="Arial"/>
              </a:rPr>
              <a:t>μ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g/zi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  <a:ea typeface="Arial"/>
              </a:rPr>
              <a:t>750-770 </a:t>
            </a:r>
            <a:r>
              <a:rPr b="1" lang="el-GR" sz="2400" spc="-1" strike="noStrike">
                <a:solidFill>
                  <a:srgbClr val="ff0000"/>
                </a:solidFill>
                <a:latin typeface="Verdana"/>
                <a:ea typeface="Arial"/>
              </a:rPr>
              <a:t>μ</a:t>
            </a:r>
            <a:r>
              <a:rPr b="1" lang="ro-RO" sz="2400" spc="-1" strike="noStrike">
                <a:solidFill>
                  <a:srgbClr val="ff0000"/>
                </a:solidFill>
                <a:latin typeface="Verdana"/>
                <a:ea typeface="Arial"/>
              </a:rPr>
              <a:t>g RAE/zi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(acumulare în ficatul fetal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c00000"/>
                </a:solidFill>
                <a:latin typeface="Verdana"/>
                <a:ea typeface="Arial"/>
              </a:rPr>
              <a:t>UL: 2800-3000 </a:t>
            </a:r>
            <a:r>
              <a:rPr b="1" lang="el-GR" sz="2600" spc="-1" strike="noStrike">
                <a:solidFill>
                  <a:srgbClr val="c0000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c00000"/>
                </a:solidFill>
                <a:latin typeface="Verdana"/>
                <a:ea typeface="Arial"/>
              </a:rPr>
              <a:t>g RAE/zi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(efecte teratogen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c00000"/>
                </a:solidFill>
                <a:latin typeface="Verdana"/>
                <a:ea typeface="Arial"/>
              </a:rPr>
              <a:t>!!! UL se referă doar la </a:t>
            </a:r>
            <a:r>
              <a:rPr b="1" i="1" lang="ro-RO" sz="2600" spc="-1" strike="noStrike" u="sng">
                <a:solidFill>
                  <a:srgbClr val="c00000"/>
                </a:solidFill>
                <a:uFillTx/>
                <a:latin typeface="Verdana"/>
                <a:ea typeface="Arial"/>
              </a:rPr>
              <a:t>retinol</a:t>
            </a:r>
            <a:r>
              <a:rPr b="1" i="1" lang="ro-RO" sz="2600" spc="-1" strike="noStrike">
                <a:solidFill>
                  <a:srgbClr val="c00000"/>
                </a:solidFill>
                <a:latin typeface="Verdana"/>
                <a:ea typeface="Arial"/>
              </a:rPr>
              <a:t>, nu și la beta-caroten!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UL= tolerable upper intake level (limita maxim</a:t>
            </a:r>
            <a:r>
              <a:rPr b="1" i="1" lang="ro-RO" sz="1600" spc="-1" strike="noStrike">
                <a:solidFill>
                  <a:srgbClr val="000000"/>
                </a:solidFill>
                <a:latin typeface="Verdana"/>
                <a:ea typeface="Arial"/>
              </a:rPr>
              <a:t>ă admisă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5A31-7AC4-484E-B1C4-24047233AD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urs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În special, </a:t>
            </a:r>
            <a:r>
              <a:rPr b="1" lang="ro-RO" sz="3000" spc="-1" strike="noStrike">
                <a:solidFill>
                  <a:srgbClr val="ff0000"/>
                </a:solidFill>
                <a:latin typeface="Arial"/>
              </a:rPr>
              <a:t>în produse vegetal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În vegetale, cantitatea cea mai mare se găseşte în perioada de creştere activă, primăvara şi la începutul ver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Utilizată şi ca </a:t>
            </a:r>
            <a:r>
              <a:rPr b="1" lang="ro-RO" sz="3000" spc="-1" strike="noStrike">
                <a:solidFill>
                  <a:srgbClr val="ff0000"/>
                </a:solidFill>
                <a:latin typeface="Arial"/>
              </a:rPr>
              <a:t>aditiv (antioxidant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Surse bune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Vegetale cu frunze ver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Cartof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Fructe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Sucuri de fruc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2" name="Picture 4" descr=""/>
          <p:cNvPicPr/>
          <p:nvPr/>
        </p:nvPicPr>
        <p:blipFill>
          <a:blip r:embed="rId1"/>
          <a:stretch/>
        </p:blipFill>
        <p:spPr>
          <a:xfrm>
            <a:off x="4211640" y="3135240"/>
            <a:ext cx="4572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eficitul de vitamina C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Rar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 u="sng">
                <a:solidFill>
                  <a:srgbClr val="000000"/>
                </a:solidFill>
                <a:uFillTx/>
                <a:latin typeface="Arial"/>
              </a:rPr>
              <a:t>Cauze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Alcoolism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Vârstnici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Fatal, dacă nu se intervin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3000" spc="-1" strike="noStrike">
                <a:solidFill>
                  <a:srgbClr val="c00000"/>
                </a:solidFill>
                <a:latin typeface="Arial"/>
              </a:rPr>
              <a:t>Scorbu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Deficitul în sarcină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isc crescut de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ecţi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uptură prematură de membran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aştere prematur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clampsie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7" name="Content Placeholder 1" descr=""/>
          <p:cNvPicPr/>
          <p:nvPr/>
        </p:nvPicPr>
        <p:blipFill>
          <a:blip r:embed="rId1"/>
          <a:stretch/>
        </p:blipFill>
        <p:spPr>
          <a:xfrm>
            <a:off x="7381800" y="57240"/>
            <a:ext cx="115272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Surse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vitamina A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Morcov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Vegetale cu frunze galbene şi verz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Ulei de palmier roşu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Ardei roşu dul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Portoca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Papay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ic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i din ficat de pe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ş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actat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2303280" cy="2781360"/>
          </a:xfrm>
          <a:prstGeom prst="rect">
            <a:avLst/>
          </a:prstGeom>
          <a:ln w="0">
            <a:noFill/>
          </a:ln>
        </p:spPr>
      </p:pic>
      <p:sp>
        <p:nvSpPr>
          <p:cNvPr id="590" name="TextBox 5"/>
          <p:cNvSpPr/>
          <p:nvPr/>
        </p:nvSpPr>
        <p:spPr>
          <a:xfrm>
            <a:off x="549360" y="5562720"/>
            <a:ext cx="78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!</a:t>
            </a:r>
            <a:r>
              <a:rPr b="0" i="1" lang="en-US" sz="1800" spc="-1" strike="noStrike">
                <a:solidFill>
                  <a:srgbClr val="c00000"/>
                </a:solidFill>
                <a:latin typeface="Verdana"/>
              </a:rPr>
              <a:t> În sarcină: Evitarea suplimentelor de vitamina A și a consumului de fica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00:57Z</dcterms:created>
  <dc:creator>x</dc:creator>
  <dc:description/>
  <dc:language>en-US</dc:language>
  <cp:lastModifiedBy>ada gherbon</cp:lastModifiedBy>
  <dcterms:modified xsi:type="dcterms:W3CDTF">2020-10-11T16:19:48Z</dcterms:modified>
  <cp:revision>229</cp:revision>
  <dc:subject/>
  <dc:title>Slide 1</dc:title>
</cp:coreProperties>
</file>