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D12-A7D9-4EC4-8FD3-3A227B95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Omega-3_fatty_acid" TargetMode="External"/><Relationship Id="rId2" Type="http://schemas.openxmlformats.org/officeDocument/2006/relationships/hyperlink" Target="https://en.wikipedia.org/wiki/Alpha-linolenic_acid" TargetMode="External"/><Relationship Id="rId3" Type="http://schemas.openxmlformats.org/officeDocument/2006/relationships/slide" Target="../slides/slide52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9518-18EC-473F-8B4D-4EE9002B15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Laptele uman contine cantitati mici de fier, care ar fi insuficiente pt sugar, daca nu ar exista aceste depozit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Continut fier lapte uman: 0,35 mg/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C012-6B98-4A27-89E9-C4EC205F96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cosahexaenoic 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H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is an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mega-3 fatty acid</a:t>
            </a:r>
            <a:r>
              <a:rPr b="0" lang="ro-RO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ynthesized from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lpha-linolenic 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or obtained directly from maternal milk (breast milk), fish oil, or algae o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Calibri"/>
              </a:rPr>
              <a:t>Acizi graşi esenţia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omega-3</a:t>
            </a:r>
            <a:r>
              <a:rPr b="1" lang="ro-RO" sz="2000" spc="-1" strike="noStrike">
                <a:solidFill>
                  <a:srgbClr val="ffffff"/>
                </a:solidFill>
                <a:latin typeface="Calibri"/>
              </a:rPr>
              <a:t>: acid alfa linolenic (surse: nuci, pește, ulei de peș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omega-6</a:t>
            </a:r>
            <a:r>
              <a:rPr b="1" lang="ro-RO" sz="2000" spc="-1" strike="noStrike">
                <a:solidFill>
                  <a:srgbClr val="ffffff"/>
                </a:solidFill>
                <a:latin typeface="Calibri"/>
              </a:rPr>
              <a:t>: acid linoleic (ulei de floarea-soarelui, de porumb, de soia</a:t>
            </a: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478A-7B56-41A2-B4B7-51FBF6C38D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2D4-FDA4-46B6-8CCA-2E840C60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634-AE02-4E78-B658-C0939A9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EEBC-6CD6-4A82-9C6C-BB8CAFD8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B5C5-2DC7-47CE-AB0A-1547E7B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9D00F-B336-4181-A9DB-4678BAF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F9EFE-72E2-42B8-88F0-0BAFCB6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3DBC7-1BA7-43DD-9F1B-CDBF04C8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7B3F1-928C-4650-BDA6-08FDAE4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29487-85B8-4BA1-A452-3D38297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B48BE-B81D-4416-95E4-61923EB5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826E3-A63D-43DE-88F0-3182339C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EB529-F7D1-4E44-B5FD-7276B8C1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E2A-7E5E-4D8C-8E47-8E55942C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602FC-5F3B-47F6-B564-4C1F072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90E27-D265-4FDC-AE88-8AFFC37F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315C4-8CD7-4BAD-834A-340460E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6D4F5-E4EF-4824-B6AE-FE28EE52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AC183-5E15-4D5B-AD22-6890525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16AD9-DC6F-4551-8C0B-56567F0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F2123-D26F-4B84-BD5C-6A5E83D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0892C-91F9-414C-8ED3-61A0A08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B88B2-7718-4522-A14E-83136A8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94F3-D15A-4D4B-9A3A-C395FDD1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5C8-4AD9-4D4E-920F-F82540B9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4DF63-7A8C-449C-AA52-BA23A183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5ADC5-56E7-4438-A94F-1F0F7D22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831C3-95A8-4BB6-849B-F4C06240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7C55F-6E69-471B-A8CD-F512039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2082-C3E1-45F2-A7E9-27D8F11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0D992-7B9A-4FBA-AB2E-FA52B1F1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F98A1-E9B7-45F3-9D4C-5B335E1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A876B-00EE-4DFB-8B6E-2ECD0F9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58AAF-9516-4161-84A9-DD24C4FB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E9E62-2B28-4583-8A16-1E31A66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03EA-738E-482C-BC52-D06319F2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CCC01-4385-41A7-894F-280CA855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CE375-2825-4E9C-AB27-41CCDA44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07E4-6B93-4A15-B685-DF613EC8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19504-B34E-419B-B5FD-15FCF41B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B347-B67D-4B9F-BD50-6D679BF2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3560F-D195-4C73-88B8-267C022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73B4-858F-477B-B065-5730D36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C7BA9-64DB-43D6-80AA-6246C17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6D884-14AA-46E4-AD90-B4D415F2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66A5A-4B1D-4CD8-A5B1-77047F7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4EB4-59C4-4319-B750-2E20366F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083CE-7A46-47CF-BAC6-2CE3E7C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1A821-76B5-47AC-B633-5EE9B39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5B2BC-5EAC-4E3E-BDAA-F25842B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8A78F-ECE7-4E05-A32D-4A983602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49B63-11D5-4CA0-B74E-2184F2EA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DC3C0-1A9C-4334-94F3-058D3932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3AD41-6F69-4CDD-9E14-4B98CEF9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AD764-74FC-49C6-A232-CA8F574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62A88-7868-4CBD-BB80-4421051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B98F4-3F2F-4EE5-8AE2-D750694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47AB-2843-4FB9-89C8-A939A02E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D1DFC-1E0D-4619-80F6-A9FEB3E3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2B42E-547E-4308-8558-C01FA1EC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81DA0-27FF-48CD-846F-0B3CE20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C9FD8-49B5-472D-80D4-534FDA73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B9E4D-3642-4FC6-B87D-2AFCE29D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BA0EA-7328-4C25-9214-4A670110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333DB-9FCC-4557-BAF4-75C21019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09BD-E1BE-4FE9-BF8B-E760878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6C2E-6243-47C3-8F65-DD13565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4FA3-058A-4690-A7AD-10203630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08B9-D800-48D6-B335-7F576E8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254-38CC-47FC-8BD3-2BEA4DC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00D-98B5-4E8B-8C5B-09DD84F9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8BAE-528F-4375-9258-215559B1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AD94-49BC-4987-A5E0-CC544E6B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82B5-2AE3-41F6-B1C4-4CE25800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E467-EC0A-411A-B4A8-BEDD0223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3107-4BD0-4C07-9DE9-F53E70EA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6B97-2972-4817-9D6E-148FB47E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30B2-04E7-446E-800A-5DE0101E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6225-DF40-4F28-8E1E-81D005E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9B78-C7A6-4C8F-85E8-73556B7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0D4-6032-4DEE-8788-8D83D051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F9E3-1CC0-41ED-82D1-7F22049F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1ECB-836C-49CE-9D8D-2235F3F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083E-757C-4E0C-8970-9B669D5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B03D-C36B-462C-8DD7-1411650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8562-E405-414E-918D-D0D2769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1909-A1D5-4AE3-AD0D-2F6DDE1D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7A55-FC19-435B-ABC3-3C154E03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4ECD0-0A87-4DC2-BEE6-548957EF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6F69-6280-4724-8641-6F06360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2E65-389D-4C62-A950-29F4EA82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B9B-8D48-4BE4-BF59-3649FB1F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FDD8-0A99-4DD4-8380-24BEB85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B646-317E-49C7-8EE3-78441812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2698-DC0D-49D1-AC4C-DDA6E4E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F5B3-D07E-4BA2-AB1D-A753C89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DE9A-BCE6-4F36-BD02-964326B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8E04-16DC-4F7D-BC6F-417CE02D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2B70-749A-48CD-AF2B-0BF7E08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90B9-27C6-4356-B909-ED53852D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E240-16F6-4649-8C56-E246049C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2881-E21E-421C-96EF-C0C75DC8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46B-233A-4BCC-B2A2-CFCFB53A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1001-8D5A-4184-B19B-D7C8E85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87F2-7546-4483-BAEC-4040811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6085D-71E1-4EA6-A765-288DD2D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A34F-4795-4696-BE6D-5A9E03D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88C4-EAFF-46D5-8778-ED220FC2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1E81-BF6F-46D7-AC4B-7033C79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D3324-D279-40BD-B1EC-EEC10D4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D885-7694-4E39-A70D-1217866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301C-E257-400F-B9C0-6FAA5B31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BADF-3D9A-4E46-8E14-BE735270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0A8-03E2-4926-8067-0101970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132C8-0E8A-4D9C-B0AD-F46999E7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15D6-2F48-451C-AE3A-E2C49D9B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5EF0-F5A3-4F25-A764-171C279F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4123C-608A-4A34-ADC8-50CB5D7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777B-3C80-4EB0-8CA3-0AC301E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3F35-0345-4598-A90A-F7F4331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808A-755F-47AC-AB69-1F1B85EE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058F-ADA9-4242-B467-BF68B7A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140E-D2DB-49BB-96BF-F719C9E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FA2A-9B7F-466D-86CF-EEB3A20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5D2-EB4A-4338-BAF5-5875336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6C72-F8D5-4C27-9D3E-A515F47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8A59-E9C5-4CED-93D0-A4638110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01EE-4E64-4B75-AB1C-58F4AA9E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D401-E00F-476A-963E-D3B392E0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15BF6-A335-48BC-8BAF-A3842C1A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0F1D-DA39-4828-894F-EE2429A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47E9-1644-4F08-871A-2967FD5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AD781-B1E4-4B18-A74B-DCDCE697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07D2-2C94-40A2-8A0C-E61F0426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2F481-C566-4B62-BC94-7F005CC8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327-0C39-42E2-AED3-13D44C6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C408-4321-4966-AC5E-3A3E0B1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BC06B-7477-4CAB-A4F4-4912F67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4379-CB2C-4870-BE76-6445F8A9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DFE27-31E2-4127-95AB-3B62904C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047F-EFD4-4712-A0E2-0B0B3D1E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FB343-E7F7-4DF1-97EC-6C526FE4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6C58-7DCB-4CAE-9CC6-AA7C3072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7224-209E-4A9C-96FF-3A489329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C5549-5035-46D2-850B-97C3360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048B4-3B0A-446F-A833-D409ACD8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5B4-E3D2-429F-8BC7-C8D6B20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1F43-8448-460D-836F-F743684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1FF81-89B9-49D8-90C5-4BEF2C08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4DE16-7D72-4E44-899D-D3573D0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C914-69EA-47F9-97FA-9A6199A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20CD-B7AF-4D67-A058-4ED20DD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F880-5598-4986-BB92-A3C7AAD5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C1AB-3E07-4F4C-95A4-901A2636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780AB-271D-4695-8E3E-C69B88AC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DFD2C-626D-4913-8D56-09F74A3C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DCDCD-489A-4002-B7FF-C7CCCF17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BD9-5608-4F5B-B520-1DD9EB30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80AE-44EB-4833-984F-329DA9AA6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6334-1494-433B-8F0C-38D69124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86C-4037-4A50-8B19-45385E817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4AF-3723-4404-9D40-4F625471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E966-96F9-49DF-9D3C-058470F8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AF2A-0CAE-409B-BED1-9750EFFC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D7E-21EA-4FF8-8577-491EA258A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CB7A-BC98-47B1-9C65-601BC89F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6D85-52F9-4313-86D1-EDB8EB2C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876-6E2A-44B5-B41D-FF5322D5B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D5C-A25D-40AC-B7A8-071183ED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0042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NUTRI</a:t>
            </a:r>
            <a:r>
              <a:rPr b="1" lang="ro-RO" sz="6000" spc="-1" strike="noStrike">
                <a:solidFill>
                  <a:srgbClr val="000000"/>
                </a:solidFill>
                <a:latin typeface="Verdana"/>
              </a:rPr>
              <a:t>ŢIA MAMEI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57200" y="1700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oenzim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ansferul grup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ilor cu 1 atom de carbo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ti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rmil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za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urinelor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– ARN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imidinei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 – AD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1"/>
          <p:cNvSpPr/>
          <p:nvPr/>
        </p:nvSpPr>
        <p:spPr>
          <a:xfrm>
            <a:off x="611280" y="981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lul folatulu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oarte important pentru eritrocit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mportant în perioade de creşte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inteza metioninei din homocistein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611280" y="981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lul folatulu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rse de fol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68360" y="1628640"/>
            <a:ext cx="40384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unze verz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747"/>
                </a:solidFill>
                <a:latin typeface="Verdana"/>
              </a:rPr>
              <a:t>Spana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lat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u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z</a:t>
            </a: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 ver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sole ver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Sparangh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4747"/>
                </a:solidFill>
                <a:latin typeface="Verdana"/>
              </a:rPr>
              <a:t>Brocco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747"/>
                </a:solidFill>
                <a:latin typeface="Verdana"/>
              </a:rPr>
              <a:t>Drojdi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meni de cere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abe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reale integr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Nuts (</a:t>
            </a: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arahide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4747"/>
                </a:solidFill>
                <a:latin typeface="Verdana"/>
              </a:rPr>
              <a:t>Fasole</a:t>
            </a:r>
            <a:r>
              <a:rPr b="1" lang="en-US" sz="2000" spc="-1" strike="noStrike">
                <a:solidFill>
                  <a:srgbClr val="ff4747"/>
                </a:solidFill>
                <a:latin typeface="Verdana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Cartof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42920" y="1773000"/>
            <a:ext cx="40388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747"/>
                </a:solidFill>
                <a:latin typeface="Verdana"/>
              </a:rPr>
              <a:t>Fic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lte 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ga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Lact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r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ructe de m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uct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şi sucuri de fruc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toc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de folat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anifest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ăr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8360" y="177300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747"/>
                </a:solidFill>
                <a:latin typeface="Verdana"/>
              </a:rPr>
              <a:t>Anemie megaloblastic</a:t>
            </a:r>
            <a:r>
              <a:rPr b="1" lang="ro-RO" sz="2800" spc="-1" strike="noStrike">
                <a:solidFill>
                  <a:srgbClr val="ff4747"/>
                </a:solidFill>
                <a:latin typeface="Verdana"/>
              </a:rPr>
              <a:t>ă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lbur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i digestiv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trofia mucoasei digesti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l (glosita Hun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astric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(gastrita atrofic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stina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lorhidri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68360" y="1699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4747"/>
                </a:solidFill>
                <a:latin typeface="Verdana"/>
              </a:rPr>
              <a:t>Î</a:t>
            </a:r>
            <a:r>
              <a:rPr b="1" lang="en-US" sz="2800" spc="-1" strike="noStrike">
                <a:solidFill>
                  <a:srgbClr val="ff4747"/>
                </a:solidFill>
                <a:latin typeface="Verdana"/>
              </a:rPr>
              <a:t>N SARCIN</a:t>
            </a:r>
            <a:r>
              <a:rPr b="1" lang="ro-RO" sz="2800" spc="-1" strike="noStrike">
                <a:solidFill>
                  <a:srgbClr val="ff4747"/>
                </a:solidFill>
                <a:latin typeface="Verdana"/>
              </a:rPr>
              <a:t>Ă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ort spont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ecte congenita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ecte ale tubului neural la copil (spin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bifid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Naştere prematur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Greutate mică la naşte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itle 1"/>
          <p:cNvSpPr/>
          <p:nvPr/>
        </p:nvSpPr>
        <p:spPr>
          <a:xfrm>
            <a:off x="539640" y="7650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eficitul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de folat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anifest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ăr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Acidul folic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Înainte de concepţie (cel puţin o lun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În primele luni ale sarcini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educe riscul defectelor neurologic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3c3c"/>
                </a:solidFill>
                <a:latin typeface="Verdana"/>
              </a:rPr>
              <a:t>+400 </a:t>
            </a:r>
            <a:r>
              <a:rPr b="1" lang="el-GR" sz="2600" spc="-1" strike="noStrike">
                <a:solidFill>
                  <a:srgbClr val="ff3c3c"/>
                </a:solidFill>
                <a:latin typeface="Verdana"/>
              </a:rPr>
              <a:t>μ</a:t>
            </a:r>
            <a:r>
              <a:rPr b="1" lang="ro-RO" sz="2600" spc="-1" strike="noStrike">
                <a:solidFill>
                  <a:srgbClr val="ff3c3c"/>
                </a:solidFill>
                <a:latin typeface="Verdana"/>
              </a:rPr>
              <a:t>g/zi suplimentar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aţă de cel alimenta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CD9-6772-4C24-9B34-ACC4BA6050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00"/>
                </a:solidFill>
                <a:latin typeface="Verdana"/>
              </a:rPr>
              <a:t>Vitamina B</a:t>
            </a:r>
            <a:r>
              <a:rPr b="1" lang="ro-RO" sz="3200" spc="-1" strike="noStrike" baseline="-25000">
                <a:solidFill>
                  <a:srgbClr val="990000"/>
                </a:solidFill>
                <a:latin typeface="Verdana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baseline="-25000">
                <a:solidFill>
                  <a:srgbClr val="990000"/>
                </a:solidFill>
                <a:latin typeface="Verdana"/>
              </a:rPr>
              <a:t>(cobalamina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F05A-CDA2-4139-9A83-0F9345A756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rile vitaminei B1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n producerea acizilor nucleic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tervine în diviziunea celular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oarte important în formarea eritrocitelor, împreună cu Fe şi acid foli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Intervine în formarea tecii de mielin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3BF7-3EFA-48B9-B301-0C2BF23166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urse de vitamina B1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68360" y="1831680"/>
            <a:ext cx="84247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12 e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st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sintetiza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de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croorganism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lora intestin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 rumeg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arel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Se g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se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ş</a:t>
            </a: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te 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î</a:t>
            </a:r>
            <a:r>
              <a:rPr b="1" lang="en-US" sz="2200" spc="-1" strike="noStrike">
                <a:solidFill>
                  <a:srgbClr val="ff3c3c"/>
                </a:solidFill>
                <a:latin typeface="Verdana"/>
              </a:rPr>
              <a:t>n produsele de origine animal</a:t>
            </a: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3c3c"/>
                </a:solidFill>
                <a:latin typeface="Verdana"/>
              </a:rPr>
              <a:t>Lipseşte din produsele de origine vegetal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olactovegetarienii au un aport corespunz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r de vi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amin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B12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getarienii necesi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dministrarea s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â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l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 suplimentelor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 vitamina B1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Adulţi: 2,4 </a:t>
            </a:r>
            <a:r>
              <a:rPr b="1" lang="el-GR" sz="2600" spc="-1" strike="noStrike">
                <a:solidFill>
                  <a:srgbClr val="ff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arcină: 2,8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Lactaţie: 2,8 </a:t>
            </a:r>
            <a:r>
              <a:rPr b="1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μ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g/z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4747"/>
                </a:solidFill>
                <a:latin typeface="Verdana"/>
              </a:rPr>
              <a:t>Sănătatea preconcep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Modificări matern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Creşterea maternă în greu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Necesar energetic 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şi nutri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lţi facto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mplicaţii şi problem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oncluz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4E88-DBC0-4F49-87F3-A0C1CC4368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Vitamina B1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educe riscul defectelor neurolog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Suplimentare importantă în caz de diete vegetarien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7F3-37EB-4069-9D3E-30A61AC81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Verdana"/>
              </a:rPr>
              <a:t>Fieru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Verdana"/>
              </a:rPr>
              <a:t>(Fe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787B-61CA-4792-B4A3-C50D95776C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ieru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antitatea totală de Fe din corp: 3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747"/>
                </a:solidFill>
                <a:latin typeface="Verdana"/>
              </a:rPr>
              <a:t>7</a:t>
            </a:r>
            <a:r>
              <a:rPr b="1" lang="ro-RO" sz="2200" spc="-1" strike="noStrike">
                <a:solidFill>
                  <a:srgbClr val="ff4747"/>
                </a:solidFill>
                <a:latin typeface="Verdana"/>
              </a:rPr>
              <a:t>0%: eritrocit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Restul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4747"/>
                </a:solidFill>
                <a:latin typeface="Verdana"/>
              </a:rPr>
              <a:t>Stocat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în:</a:t>
            </a:r>
            <a:r>
              <a:rPr b="1" lang="ro-RO" sz="2200" spc="-1" strike="noStrike">
                <a:solidFill>
                  <a:srgbClr val="ff4747"/>
                </a:solidFill>
                <a:latin typeface="Verdana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icat, splină, măduvă osoas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4747"/>
                </a:solidFill>
                <a:latin typeface="Verdana"/>
              </a:rPr>
              <a:t>(20%)</a:t>
            </a:r>
            <a:r>
              <a:rPr b="1" lang="ro-RO" sz="2200" spc="-1" strike="noStrike">
                <a:solidFill>
                  <a:srgbClr val="ff4747"/>
                </a:solidFill>
                <a:latin typeface="Verdana"/>
              </a:rPr>
              <a:t> – f. important în primele 6 luni de viață ale copilulu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ioglobina din ţesutul muscula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5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Metaloenzim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5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Fe legat de transferina d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o-RO" sz="2200" spc="-1" strike="noStrike">
                <a:solidFill>
                  <a:srgbClr val="000000"/>
                </a:solidFill>
                <a:latin typeface="Verdana"/>
              </a:rPr>
              <a:t>â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9866-37E6-4E22-8314-FD8C58EF75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Rolul F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Esenţial pentru aproape toate organismele cunoscu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c3c"/>
                </a:solidFill>
                <a:latin typeface="Verdana"/>
              </a:rPr>
              <a:t>Transportul și stocarea oxigenulu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face parte din structura hemoglobinei, unde este încorporat în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complexul he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Hemul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un component esenţial al proteinelor transportatoare de oxig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Hemoglobin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Mioglobin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Leghemoglobină (în leguminoa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bsorbţia F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n intestinul subţi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intr-un aport uzual de 10-15 mg/zi, se absorb doar 1-2 m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e din alimente - form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ier </a:t>
            </a:r>
            <a:r>
              <a:rPr b="1" lang="ro-RO" sz="2400" spc="-1" strike="noStrike">
                <a:solidFill>
                  <a:srgbClr val="ff3c3c"/>
                </a:solidFill>
                <a:latin typeface="Verdana"/>
              </a:rPr>
              <a:t>hem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(în produse animal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Fier </a:t>
            </a:r>
            <a:r>
              <a:rPr b="1" lang="ro-RO" sz="2400" spc="-1" strike="noStrike">
                <a:solidFill>
                  <a:srgbClr val="ff3c3c"/>
                </a:solidFill>
                <a:latin typeface="Verdana"/>
              </a:rPr>
              <a:t>non-hem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(în produse vegetal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c3c"/>
                </a:solidFill>
                <a:latin typeface="Verdana"/>
              </a:rPr>
              <a:t>Lactoferină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(la sugari alimentaţi natura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 Fe la adulţ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DA (mg/zi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femei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bărbaţ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9-30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8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31-50 ani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18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1-70 ani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este 70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arența de fie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arenţa sa – risc de anemie feripriv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3c3c"/>
                </a:solidFill>
                <a:latin typeface="Verdana"/>
              </a:rPr>
              <a:t>Suplimentare cu fier: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6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În caz de istoric de anemie feripriv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6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acă rezervele materne sunt scăzute înainte de sarcin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CE98-D46A-4A9A-A27A-5A6F6B74AA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200" spc="-1" strike="noStrike">
                <a:solidFill>
                  <a:srgbClr val="cc0000"/>
                </a:solidFill>
                <a:latin typeface="Verdana"/>
              </a:rPr>
              <a:t>Greutatea normală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Fertili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rognosticul sarcin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Lactaţi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4216-FCE0-4DEF-A175-2D33657764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14200" y="1822320"/>
            <a:ext cx="8786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OB preconcepţională – </a:t>
            </a:r>
            <a:r>
              <a:rPr b="1" lang="ro-RO" sz="2600" spc="-1" strike="noStrike">
                <a:solidFill>
                  <a:srgbClr val="ff4747"/>
                </a:solidFill>
                <a:latin typeface="Verdana"/>
              </a:rPr>
              <a:t>probleme matern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HT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Z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eclanşare artificială de travali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Nevoia de cezariană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Dificultăţi la iniţierea alăptări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DE68-6083-48F7-9AB5-0D38913F16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640" y="1844280"/>
            <a:ext cx="8291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OB preconcepţională – </a:t>
            </a:r>
            <a:r>
              <a:rPr b="1" lang="ro-RO" sz="2600" spc="-1" strike="noStrike">
                <a:solidFill>
                  <a:srgbClr val="ff4747"/>
                </a:solidFill>
                <a:latin typeface="Verdana"/>
              </a:rPr>
              <a:t>probleme fetal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Macrosomie 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APGAR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↓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Distocie de umăr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OB infantilă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Malformaţii 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EB4D-4AEF-4453-8D47-47D920CE22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Sănătatea preconcep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matern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reşterea maternă în greu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ecesar energetic şi nutri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Alţi facto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licaţii şi problem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ncluz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7025-3842-4AA3-B30A-FFC3C6FF25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Tratamentul bolilor cronic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H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Z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28E-8091-4848-BF70-3873020179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Content Placeholder 1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2880000" cy="3703320"/>
          </a:xfrm>
          <a:prstGeom prst="rect">
            <a:avLst/>
          </a:prstGeom>
          <a:ln w="0">
            <a:noFill/>
          </a:ln>
        </p:spPr>
      </p:pic>
      <p:sp>
        <p:nvSpPr>
          <p:cNvPr id="64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6D7-D90C-402F-B3B3-9840C8D705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Sănătatea preconcep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reşterea maternă în greu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ecesar energetic şi nutri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Alţi facto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licaţii şi problem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ncluz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B8FD-5C65-4AC7-BF48-7FE4B44A9D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umeroas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Preco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6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Adaptative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BC73-02A1-4AD0-8D9B-533973D237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Content Placeholder 4" descr=""/>
          <p:cNvPicPr/>
          <p:nvPr/>
        </p:nvPicPr>
        <p:blipFill>
          <a:blip r:embed="rId1"/>
          <a:stretch/>
        </p:blipFill>
        <p:spPr>
          <a:xfrm>
            <a:off x="774720" y="1752480"/>
            <a:ext cx="7585200" cy="4267440"/>
          </a:xfrm>
          <a:prstGeom prst="rect">
            <a:avLst/>
          </a:prstGeom>
          <a:ln w="0">
            <a:noFill/>
          </a:ln>
        </p:spPr>
      </p:pic>
      <p:sp>
        <p:nvSpPr>
          <p:cNvPr id="65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722-DD10-4DD0-8DAF-3265B111E1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c00000"/>
                </a:solidFill>
                <a:latin typeface="Verdana"/>
              </a:rPr>
              <a:t>Modificări sanguine: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</a:rPr>
              <a:t>Volemia </a:t>
            </a:r>
            <a:r>
              <a:rPr b="1" lang="ro-RO" sz="2800" spc="-1" strike="noStrike">
                <a:solidFill>
                  <a:srgbClr val="000000"/>
                </a:solidFill>
                <a:latin typeface="Verdana"/>
                <a:ea typeface="Arial"/>
              </a:rPr>
              <a:t>↑ cu 45-50% (săpt. 12 → săpt. 34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  <a:ea typeface="Arial"/>
              </a:rPr>
              <a:t>Masa eritrocitară ↑ cu 33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Verdana"/>
                <a:ea typeface="Arial"/>
              </a:rPr>
              <a:t>Hematocritul (↓ până la sfârşitul trimestrului II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91B4-BEAE-4616-B67E-DFE043BE5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Modificări cardiovasculare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DC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↑ cu 40% (prin volumul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bătai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Dimensiunile cordului ↑ cu 12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TA ↓ uşor (mai ales TAD, cu 5-10 mmHg), revenind la normal înainte de terme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2D9-664B-4E92-B83B-592C5A216F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21589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614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Verdana"/>
              </a:rPr>
              <a:t>Modificări respiratorii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PT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↓ cu 5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VR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↓ cu 20%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VC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 (curent)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 ↑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Frecvenţa respiratorie ↑ uşor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440" indent="-36144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Ventilaţia alveolară ↑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333A-1F61-475E-9FE8-09C14A5722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1" descr=""/>
          <p:cNvPicPr/>
          <p:nvPr/>
        </p:nvPicPr>
        <p:blipFill>
          <a:blip r:embed="rId1"/>
          <a:stretch/>
        </p:blipFill>
        <p:spPr>
          <a:xfrm>
            <a:off x="4892760" y="2487600"/>
            <a:ext cx="35668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Modificări renal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Rinichii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↑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 în dimensiuni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Debitul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G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↑ cu 50%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Debitul sanguin renal ↑ cu 25-50%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↑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excreţia glucozei, AA şi vitaminelor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Reninemia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  <a:ea typeface="Arial"/>
              </a:rPr>
              <a:t>↑ (dar rezistenţă la angiotensina II)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Ureterele se alungesc şi se lărgesc (progesteron)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Infecţii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5C6-38BA-4658-8999-23F3FF3938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6" name="Picture 1" descr=""/>
          <p:cNvPicPr/>
          <p:nvPr/>
        </p:nvPicPr>
        <p:blipFill>
          <a:blip r:embed="rId1"/>
          <a:stretch/>
        </p:blipFill>
        <p:spPr>
          <a:xfrm>
            <a:off x="6372360" y="1104840"/>
            <a:ext cx="2601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Modificări gastrointestinal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↑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pofta de mâncare (± disgravidi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↓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motilitatea (progesteron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↑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, motilină ↓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↑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durata de tranzit gastrointestinal (fără modificări ale evacuării gastrice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Evacuare incompletă a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colecistulu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1D7-5AF4-4516-B982-25540D1AF3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6445080" y="4292640"/>
            <a:ext cx="2109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NOŢIUNI INTRODUCTIVE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arcină sănătoasă” = fără probleme fizice sau psihologice la mamă sau făt + naşterea unui copil sănăto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Sarcina sănătoasă = ţintă majoră a politicilor sanita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b0000"/>
                </a:solidFill>
                <a:latin typeface="Verdana"/>
              </a:rPr>
              <a:t>Îngrijirea prenatală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– element esenţial pentru ameliorarea sănătăţii populaţie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b0000"/>
                </a:solidFill>
                <a:latin typeface="Verdana"/>
              </a:rPr>
              <a:t>Alimentaţia – rol esenţia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F4DC-EBE8-407F-80B8-148A609C7C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MODIFICĂRI MATERNE ÎN SARCIN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640" y="184428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Verdana"/>
              </a:rPr>
              <a:t>Modificări metabolic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↑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metabolismul bazal (cu 15-20%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↑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utilizarea acizilor graşi (fătul consumă 50-70% glucoză, 20% AA, restul lipid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ADA3-965F-4712-9628-7F63DED822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Sănătatea preconcep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matern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reşterea maternă în greu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ecesar energetic şi nutri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Alţi facto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licaţii şi problem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ncluz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16A4-26E0-4FDD-BF78-A532391DD3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CREŞTEREA MATERNĂ ÎN GREUTA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Influenţează greutatea produsului de concepţie şi prognosticul sarcini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reştere 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↓ = risc d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  <a:ea typeface="Arial"/>
              </a:rPr>
              <a:t>Creştere fetală ↓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  <a:ea typeface="Arial"/>
              </a:rPr>
              <a:t>Naştere prematură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Verdana"/>
                <a:ea typeface="Arial"/>
              </a:rPr>
              <a:t>Modificări de tub neura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4CF-0307-454D-B0DB-FCBC0ABC1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CREŞTEREA MATERNĂ ÎN GREUTA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Creştere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Arial"/>
              </a:rPr>
              <a:t> = risc de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Obezitate infantil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  <a:ea typeface="Arial"/>
              </a:rPr>
              <a:t>Obezitate maternă postpartum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4D7-6C37-4EA4-AC56-C1A46AAAAB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CREŞTEREA MATERNĂ ÎN GREUTA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Recomandări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539640" y="2421000"/>
          <a:ext cx="8353440" cy="3598920"/>
        </p:xfrm>
        <a:graphic>
          <a:graphicData uri="http://schemas.openxmlformats.org/drawingml/2006/table">
            <a:tbl>
              <a:tblPr/>
              <a:tblGrid>
                <a:gridCol w="2889360"/>
                <a:gridCol w="2800440"/>
                <a:gridCol w="266364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C preconcepţ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ştere recomandată (k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e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a creşteri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kg/săp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ebe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5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,8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5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6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1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Text Box 37"/>
          <p:cNvSpPr/>
          <p:nvPr/>
        </p:nvSpPr>
        <p:spPr>
          <a:xfrm>
            <a:off x="68436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=trim. II şi I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098-5391-40B6-9AFC-5455530B4C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Sănătatea preconcep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matern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reşterea maternă în greu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Necesar energetic şi nutri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Alţi facto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licaţii şi problem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ncluz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32A9-2D7B-44FB-AB37-C0916D9BCD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66640" y="1699920"/>
            <a:ext cx="8220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Metabolism baz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↑ săptămânal cu 8 kcal în trim. II şi III; fătul consumă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56 kcal/kg/zi în trim. III, adică ½ din creştere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Activitate fizic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Termoregl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AD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punerea de P şi L materne (180 kcal/zi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  <a:ea typeface="Arial"/>
              </a:rPr>
              <a:t>în trim. II şi III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EFBF-0A10-4398-ADEE-59F036FEB3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ENERGETI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90000"/>
              </a:lnSpc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Verdana"/>
              </a:rPr>
              <a:t>+350-400 kcal/zi în trim. II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Verdana"/>
              </a:rPr>
              <a:t>+400-500 kcal/zi în trim. III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90000"/>
              </a:lnSpc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ff0000"/>
                </a:solidFill>
                <a:latin typeface="Verdana"/>
              </a:rPr>
              <a:t>Se urmăreşte creşterea ponderală!!!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91D8-96E8-4A94-A1AE-A1D0640A9B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2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7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PROTEI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Proteinele – componente structurale major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Turn-over crescut în sarcină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Acumulare în făt, placentă, uter, lichid amniotic, sânge, muşchi scheletic mater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12E-23D5-46D2-9C5A-7235F798B8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PROTEI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66280" y="17143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+1 g/zi în </a:t>
            </a: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trim 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+10 g/zi în </a:t>
            </a: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trim 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+31 g/zi în </a:t>
            </a: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trim I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b0000"/>
                </a:solidFill>
                <a:latin typeface="Verdana"/>
              </a:rPr>
              <a:t>1,1 g/kg corp Gi sarcină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b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8b0000"/>
                </a:solidFill>
                <a:latin typeface="Verdana"/>
              </a:rPr>
              <a:t>(trim II și III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B016-401E-4A04-B804-F7F7829DBC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oţiuni introductiv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Modificări materne în sarcin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reşterea maternă în greutat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Necesar energetic şi nutriţiona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Alţi factor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mplicaţii şi problem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Verdana"/>
              </a:rPr>
              <a:t>Concluzi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DC06-BDBF-41DC-87B9-E8A20563D4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DE CARBOHIDRAŢ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Carbohidraţii – rol energetic (sistem nervos, eritrocite, leucocite, medulara renală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b0000"/>
                </a:solidFill>
                <a:latin typeface="Verdana"/>
              </a:rPr>
              <a:t>Sursă majoră energetică pentru făt (50-70%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17-26 g/z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am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  <a:ea typeface="Arial"/>
              </a:rPr>
              <a:t>→→→→Fă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6D6E-3C47-40CC-BE95-E75DBF3227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DE CARBOHIDRAŢ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DA: </a:t>
            </a:r>
            <a:r>
              <a:rPr b="1" lang="ro-RO" sz="3000" spc="-1" strike="noStrike">
                <a:solidFill>
                  <a:srgbClr val="ff0000"/>
                </a:solidFill>
                <a:latin typeface="Verdana"/>
              </a:rPr>
              <a:t>175 g/z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6B1-3943-4F0E-BFC6-580A216405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NECESARUL DE LIP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57120" y="1844280"/>
            <a:ext cx="8391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Lipidele: energie, absorbţia vit. liposolubi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Creierul fetal foloseşte mult DHA (sintetizat din acid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-linolenic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Nu e necesară suplimentarea maternă cu DH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I: 13 g/zi ac. linoleic (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-6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1,4 g/zi acid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-linolenic (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-3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9F99975-69E8-4B8F-A5BF-57C1F1908D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ntent Placeholder 4" descr=""/>
          <p:cNvPicPr/>
          <p:nvPr/>
        </p:nvPicPr>
        <p:blipFill>
          <a:blip r:embed="rId1"/>
          <a:stretch/>
        </p:blipFill>
        <p:spPr>
          <a:xfrm>
            <a:off x="2305080" y="1752480"/>
            <a:ext cx="4524480" cy="441324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4965-8355-4333-8418-41A538A2CA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66640" y="184428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b0000"/>
                </a:solidFill>
                <a:latin typeface="Verdana"/>
              </a:rPr>
              <a:t>Factor cheie pentru o sarcin</a:t>
            </a:r>
            <a:r>
              <a:rPr b="1" i="1" lang="ro-RO" sz="3000" spc="-1" strike="noStrike">
                <a:solidFill>
                  <a:srgbClr val="8b0000"/>
                </a:solidFill>
                <a:latin typeface="Verdana"/>
              </a:rPr>
              <a:t>ă</a:t>
            </a:r>
            <a:r>
              <a:rPr b="1" i="1" lang="en-US" sz="3000" spc="-1" strike="noStrike">
                <a:solidFill>
                  <a:srgbClr val="8b0000"/>
                </a:solidFill>
                <a:latin typeface="Verdana"/>
              </a:rPr>
              <a:t> s</a:t>
            </a:r>
            <a:r>
              <a:rPr b="1" i="1" lang="ro-RO" sz="3000" spc="-1" strike="noStrike">
                <a:solidFill>
                  <a:srgbClr val="8b0000"/>
                </a:solidFill>
                <a:latin typeface="Verdana"/>
              </a:rPr>
              <a:t>ă</a:t>
            </a:r>
            <a:r>
              <a:rPr b="1" i="1" lang="en-US" sz="3000" spc="-1" strike="noStrike">
                <a:solidFill>
                  <a:srgbClr val="8b0000"/>
                </a:solidFill>
                <a:latin typeface="Verdana"/>
              </a:rPr>
              <a:t>n</a:t>
            </a:r>
            <a:r>
              <a:rPr b="1" i="1" lang="ro-RO" sz="3000" spc="-1" strike="noStrike">
                <a:solidFill>
                  <a:srgbClr val="8b0000"/>
                </a:solidFill>
                <a:latin typeface="Verdana"/>
              </a:rPr>
              <a:t>ă</a:t>
            </a:r>
            <a:r>
              <a:rPr b="1" i="1" lang="en-US" sz="3000" spc="-1" strike="noStrike">
                <a:solidFill>
                  <a:srgbClr val="8b0000"/>
                </a:solidFill>
                <a:latin typeface="Verdana"/>
              </a:rPr>
              <a:t>toas</a:t>
            </a:r>
            <a:r>
              <a:rPr b="1" i="1" lang="ro-RO" sz="3000" spc="-1" strike="noStrike">
                <a:solidFill>
                  <a:srgbClr val="8b0000"/>
                </a:solidFill>
                <a:latin typeface="Verdana"/>
              </a:rPr>
              <a:t>ă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arcină programată – OSV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Sarcini neprogramate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 ≈50%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Verdana"/>
              </a:rPr>
              <a:t>Orice femeie cu potenţial reproductiv – stil de viață optim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ECB2-09B0-48F4-931F-B8978D9478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Verdana"/>
              </a:rPr>
              <a:t>SĂNĂTATEA PRECONCEPŢIONALĂ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b0000"/>
                </a:solidFill>
                <a:latin typeface="Verdana"/>
              </a:rPr>
              <a:t>Acidul foli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1DD-CFC7-4FA3-A0BF-37659E652F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c3c"/>
                </a:solidFill>
                <a:latin typeface="Verdana"/>
              </a:rPr>
              <a:t>formele natural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latul din alim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just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c3c"/>
                </a:solidFill>
                <a:latin typeface="Verdana"/>
              </a:rPr>
              <a:t>forma monoglutama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, care se foloseşte în fortificarea alimentelor şi în suplimente</a:t>
            </a:r>
            <a:r>
              <a:rPr b="1" lang="ro-RO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id fol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itle 1"/>
          <p:cNvSpPr/>
          <p:nvPr/>
        </p:nvSpPr>
        <p:spPr>
          <a:xfrm>
            <a:off x="57456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rmenul de folat inclu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Acidul folic nu este biologic activ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Derivaţii săi – biologic activ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tetrahidrofol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0:57Z</dcterms:created>
  <dc:creator>x</dc:creator>
  <dc:description/>
  <dc:language>en-US</dc:language>
  <cp:lastModifiedBy>Teo Sorescu</cp:lastModifiedBy>
  <dcterms:modified xsi:type="dcterms:W3CDTF">2019-09-17T21:14:02Z</dcterms:modified>
  <cp:revision>177</cp:revision>
  <dc:subject/>
  <dc:title>Slide 1</dc:title>
</cp:coreProperties>
</file>