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F7F-49EC-4483-8051-9CA851CD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B5F-BA59-4F59-B210-F3775F6C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47A-8A22-45E4-A7B9-8063A0F0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90C-59F1-492A-B2D4-240EE697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22F-90B7-4A62-9A43-F526206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0B6-48C5-4F85-B4DC-5521C158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F01-CDF6-4EC5-91AD-10D5F875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A20-DF3F-4F9E-81BE-0C56E50F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372-A9FB-48B9-BD31-BD53C8C8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D31-77B8-4890-B841-5B1E6346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8D1-C597-4EE7-B640-3E8F31B7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C8D-324D-4FAB-84BE-1EE015C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8536-CECA-4C36-9419-CA9A26C93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"/>
              </a:rPr>
              <a:t>Lipid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Exemples d'acides gras saturé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L'acide lau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2 atomes de car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uile de coco, huile de palme, lait mat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L'acide myri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 atomes de car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ait de vache, produits lait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L'acide palmi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 atomes de car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ile de palme, vi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cide stéa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atomes de car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ande, beurre de cac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Athérogénicité par ordre décroissant d'A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'acide myri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n grande quantité dans le beu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'acide palm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 plus AGS hypercholestérolémiques communs dans l'ali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présente 60% de la contribution totale d'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plupart proviennent de sources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'acide lau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résent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uile de noix de c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huile de graines de pal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naturel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ments riches en acides gras satu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P</a:t>
            </a:r>
            <a:r>
              <a:rPr b="1" lang="ro-RO" sz="2800" spc="-1" strike="noStrike">
                <a:solidFill>
                  <a:srgbClr val="ff9999"/>
                </a:solidFill>
                <a:latin typeface="Arial"/>
              </a:rPr>
              <a:t>roduits anima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oduits laitiers: crème, fromage, beurre, l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"Graisses": saindoux, ba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ande grasse: agneau, bœuf, po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9999"/>
                </a:solidFill>
                <a:latin typeface="Arial"/>
              </a:rPr>
              <a:t>Produits végéta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uile de noix de c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uile de pa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uantité quotidienne recommandé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2349000"/>
            <a:ext cx="7201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&lt;10% des besoins caloriques (&lt;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1/3 de la quantité de lip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Lipides saturés et malad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isqu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thérosclérose et maladie coronari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(pas d'acide stéar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ncer du sein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ncer de la pro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ncer de l'intestin grê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66"/>
                </a:solidFill>
                <a:latin typeface="Arial"/>
              </a:rPr>
              <a:t>Acides gras insaturé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cides gras monoinsatur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e simple double liaison dans la chaîne des acides 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iquides à température ambiante, solides ou semi-solides au réfrigérate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Exemples d'acides gras monoinsaturé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cide palmitoléique (16 atomes de carb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cide cis-vaccénique (18 atomes de carb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cide oléique (18 atomes de carbone): 92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naturel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uile d'olive (acide oléique) -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uile de pépins de thé (camélia):&gt;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uile de canola: 57-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'huile de col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rachides, no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ile de sésame, avoc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Quantité recommand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4840" y="2421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10-12% des besoins énergé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1/3 de la quantité de lip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Groupe de compo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luble dans les solvants orga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soluble dans l'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imiqu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glycé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lesté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spholip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hytosté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olides ou liquides à température ambi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n fonction de leur structure et de leur com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Lipides monoinsaturés et malad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iminue du taux de cholestérol L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ugmenter le taux de cholestérol HDL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'acide oléique augmente le risque de cancer du sein (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cides gras polyinsatur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lus qu'une double 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tr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naturel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its anima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isson (saumon 2,5 g / 100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ruits de 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its végéta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'huile de maï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'huile de s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Huile de saf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ile de tourne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lupart des noix (exception: noix de coco, noix de caj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rine de blé entier (0,8 g / 100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eurre d'arachide (14,2 g / 100 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Quantité recommand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&lt;10% de besoins énergé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1/3 de la quantité de lip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cides gras essenti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cide linoléique - 18 atomes de car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cide alpha linolénique - 18 atomes de carb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cide alpha linoléniqu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még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ources: huile de poisson, poisson, fruits de mer, viande et produits carnés, céréales, certains légumes, huile de can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s: 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,6 g / jour - pour les ho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1,2 g / jour - chez la fe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inimum 0,5% des besoins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alor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ide linolé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Oméga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ources: tournesol, safran, citrouille, germe de maïs, s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s: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mum 2% des besoins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nergé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FSA, 2017: 4% des besoins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énergé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n sarcină şi alăptare: necesarul creş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lang="ro-RO" sz="4000" spc="-1" strike="noStrike">
                <a:solidFill>
                  <a:srgbClr val="ffff66"/>
                </a:solidFill>
                <a:latin typeface="Arial"/>
              </a:rPr>
              <a:t>cides gras omega-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ôle antiatérog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iminue le risqu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ort cardiaque su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ryth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oix, huile de no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L'huile de col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'huile de germe de b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L'huile de s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issons (maquereau, sardines, hareng, sau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pport optimal: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1-1,5 g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0,5-2% des besoins énergét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cides gras oméga-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Quantité recommandé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,5 à 9% des besoins énerg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uile de tourne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uile de no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uile de s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ile de germe de 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u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indoux du pois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Quantité recommandée d'acides gras oméga-3 et oméga-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43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rapport optimal entre oméga-6 et oméga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4-10: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artie importante de l'al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énergé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tructu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éta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onctionnel: toutes les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égradation d'enzymes appelées lip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utres acides gras import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ides gras omega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ide eicosapentaénoï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ide docosahexaénoï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cides gras omég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cide arachido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cides gras tr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18 atomes de carbone (la plup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us important encore: l'acide élaid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cif (augmente le risque de maladie coronarienn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Naturel - n'existe 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ès petites quantités: dans les produits lait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mmer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arga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uiles f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Bonbons commercia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Quantité recommand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quantité d'acides gras trans dans l'alimentation doit être réduite au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&lt;1% des besoins calor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Acides gras trans et malad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ffets sur le corps hu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  augmenter le cholestérol LDL et le risque de maladie coronar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'hydrogénation des lipides pourrait être nocive pour le corps humain et d'autres maniè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Classification des acides gras selon la longueur de la chaî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cides gras à chaîne cou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ins de 6 atomes de car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ide buty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ffets bénéfiques sur la muqueuse c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se forme pendant le processus de fermentation des glucides non absorb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cides gras à chaîne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-12 atomes de car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cide laur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cides gras à longue chaî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13-21 atomes de car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plupart des acides gras dans l'al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'acide palm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'acide myri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ide stéa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'acide olé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'acide linolé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ide alpha linolén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Le rôle des lipides dans l'alim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rce d'énergie, 9 kcal /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dispensable pour la digestion et l'absorption des vitamines et d'autres substances liposolu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ort d'acides gras essenti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ort de cholesté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pport de phytosté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base pour les composés liposolubles déterminant le goû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lus le niveau de vie est élevé, plus la teneur en lipides de l'alimentation est élevé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cides gras à très longue chaî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us de 22 atomes de car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ide docosahexaénoï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cide éruc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Triglycér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iesters d'acides gras avec glycérol (triacylglycér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95% des lipides de l'ali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hospholip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lycérol + 2 acides gras + group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ô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ansport des lipides dans le 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ructurel (membranes cellulai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présenta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écit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épha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phingomyéli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es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holestér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eulement dans les produits d'origine animale (cerveau, les reins, le foie, le jaune d'oeuf) 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mposant essentie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Membranes cellul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ellules nerve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er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grandes quantités peuvent également être trouvées d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Glandes surré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Générali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ur une personne d'environ 70 k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synthèse du cholestérol total de l'organisme est d'environ 1 g (1000 mg) par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teneur totale en cholestérol du corps est d'environ 35 g (0,2% du poids corpor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ort alimentaire quotidien (USA, pays occidentaux): 250-7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’organisme compense l'apport de cholestérol en diminuant la synthè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66"/>
                </a:solidFill>
                <a:latin typeface="Arial"/>
              </a:rPr>
              <a:t>Rôl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Au niveau des membranes cellulai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écessaire pour la formation et la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égule la fluid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éduit la perméabilité pour les ions hydrogène et sod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Précurseur pour la synthè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tamin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ormones stéroï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ldosté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Hormones sexuel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strogè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estosté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ogesté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cides bilia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ut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ut agir comme un antioxydant (selon certains aute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ôle potentiel dans la fert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n le trouve également dans le lait matern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ipides animaux comest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aindoux, huile de poisson, beurre, tissu sous-cutané d'anim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ait, vi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ipides végétaux comest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uile: arachides, soja, tournesols, sésame, noix de coco, oliv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Sources alimentai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graisses animales sont un mélange complexe de triglycérides, avec de petites quantités de phospholipides et de cholesté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n conséquence, tous les aliments contenant des graisses animales contiennent également des quantités variables de cholesté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Les principales sources alimentai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produits laiti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ages, l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Vian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o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Jaune d'œ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eve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Quantité recommand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'adulte n'a pas besoin d'un apport alimentaire en cholesté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’organisme est capable de synthétiser toute la quantité de cholestérol nécess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imite supérieure tolérable - n'existe pas, le risque de maladie coronarienne augmente proportionnellement à l'apport en cholestérol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l n'est pas possible d'éliminer complètement le cholestérol de l'alimentation (car il y aurait un manque d'autres nutrim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nourrissons et les jeunes enfants ne peuvent pas produire suffisamment de cholesté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Jusqu’à l'âge de 2 ans, l'alimentation de l'enfant doit fournir du cholesté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Arial"/>
              </a:rPr>
              <a:t>Les facteurs influençant le taux de cholestérol sérique et de diverses f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P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 Oméga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 tr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lesté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bre aliment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hytosté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ctivité phys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81280" y="17524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 total, ↑L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 total, ↓LDLc, ↓H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 total, ↓LDLc, ↑(?)H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 total, ↓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 total, ↑LDLc, ↓(?)H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 total, ↓L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Lc, ↑H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t abaissant le cholesté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ources: produits végé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Graines de tournesol, germe de blé, graines de sésame, s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es huiles végé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éré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rtains fr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liments enrichis en phytosté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pport recommandé: 2 g /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axi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: 3 g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hytostér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les trouve dans les p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ucture semblable au cholesté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 plus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êta sitostérol: 65% (so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mpestérol: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gmasté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ources naturel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Huiles végétales - moins de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raines de tourne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aines de sé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éré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rtains fr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ources synthé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liments enrichis en phytosté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arg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Ya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port usuel: 160-360 m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ort recommandé: 2 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ort maximum: 3 g /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Rô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éduire l'absorption du cholestérol jusqu'à 5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Le besoin de lip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l n'y a pas besoin de lipides, à l'exception des acides gras essent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-35% des besoins cal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mmandé: &lt;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Limite supérieure tolérable: aucu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Classification des lip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Lipides si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cides 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Triglycér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araff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Lipides compos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ospholip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lycolip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ipoprotéi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Autres lip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térols (cholestérol, vitamine D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itamine A, E, 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Quantités recommandé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ides gras saturés (maximum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es gras monoinsaturés c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1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0-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es gras polyinsaturés c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6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es gras trans (maximum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lestérol (maximum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300 mg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hytostérols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2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igestion des lip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ous l'action de la lipase (dans: cavité buccale, estomac, intestin grê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bsorption des lip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ass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fficacité: 95%, dépend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gré de sa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e nombre d'atomes de carbone dans la chaî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lesté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acité d'absorption: 40-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l est fait en présence de sels bili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êta-sitosté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acité: 4-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mpesté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acité: 1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"/>
              </a:rPr>
              <a:t>Graisse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uile de tourne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uile de soja, o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ga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rème ai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eu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aindoux, su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fr-FR" sz="2400" spc="-1" strike="noStrike">
                <a:solidFill>
                  <a:srgbClr val="ff9999"/>
                </a:solidFill>
                <a:latin typeface="Arial"/>
              </a:rPr>
              <a:t>G lipides dans 100 g d'ali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 (100 g)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              Quantité de lip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Noisette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achid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ndes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Noix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istach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rain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ournesol (séché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Graines de citroui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(séchées)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ines de lin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ffff66"/>
                </a:solidFill>
                <a:latin typeface="Arial"/>
              </a:rPr>
              <a:t>Lait et produits laiti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464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Fromage cottage faible en 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Fromage de breb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Fromage au lait de v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Fromage fon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Souff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Crème fouet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Ya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Lait de v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it de vache a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it en pou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rème a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u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19280" y="1599840"/>
            <a:ext cx="3745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G lipide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dans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 100 g 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d'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Vi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25916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euf ma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c ma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c 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 d’agn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 de mouton ma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ulet ma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 de poulet gr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 d'o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 grasă de gâsc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iande de can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 de di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 de la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 de ce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ande de sang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2920" y="1052640"/>
            <a:ext cx="403884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G lipide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d dans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 100 g 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d'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réparations de vian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ârnaţ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berv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b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şchi ţigăne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arizer, cremv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ateu de fi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in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alamuri obişn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alam de Sib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ăni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Şuncă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presa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Tob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G lipide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dans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 100 g 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d'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-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réparations de vian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uci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r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berv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arizer, cremv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âté de fo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alamis ordi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alami de Sib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G lipide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s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dans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 100 g </a:t>
            </a:r>
            <a:r>
              <a:rPr b="1" lang="en-US" sz="2000" spc="-1" strike="noStrike">
                <a:solidFill>
                  <a:srgbClr val="ff9999"/>
                </a:solidFill>
                <a:latin typeface="Arial"/>
              </a:rPr>
              <a:t>d'</a:t>
            </a:r>
            <a:r>
              <a:rPr b="1" lang="ro-RO" sz="2000" spc="-1" strike="noStrike">
                <a:solidFill>
                  <a:srgbClr val="ff9999"/>
                </a:solidFill>
                <a:latin typeface="Arial"/>
              </a:rPr>
              <a:t>al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-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Oeu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Aliment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eufs de poule (50 g d'œu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Jaune d'oeuf de poule (20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lanc d'oeuf de poule (30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eufs de can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udre d’oeuf (100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400" spc="-1" strike="noStrike">
                <a:solidFill>
                  <a:srgbClr val="ff9999"/>
                </a:solidFill>
                <a:latin typeface="Arial"/>
              </a:rPr>
              <a:t>G lipide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g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g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g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g/100 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oudre d’oeu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haînes hydrocarbonées terminées à une extrémité par des groupes carboxyle et à l'autre par des groupes méth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24 acides gras fréquemment rencontr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l diffère p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ongueur de la chaî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egré de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haîne: 4-24 (26) atomes de carbone - toujours nombre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plus courant: 16 ou 18 atomes de carb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ides gr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lassification des acides gr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ur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atur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oinsatu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yinsatu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is (naturel, liquide à température ambi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rans (produits artificiels, solid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Acides gras saturé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0:46:34Z</dcterms:created>
  <dc:creator>mihaela.rosu</dc:creator>
  <dc:description/>
  <dc:language>en-US</dc:language>
  <cp:lastModifiedBy>ada gherbon</cp:lastModifiedBy>
  <dcterms:modified xsi:type="dcterms:W3CDTF">2021-03-26T16:03:05Z</dcterms:modified>
  <cp:revision>288</cp:revision>
  <dc:subject/>
  <dc:title>Lipidele</dc:title>
</cp:coreProperties>
</file>